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824-6CA0-484C-AC29-A6F4E556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96C-4927-4F38-8946-DD6F14D7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98E-2807-49A7-8C1E-42C8AEB1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ACA-746B-4A62-B720-53CE5B36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7EF-841B-49E9-9AB2-453924A2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4C8-67E0-410A-9F8A-12EAEA34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BC1-D2AD-4766-9033-F5BACDA2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3DD-1015-4338-8924-64758F2D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97F-2054-47DD-9D0C-337B2E05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950-7D4B-495D-BE96-47EF802A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69A-3EFB-4B84-AAB6-12D232AB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F04-26B0-4258-B7F3-E33BC24B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F3F3-FE07-4C6C-98FD-E5129B63216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6867360" cy="343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498600"/>
            <a:ext cx="7696080" cy="663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81480" y="4734000"/>
            <a:ext cx="5762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543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89680" cy="736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124440" cy="231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5638680" y="1980720"/>
            <a:ext cx="381240" cy="685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stepa" descr=""/>
          <p:cNvPicPr/>
          <p:nvPr/>
        </p:nvPicPr>
        <p:blipFill>
          <a:blip r:embed="rId3"/>
          <a:stretch/>
        </p:blipFill>
        <p:spPr>
          <a:xfrm>
            <a:off x="6172200" y="4762440"/>
            <a:ext cx="317484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5715000" y="6248520"/>
            <a:ext cx="38088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19920" y="2438280"/>
            <a:ext cx="3124080" cy="221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715000" y="3809520"/>
            <a:ext cx="30492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21932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921280" cy="7529400"/>
          </a:xfrm>
          <a:prstGeom prst="rect">
            <a:avLst/>
          </a:prstGeom>
          <a:ln w="0">
            <a:noFill/>
          </a:ln>
        </p:spPr>
      </p:pic>
      <p:pic>
        <p:nvPicPr>
          <p:cNvPr id="54" name="desertico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121932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emplado%20lluvioso" descr=""/>
          <p:cNvPicPr/>
          <p:nvPr/>
        </p:nvPicPr>
        <p:blipFill>
          <a:blip r:embed="rId3"/>
          <a:stretch/>
        </p:blipFill>
        <p:spPr>
          <a:xfrm>
            <a:off x="5969160" y="2286000"/>
            <a:ext cx="3174840" cy="215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ocagua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2819520" cy="193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562720" y="6019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98760" y="-223920"/>
            <a:ext cx="5745240" cy="731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66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304812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920" y="4687920"/>
            <a:ext cx="2819160" cy="217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3124080" y="3809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5715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5232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48320" y="6248520"/>
            <a:ext cx="3733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600"/>
            <a:ext cx="9648720" cy="6629400"/>
            <a:chOff x="0" y="228600"/>
            <a:chExt cx="9648720" cy="66294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39146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962520" y="2495520"/>
              <a:ext cx="5686200" cy="43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0" y="3117960"/>
              <a:ext cx="487692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3124080"/>
              <a:ext cx="9907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2590920"/>
              <a:ext cx="12189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30492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olar" descr=""/>
          <p:cNvPicPr/>
          <p:nvPr/>
        </p:nvPicPr>
        <p:blipFill>
          <a:blip r:embed="rId2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22:02:12Z</dcterms:created>
  <dc:creator>xv</dc:creator>
  <dc:description/>
  <dc:language>en-US</dc:language>
  <cp:lastModifiedBy>xv</cp:lastModifiedBy>
  <dcterms:modified xsi:type="dcterms:W3CDTF">2005-03-28T14:57:04Z</dcterms:modified>
  <cp:revision>3</cp:revision>
  <dc:subject/>
  <dc:title>Presentación de PowerPoint</dc:title>
</cp:coreProperties>
</file>