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FD0-CA55-449D-8224-72E6BE98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E33F-DF67-4DBB-A7AD-F33547CD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FA9-75C0-4B36-8878-BC35BD35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D7C-4E98-49E7-B953-9E1596FB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BFC-81FB-4DDE-94E8-48F899E0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801-7F70-494A-B5CB-63DA7BCC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0A9B-0479-4554-AD74-B5D1309A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CB6-994E-48BF-B272-6973DDD3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BD91-F581-465D-B766-D7C17257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49F5-DC71-4871-9AB5-2FAC4C87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F393-F5D1-4CC1-9335-B52B2010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05FA-DAA4-49C6-B52B-3B789D50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CFEB-2E4B-4326-B0ED-6AF5C06E5C0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6867360" cy="343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498600"/>
            <a:ext cx="7696080" cy="663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381480" y="4734000"/>
            <a:ext cx="57625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6543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89680" cy="736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3124440" cy="231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5638680" y="1980720"/>
            <a:ext cx="381240" cy="685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stepa" descr=""/>
          <p:cNvPicPr/>
          <p:nvPr/>
        </p:nvPicPr>
        <p:blipFill>
          <a:blip r:embed="rId3"/>
          <a:stretch/>
        </p:blipFill>
        <p:spPr>
          <a:xfrm>
            <a:off x="6172200" y="4762440"/>
            <a:ext cx="3174840" cy="209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5715000" y="6248520"/>
            <a:ext cx="38088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019920" y="2438280"/>
            <a:ext cx="3124080" cy="221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5715000" y="3809520"/>
            <a:ext cx="304920" cy="304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121932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5921280" cy="7529400"/>
          </a:xfrm>
          <a:prstGeom prst="rect">
            <a:avLst/>
          </a:prstGeom>
          <a:ln w="0">
            <a:noFill/>
          </a:ln>
        </p:spPr>
      </p:pic>
      <p:pic>
        <p:nvPicPr>
          <p:cNvPr id="54" name="desertico" descr="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220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62720" y="121932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emplado%20lluvioso" descr=""/>
          <p:cNvPicPr/>
          <p:nvPr/>
        </p:nvPicPr>
        <p:blipFill>
          <a:blip r:embed="rId3"/>
          <a:stretch/>
        </p:blipFill>
        <p:spPr>
          <a:xfrm>
            <a:off x="5969160" y="2286000"/>
            <a:ext cx="3174840" cy="215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cocagua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2819520" cy="1938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562720" y="60195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98760" y="-223920"/>
            <a:ext cx="5745240" cy="7310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2668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2514600"/>
            <a:ext cx="3048120" cy="2379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04920" y="4687920"/>
            <a:ext cx="2819160" cy="217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3124080" y="3809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5715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352320" y="1904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48320" y="6248520"/>
            <a:ext cx="37335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28600"/>
            <a:ext cx="9648720" cy="6629400"/>
            <a:chOff x="0" y="228600"/>
            <a:chExt cx="9648720" cy="66294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228600"/>
              <a:ext cx="391464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3962520" y="2495520"/>
              <a:ext cx="5686200" cy="43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0" y="3117960"/>
              <a:ext cx="4876920" cy="37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3124080"/>
              <a:ext cx="9907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2590920"/>
              <a:ext cx="12189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30492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olar" descr=""/>
          <p:cNvPicPr/>
          <p:nvPr/>
        </p:nvPicPr>
        <p:blipFill>
          <a:blip r:embed="rId2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7T22:02:12Z</dcterms:created>
  <dc:creator>xv</dc:creator>
  <dc:description/>
  <dc:language>en-US</dc:language>
  <cp:lastModifiedBy>xv</cp:lastModifiedBy>
  <dcterms:modified xsi:type="dcterms:W3CDTF">2005-03-28T14:57:04Z</dcterms:modified>
  <cp:revision>3</cp:revision>
  <dc:subject/>
  <dc:title>Presentación de PowerPoint</dc:title>
</cp:coreProperties>
</file>