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21C-B0B1-47F2-B425-C014FEEE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AAB-B694-4B9E-9542-09D291E3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DB5-9AE4-4540-BFB0-87F94A7F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11B-39DD-4F7D-A222-A4608D9B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3B2-092C-47E7-A0B5-3313809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DB8-08C7-4C2A-8D59-F246211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5D2-3B30-4CDF-AF86-FFF2473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10E-BF8D-480A-8218-611960A0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F39-C79B-42E6-B16C-9BE713C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840-6FD8-49EC-AC91-6D3128A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925-9C99-4EEC-93D2-C5F599A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DD1-440E-4904-9FF0-F8BA2FB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46B-2088-46F5-A15D-54C30B97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nswrs_clim01sm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5-03-22T17:02:41Z</dcterms:modified>
  <cp:revision>18</cp:revision>
  <dc:subject/>
  <dc:title>Proyecto WMS – MM5 Cuenca del Mataquito</dc:title>
</cp:coreProperties>
</file>