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E62-0129-4571-9B76-FBE32284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B1D-267F-4F95-8FF6-07EF6990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265-521C-4B8C-A463-CC02AC41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D73-7D03-47B2-8BD5-F022C3F5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CB4-9FBC-453F-9A86-76648125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C44-721F-46EA-820F-5E978562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720-16FC-494F-826F-8F08DF0E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0F6-1C78-4DBB-85CD-7D3A10CE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89D-FC2C-4D35-86E5-8CB5538E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7FF-F7E2-4D4B-9398-5A3C0F18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9F5-100C-401B-87FF-DDFBE715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16E-FF41-4FE9-B029-095ED08E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03CA-4C71-4B07-903F-C74B7FD80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nswrs_clim01sm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5-03-22T17:02:41Z</dcterms:modified>
  <cp:revision>18</cp:revision>
  <dc:subject/>
  <dc:title>Proyecto WMS – MM5 Cuenca del Mataquito</dc:title>
</cp:coreProperties>
</file>