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CC4-69A5-4715-AAF3-E8F21EED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A72-D686-42FD-9EC4-6C205F47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EEF-CA55-4EB5-89B4-74CB8303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CA3-B71B-49CB-B1A7-F5934A1F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9BC-7309-49AF-B761-483C4CAC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830-7737-4FFF-80A6-B1AB99F0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A05-10F4-4C00-9DF1-B71F2D85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3E5-CAEC-4399-9882-5EBE2ACA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A06-A0EB-4C5D-8934-D86EDE0E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EAF-45F8-4EDC-BB4D-46CBC7D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510-CC1C-40E1-8B95-F987212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B3D-FE64-4E4A-98F5-57B36CFD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0B5F-7D29-4667-8335-2A03CEE1E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nswrs_clim01sm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5-03-22T17:02:41Z</dcterms:modified>
  <cp:revision>18</cp:revision>
  <dc:subject/>
  <dc:title>Proyecto WMS – MM5 Cuenca del Mataquito</dc:title>
</cp:coreProperties>
</file>