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A44-3766-4ED6-9B08-D4FD5A9D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A9B-B6EA-4F23-89B3-4DE7E7A4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887-6D1B-4939-9699-89F6652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186-0640-46DC-A7B9-9A30A750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660-9756-464D-9ACA-EAEF0687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115-B206-4A44-BD98-C4A53AA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C92-467F-4175-BC50-7DB462C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BDC-56C4-40DE-9B1C-652F63ED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B04-F073-4161-9206-3CD180C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AAD-EAD2-4852-8A61-669B139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BB9-7B9F-4825-AE10-61F3E85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F45-0D79-4A55-ABA2-D5D1939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9CD-E14C-4491-9D80-5A50C9F2D4B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v</cp:lastModifiedBy>
  <dcterms:modified xsi:type="dcterms:W3CDTF">2005-03-03T15:31:56Z</dcterms:modified>
  <cp:revision>6</cp:revision>
  <dc:subject/>
  <dc:title>Diapositiva 1</dc:title>
</cp:coreProperties>
</file>