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D22-FCEE-40F4-A9BD-EF47A4E6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5AAA-3679-4E14-8CF9-FCB8A00A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B1A-2C97-4F82-9C3E-4CD65D26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220-5F84-4C80-83D3-1981ECCC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61C-8C94-46C1-8927-4C48D009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0E4-D6E2-4D27-A2C0-8F4F33A7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9CC-F612-4E39-AE87-3864FAAA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666-1F9F-401F-B263-B8DAD349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5DC-1A08-4788-96C6-26C42F78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384-6A00-4D59-BE3B-C3B4FF69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FFF-CDCC-443B-8A59-0A3B97BB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0F9-D1B3-447C-B8BE-43FF5054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C89-7701-427A-9E37-FFFD4BBC2B78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xv</cp:lastModifiedBy>
  <dcterms:modified xsi:type="dcterms:W3CDTF">2005-03-03T15:31:56Z</dcterms:modified>
  <cp:revision>6</cp:revision>
  <dc:subject/>
  <dc:title>Diapositiva 1</dc:title>
</cp:coreProperties>
</file>