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8A80-F6EB-4186-B688-94B88F64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C24A-DE96-4215-83BC-8133D3B9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8C33-0D08-4242-8E23-366D07A8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9382-DB4D-408B-A3AE-3BCC8D51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2EA6-B5CB-4D6B-BF5E-74BCBA7BB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0A64-C9D9-46F8-B532-6A9CA78B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E779-EC51-4A9F-8EE4-227BC4DD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9DDF-FC49-44C4-9206-BE36640A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BCB5-9BA6-4A90-8CC8-890487B77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0C63-ADB2-4BE7-A703-0988C83A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00D-72D5-4F4B-8FFD-C20C4759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EB82-ADBE-45D7-BCB8-7DFB7AB3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2E092-A322-4EE7-A8C4-89FFEC82B29B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403280" y="692280"/>
            <a:ext cx="6624720" cy="6097320"/>
            <a:chOff x="1403280" y="692280"/>
            <a:chExt cx="6624720" cy="609732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403280" y="692280"/>
              <a:ext cx="6624720" cy="609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 rot="20050200">
              <a:off x="2341080" y="2899800"/>
              <a:ext cx="1440000" cy="78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Flu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uperfi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239920" y="3443040"/>
              <a:ext cx="642960" cy="241200"/>
            </a:xfrm>
            <a:custGeom>
              <a:avLst/>
              <a:gdLst/>
              <a:ahLst/>
              <a:rect l="l" t="t" r="r" b="b"/>
              <a:pathLst>
                <a:path w="405" h="152">
                  <a:moveTo>
                    <a:pt x="4" y="152"/>
                  </a:moveTo>
                  <a:cubicBezTo>
                    <a:pt x="79" y="79"/>
                    <a:pt x="0" y="141"/>
                    <a:pt x="142" y="102"/>
                  </a:cubicBezTo>
                  <a:cubicBezTo>
                    <a:pt x="156" y="98"/>
                    <a:pt x="165" y="82"/>
                    <a:pt x="179" y="77"/>
                  </a:cubicBezTo>
                  <a:cubicBezTo>
                    <a:pt x="203" y="69"/>
                    <a:pt x="229" y="69"/>
                    <a:pt x="254" y="65"/>
                  </a:cubicBezTo>
                  <a:cubicBezTo>
                    <a:pt x="264" y="37"/>
                    <a:pt x="265" y="8"/>
                    <a:pt x="304" y="2"/>
                  </a:cubicBezTo>
                  <a:cubicBezTo>
                    <a:pt x="317" y="0"/>
                    <a:pt x="329" y="13"/>
                    <a:pt x="342" y="15"/>
                  </a:cubicBezTo>
                  <a:cubicBezTo>
                    <a:pt x="363" y="18"/>
                    <a:pt x="384" y="15"/>
                    <a:pt x="405" y="1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"/>
          <p:cNvSpPr/>
          <p:nvPr/>
        </p:nvSpPr>
        <p:spPr>
          <a:xfrm>
            <a:off x="6372360" y="4437000"/>
            <a:ext cx="1079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vis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948360" y="3068640"/>
            <a:ext cx="1079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No a esc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456200">
            <a:off x="4168800" y="3039840"/>
            <a:ext cx="7938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lujo 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9283400">
            <a:off x="4501080" y="2565000"/>
            <a:ext cx="649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971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64328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15636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19280" y="191628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68360" y="1773360"/>
            <a:ext cx="503280" cy="287280"/>
          </a:xfrm>
          <a:prstGeom prst="leftArrow">
            <a:avLst>
              <a:gd name="adj1" fmla="val 50000"/>
              <a:gd name="adj2" fmla="val 437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16000" y="263700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244000" y="2492280"/>
            <a:ext cx="431640" cy="287280"/>
          </a:xfrm>
          <a:prstGeom prst="rightArrow">
            <a:avLst>
              <a:gd name="adj1" fmla="val 50000"/>
              <a:gd name="adj2" fmla="val 375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20101200">
            <a:off x="752508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9830000">
            <a:off x="6012360" y="83664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101200">
            <a:off x="241164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20101200">
            <a:off x="4356360" y="9075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5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48360" y="350028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Límite Cerro 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172360" y="2781360"/>
            <a:ext cx="287280" cy="647640"/>
          </a:xfrm>
          <a:custGeom>
            <a:avLst/>
            <a:gdLst/>
            <a:ahLst/>
            <a:rect l="l" t="t" r="r" b="b"/>
            <a:pathLst>
              <a:path w="181" h="408">
                <a:moveTo>
                  <a:pt x="0" y="408"/>
                </a:moveTo>
                <a:lnTo>
                  <a:pt x="181" y="363"/>
                </a:lnTo>
                <a:lnTo>
                  <a:pt x="18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43280" y="23493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res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92360" y="162864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Val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35280" y="134136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126828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781360"/>
            <a:ext cx="360360" cy="57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00720" y="2852640"/>
            <a:ext cx="360360" cy="57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5003640" y="1916280"/>
            <a:ext cx="287640" cy="72072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11640" y="119700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19640" y="1125360"/>
            <a:ext cx="1836720" cy="2160720"/>
          </a:xfrm>
          <a:custGeom>
            <a:avLst/>
            <a:gdLst/>
            <a:ahLst/>
            <a:rect l="l" t="t" r="r" b="b"/>
            <a:pathLst>
              <a:path w="1157" h="1361">
                <a:moveTo>
                  <a:pt x="885" y="0"/>
                </a:moveTo>
                <a:cubicBezTo>
                  <a:pt x="662" y="95"/>
                  <a:pt x="439" y="190"/>
                  <a:pt x="295" y="273"/>
                </a:cubicBezTo>
                <a:cubicBezTo>
                  <a:pt x="151" y="356"/>
                  <a:pt x="0" y="431"/>
                  <a:pt x="23" y="499"/>
                </a:cubicBezTo>
                <a:cubicBezTo>
                  <a:pt x="46" y="567"/>
                  <a:pt x="272" y="628"/>
                  <a:pt x="431" y="681"/>
                </a:cubicBezTo>
                <a:cubicBezTo>
                  <a:pt x="590" y="734"/>
                  <a:pt x="863" y="764"/>
                  <a:pt x="976" y="817"/>
                </a:cubicBezTo>
                <a:cubicBezTo>
                  <a:pt x="1089" y="870"/>
                  <a:pt x="1157" y="930"/>
                  <a:pt x="1112" y="998"/>
                </a:cubicBezTo>
                <a:cubicBezTo>
                  <a:pt x="1067" y="1066"/>
                  <a:pt x="831" y="1165"/>
                  <a:pt x="703" y="1225"/>
                </a:cubicBezTo>
                <a:cubicBezTo>
                  <a:pt x="575" y="1285"/>
                  <a:pt x="458" y="1323"/>
                  <a:pt x="341" y="1361"/>
                </a:cubicBezTo>
              </a:path>
            </a:pathLst>
          </a:custGeom>
          <a:noFill/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014800" y="198576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292720" y="18446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364000" y="1915920"/>
            <a:ext cx="142920" cy="360360"/>
          </a:xfrm>
          <a:prstGeom prst="line">
            <a:avLst/>
          </a:prstGeom>
          <a:ln w="9360">
            <a:solidFill>
              <a:srgbClr val="0099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159520" y="2130480"/>
            <a:ext cx="120600" cy="4399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938840" y="2474640"/>
            <a:ext cx="420840" cy="17676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5003640" y="2349360"/>
            <a:ext cx="216000" cy="21600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340000" y="4221000"/>
            <a:ext cx="2738520" cy="1332000"/>
          </a:xfrm>
          <a:custGeom>
            <a:avLst/>
            <a:gdLst/>
            <a:ahLst/>
            <a:rect l="l" t="t" r="r" b="b"/>
            <a:pathLst>
              <a:path w="1725" h="839">
                <a:moveTo>
                  <a:pt x="0" y="76"/>
                </a:moveTo>
                <a:cubicBezTo>
                  <a:pt x="41" y="83"/>
                  <a:pt x="83" y="91"/>
                  <a:pt x="136" y="121"/>
                </a:cubicBezTo>
                <a:cubicBezTo>
                  <a:pt x="189" y="151"/>
                  <a:pt x="242" y="174"/>
                  <a:pt x="317" y="257"/>
                </a:cubicBezTo>
                <a:cubicBezTo>
                  <a:pt x="392" y="340"/>
                  <a:pt x="498" y="537"/>
                  <a:pt x="589" y="620"/>
                </a:cubicBezTo>
                <a:cubicBezTo>
                  <a:pt x="680" y="703"/>
                  <a:pt x="764" y="839"/>
                  <a:pt x="862" y="756"/>
                </a:cubicBezTo>
                <a:cubicBezTo>
                  <a:pt x="960" y="673"/>
                  <a:pt x="1111" y="242"/>
                  <a:pt x="1179" y="121"/>
                </a:cubicBezTo>
                <a:cubicBezTo>
                  <a:pt x="1247" y="0"/>
                  <a:pt x="1210" y="37"/>
                  <a:pt x="1270" y="31"/>
                </a:cubicBezTo>
                <a:cubicBezTo>
                  <a:pt x="1330" y="25"/>
                  <a:pt x="1465" y="44"/>
                  <a:pt x="1541" y="86"/>
                </a:cubicBezTo>
                <a:cubicBezTo>
                  <a:pt x="1617" y="128"/>
                  <a:pt x="1687" y="241"/>
                  <a:pt x="1725" y="282"/>
                </a:cubicBezTo>
              </a:path>
            </a:pathLst>
          </a:custGeom>
          <a:noFill/>
          <a:ln w="7632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4175280"/>
            <a:ext cx="2705400" cy="1390320"/>
          </a:xfrm>
          <a:custGeom>
            <a:avLst/>
            <a:gdLst/>
            <a:ahLst/>
            <a:rect l="l" t="t" r="r" b="b"/>
            <a:pathLst>
              <a:path w="1704" h="876">
                <a:moveTo>
                  <a:pt x="0" y="105"/>
                </a:moveTo>
                <a:cubicBezTo>
                  <a:pt x="41" y="112"/>
                  <a:pt x="83" y="120"/>
                  <a:pt x="136" y="150"/>
                </a:cubicBezTo>
                <a:cubicBezTo>
                  <a:pt x="189" y="180"/>
                  <a:pt x="242" y="203"/>
                  <a:pt x="317" y="286"/>
                </a:cubicBezTo>
                <a:cubicBezTo>
                  <a:pt x="392" y="369"/>
                  <a:pt x="507" y="565"/>
                  <a:pt x="589" y="649"/>
                </a:cubicBezTo>
                <a:cubicBezTo>
                  <a:pt x="671" y="733"/>
                  <a:pt x="720" y="876"/>
                  <a:pt x="810" y="789"/>
                </a:cubicBezTo>
                <a:cubicBezTo>
                  <a:pt x="900" y="702"/>
                  <a:pt x="1050" y="254"/>
                  <a:pt x="1128" y="127"/>
                </a:cubicBezTo>
                <a:cubicBezTo>
                  <a:pt x="1206" y="0"/>
                  <a:pt x="1216" y="33"/>
                  <a:pt x="1275" y="29"/>
                </a:cubicBezTo>
                <a:cubicBezTo>
                  <a:pt x="1334" y="25"/>
                  <a:pt x="1413" y="56"/>
                  <a:pt x="1484" y="103"/>
                </a:cubicBezTo>
                <a:cubicBezTo>
                  <a:pt x="1555" y="150"/>
                  <a:pt x="1658" y="268"/>
                  <a:pt x="1704" y="311"/>
                </a:cubicBezTo>
              </a:path>
            </a:pathLst>
          </a:custGeom>
          <a:noFill/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08360" y="692280"/>
            <a:ext cx="0" cy="2881080"/>
          </a:xfrm>
          <a:prstGeom prst="line">
            <a:avLst/>
          </a:prstGeom>
          <a:ln w="9360">
            <a:solidFill>
              <a:srgbClr val="cc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276720" y="3500280"/>
            <a:ext cx="35856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0654800">
            <a:off x="4355280" y="4075920"/>
            <a:ext cx="142920" cy="144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708360" y="2636640"/>
            <a:ext cx="719280" cy="1439640"/>
          </a:xfrm>
          <a:prstGeom prst="line">
            <a:avLst/>
          </a:prstGeom>
          <a:ln w="9360">
            <a:solidFill>
              <a:srgbClr val="80808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916280"/>
            <a:ext cx="2881440" cy="730080"/>
          </a:xfrm>
          <a:custGeom>
            <a:avLst/>
            <a:gdLst/>
            <a:ahLst/>
            <a:rect l="l" t="t" r="r" b="b"/>
            <a:pathLst>
              <a:path w="1815" h="460">
                <a:moveTo>
                  <a:pt x="1815" y="0"/>
                </a:moveTo>
                <a:cubicBezTo>
                  <a:pt x="1781" y="68"/>
                  <a:pt x="1747" y="137"/>
                  <a:pt x="1724" y="182"/>
                </a:cubicBezTo>
                <a:cubicBezTo>
                  <a:pt x="1701" y="227"/>
                  <a:pt x="1701" y="242"/>
                  <a:pt x="1679" y="273"/>
                </a:cubicBezTo>
                <a:cubicBezTo>
                  <a:pt x="1657" y="304"/>
                  <a:pt x="1618" y="343"/>
                  <a:pt x="1591" y="367"/>
                </a:cubicBezTo>
                <a:cubicBezTo>
                  <a:pt x="1564" y="391"/>
                  <a:pt x="1546" y="405"/>
                  <a:pt x="1515" y="419"/>
                </a:cubicBezTo>
                <a:cubicBezTo>
                  <a:pt x="1484" y="433"/>
                  <a:pt x="1447" y="448"/>
                  <a:pt x="1406" y="454"/>
                </a:cubicBezTo>
                <a:cubicBezTo>
                  <a:pt x="1365" y="460"/>
                  <a:pt x="1315" y="454"/>
                  <a:pt x="1270" y="454"/>
                </a:cubicBezTo>
                <a:cubicBezTo>
                  <a:pt x="1225" y="454"/>
                  <a:pt x="1225" y="454"/>
                  <a:pt x="1134" y="454"/>
                </a:cubicBezTo>
                <a:cubicBezTo>
                  <a:pt x="1043" y="454"/>
                  <a:pt x="915" y="454"/>
                  <a:pt x="726" y="454"/>
                </a:cubicBezTo>
                <a:cubicBezTo>
                  <a:pt x="537" y="454"/>
                  <a:pt x="268" y="454"/>
                  <a:pt x="0" y="45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835280" y="692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rtezue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352680" y="284040"/>
            <a:ext cx="1411560" cy="447840"/>
          </a:xfrm>
          <a:custGeom>
            <a:avLst/>
            <a:gdLst/>
            <a:ahLst/>
            <a:rect l="l" t="t" r="r" b="b"/>
            <a:pathLst>
              <a:path w="889" h="282">
                <a:moveTo>
                  <a:pt x="0" y="90"/>
                </a:moveTo>
                <a:cubicBezTo>
                  <a:pt x="120" y="123"/>
                  <a:pt x="64" y="97"/>
                  <a:pt x="166" y="167"/>
                </a:cubicBezTo>
                <a:cubicBezTo>
                  <a:pt x="200" y="190"/>
                  <a:pt x="243" y="192"/>
                  <a:pt x="282" y="205"/>
                </a:cubicBezTo>
                <a:cubicBezTo>
                  <a:pt x="398" y="245"/>
                  <a:pt x="317" y="218"/>
                  <a:pt x="435" y="256"/>
                </a:cubicBezTo>
                <a:cubicBezTo>
                  <a:pt x="496" y="276"/>
                  <a:pt x="563" y="271"/>
                  <a:pt x="627" y="282"/>
                </a:cubicBezTo>
                <a:cubicBezTo>
                  <a:pt x="678" y="273"/>
                  <a:pt x="735" y="280"/>
                  <a:pt x="781" y="256"/>
                </a:cubicBezTo>
                <a:cubicBezTo>
                  <a:pt x="813" y="239"/>
                  <a:pt x="824" y="197"/>
                  <a:pt x="845" y="167"/>
                </a:cubicBezTo>
                <a:cubicBezTo>
                  <a:pt x="854" y="154"/>
                  <a:pt x="870" y="128"/>
                  <a:pt x="870" y="128"/>
                </a:cubicBezTo>
                <a:cubicBezTo>
                  <a:pt x="889" y="52"/>
                  <a:pt x="883" y="95"/>
                  <a:pt x="883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260280"/>
            <a:ext cx="4032000" cy="997200"/>
          </a:xfrm>
          <a:custGeom>
            <a:avLst/>
            <a:gdLst/>
            <a:ahLst/>
            <a:rect l="l" t="t" r="r" b="b"/>
            <a:pathLst>
              <a:path w="2540" h="628">
                <a:moveTo>
                  <a:pt x="0" y="454"/>
                </a:moveTo>
                <a:cubicBezTo>
                  <a:pt x="64" y="390"/>
                  <a:pt x="129" y="326"/>
                  <a:pt x="273" y="318"/>
                </a:cubicBezTo>
                <a:cubicBezTo>
                  <a:pt x="417" y="310"/>
                  <a:pt x="650" y="363"/>
                  <a:pt x="862" y="408"/>
                </a:cubicBezTo>
                <a:cubicBezTo>
                  <a:pt x="1074" y="453"/>
                  <a:pt x="1369" y="560"/>
                  <a:pt x="1543" y="590"/>
                </a:cubicBezTo>
                <a:cubicBezTo>
                  <a:pt x="1717" y="620"/>
                  <a:pt x="1799" y="628"/>
                  <a:pt x="1905" y="590"/>
                </a:cubicBezTo>
                <a:cubicBezTo>
                  <a:pt x="2011" y="552"/>
                  <a:pt x="2072" y="461"/>
                  <a:pt x="2178" y="363"/>
                </a:cubicBezTo>
                <a:cubicBezTo>
                  <a:pt x="2284" y="265"/>
                  <a:pt x="2412" y="132"/>
                  <a:pt x="254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95400" y="1555920"/>
            <a:ext cx="3943440" cy="147780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2060640"/>
            <a:ext cx="1944720" cy="649080"/>
          </a:xfrm>
          <a:custGeom>
            <a:avLst/>
            <a:gdLst/>
            <a:ahLst/>
            <a:rect l="l" t="t" r="r" b="b"/>
            <a:pathLst>
              <a:path w="2484" h="931">
                <a:moveTo>
                  <a:pt x="1074" y="137"/>
                </a:moveTo>
                <a:cubicBezTo>
                  <a:pt x="873" y="80"/>
                  <a:pt x="673" y="23"/>
                  <a:pt x="529" y="46"/>
                </a:cubicBezTo>
                <a:cubicBezTo>
                  <a:pt x="385" y="69"/>
                  <a:pt x="280" y="152"/>
                  <a:pt x="212" y="273"/>
                </a:cubicBezTo>
                <a:cubicBezTo>
                  <a:pt x="144" y="394"/>
                  <a:pt x="0" y="666"/>
                  <a:pt x="121" y="772"/>
                </a:cubicBezTo>
                <a:cubicBezTo>
                  <a:pt x="242" y="878"/>
                  <a:pt x="643" y="931"/>
                  <a:pt x="938" y="908"/>
                </a:cubicBezTo>
                <a:cubicBezTo>
                  <a:pt x="1233" y="885"/>
                  <a:pt x="1663" y="719"/>
                  <a:pt x="1890" y="636"/>
                </a:cubicBezTo>
                <a:cubicBezTo>
                  <a:pt x="2117" y="553"/>
                  <a:pt x="2214" y="465"/>
                  <a:pt x="2298" y="409"/>
                </a:cubicBezTo>
                <a:cubicBezTo>
                  <a:pt x="2382" y="353"/>
                  <a:pt x="2370" y="346"/>
                  <a:pt x="2394" y="300"/>
                </a:cubicBezTo>
                <a:cubicBezTo>
                  <a:pt x="2418" y="254"/>
                  <a:pt x="2484" y="184"/>
                  <a:pt x="2445" y="134"/>
                </a:cubicBezTo>
                <a:cubicBezTo>
                  <a:pt x="2406" y="84"/>
                  <a:pt x="2285" y="0"/>
                  <a:pt x="2162" y="1"/>
                </a:cubicBezTo>
                <a:cubicBezTo>
                  <a:pt x="2039" y="2"/>
                  <a:pt x="1868" y="107"/>
                  <a:pt x="1709" y="137"/>
                </a:cubicBezTo>
                <a:cubicBezTo>
                  <a:pt x="1550" y="167"/>
                  <a:pt x="1338" y="190"/>
                  <a:pt x="1210" y="182"/>
                </a:cubicBezTo>
                <a:cubicBezTo>
                  <a:pt x="1082" y="174"/>
                  <a:pt x="1010" y="132"/>
                  <a:pt x="938" y="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108240" y="2744640"/>
            <a:ext cx="6056280" cy="3924360"/>
          </a:xfrm>
          <a:custGeom>
            <a:avLst/>
            <a:gdLst/>
            <a:ahLst/>
            <a:rect l="l" t="t" r="r" b="b"/>
            <a:pathLst>
              <a:path w="3815" h="2472">
                <a:moveTo>
                  <a:pt x="60" y="2472"/>
                </a:moveTo>
                <a:cubicBezTo>
                  <a:pt x="30" y="2151"/>
                  <a:pt x="0" y="1830"/>
                  <a:pt x="106" y="1520"/>
                </a:cubicBezTo>
                <a:cubicBezTo>
                  <a:pt x="212" y="1210"/>
                  <a:pt x="423" y="854"/>
                  <a:pt x="695" y="612"/>
                </a:cubicBezTo>
                <a:cubicBezTo>
                  <a:pt x="967" y="370"/>
                  <a:pt x="1295" y="136"/>
                  <a:pt x="1738" y="68"/>
                </a:cubicBezTo>
                <a:cubicBezTo>
                  <a:pt x="2181" y="0"/>
                  <a:pt x="3008" y="196"/>
                  <a:pt x="3354" y="204"/>
                </a:cubicBezTo>
                <a:cubicBezTo>
                  <a:pt x="3700" y="212"/>
                  <a:pt x="3719" y="133"/>
                  <a:pt x="3815" y="1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76840" y="3849840"/>
            <a:ext cx="3575160" cy="2963880"/>
          </a:xfrm>
          <a:custGeom>
            <a:avLst/>
            <a:gdLst/>
            <a:ahLst/>
            <a:rect l="l" t="t" r="r" b="b"/>
            <a:pathLst>
              <a:path w="2252" h="1867">
                <a:moveTo>
                  <a:pt x="211" y="1867"/>
                </a:moveTo>
                <a:cubicBezTo>
                  <a:pt x="298" y="1791"/>
                  <a:pt x="385" y="1716"/>
                  <a:pt x="393" y="1595"/>
                </a:cubicBezTo>
                <a:cubicBezTo>
                  <a:pt x="401" y="1474"/>
                  <a:pt x="318" y="1307"/>
                  <a:pt x="257" y="1141"/>
                </a:cubicBezTo>
                <a:cubicBezTo>
                  <a:pt x="196" y="975"/>
                  <a:pt x="60" y="748"/>
                  <a:pt x="30" y="597"/>
                </a:cubicBezTo>
                <a:cubicBezTo>
                  <a:pt x="0" y="446"/>
                  <a:pt x="22" y="332"/>
                  <a:pt x="75" y="234"/>
                </a:cubicBezTo>
                <a:cubicBezTo>
                  <a:pt x="128" y="136"/>
                  <a:pt x="173" y="14"/>
                  <a:pt x="347" y="7"/>
                </a:cubicBezTo>
                <a:cubicBezTo>
                  <a:pt x="521" y="0"/>
                  <a:pt x="899" y="144"/>
                  <a:pt x="1118" y="189"/>
                </a:cubicBezTo>
                <a:cubicBezTo>
                  <a:pt x="1337" y="234"/>
                  <a:pt x="1474" y="279"/>
                  <a:pt x="1663" y="279"/>
                </a:cubicBezTo>
                <a:cubicBezTo>
                  <a:pt x="1852" y="279"/>
                  <a:pt x="2154" y="204"/>
                  <a:pt x="2252" y="18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432480" y="4629240"/>
            <a:ext cx="2603520" cy="2184480"/>
          </a:xfrm>
          <a:custGeom>
            <a:avLst/>
            <a:gdLst/>
            <a:ahLst/>
            <a:rect l="l" t="t" r="r" b="b"/>
            <a:pathLst>
              <a:path w="1640" h="1376">
                <a:moveTo>
                  <a:pt x="1051" y="1376"/>
                </a:moveTo>
                <a:cubicBezTo>
                  <a:pt x="1089" y="1236"/>
                  <a:pt x="1127" y="1096"/>
                  <a:pt x="1051" y="968"/>
                </a:cubicBezTo>
                <a:cubicBezTo>
                  <a:pt x="975" y="840"/>
                  <a:pt x="763" y="733"/>
                  <a:pt x="597" y="605"/>
                </a:cubicBezTo>
                <a:cubicBezTo>
                  <a:pt x="431" y="477"/>
                  <a:pt x="106" y="295"/>
                  <a:pt x="53" y="197"/>
                </a:cubicBezTo>
                <a:cubicBezTo>
                  <a:pt x="0" y="99"/>
                  <a:pt x="121" y="0"/>
                  <a:pt x="280" y="15"/>
                </a:cubicBezTo>
                <a:cubicBezTo>
                  <a:pt x="439" y="30"/>
                  <a:pt x="778" y="234"/>
                  <a:pt x="1005" y="287"/>
                </a:cubicBezTo>
                <a:cubicBezTo>
                  <a:pt x="1232" y="340"/>
                  <a:pt x="1436" y="336"/>
                  <a:pt x="1640" y="33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17080" y="5637240"/>
            <a:ext cx="928440" cy="906480"/>
          </a:xfrm>
          <a:custGeom>
            <a:avLst/>
            <a:gdLst/>
            <a:ahLst/>
            <a:rect l="l" t="t" r="r" b="b"/>
            <a:pathLst>
              <a:path w="585" h="571">
                <a:moveTo>
                  <a:pt x="585" y="571"/>
                </a:moveTo>
                <a:cubicBezTo>
                  <a:pt x="561" y="546"/>
                  <a:pt x="453" y="485"/>
                  <a:pt x="363" y="423"/>
                </a:cubicBezTo>
                <a:cubicBezTo>
                  <a:pt x="273" y="361"/>
                  <a:pt x="90" y="265"/>
                  <a:pt x="45" y="197"/>
                </a:cubicBezTo>
                <a:cubicBezTo>
                  <a:pt x="0" y="129"/>
                  <a:pt x="14" y="30"/>
                  <a:pt x="90" y="15"/>
                </a:cubicBezTo>
                <a:cubicBezTo>
                  <a:pt x="166" y="0"/>
                  <a:pt x="332" y="53"/>
                  <a:pt x="499" y="10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000" y="3357720"/>
            <a:ext cx="2531880" cy="3456000"/>
          </a:xfrm>
          <a:custGeom>
            <a:avLst/>
            <a:gdLst/>
            <a:ahLst/>
            <a:rect l="l" t="t" r="r" b="b"/>
            <a:pathLst>
              <a:path w="1595" h="2177">
                <a:moveTo>
                  <a:pt x="1179" y="2177"/>
                </a:moveTo>
                <a:cubicBezTo>
                  <a:pt x="1133" y="2078"/>
                  <a:pt x="1088" y="1980"/>
                  <a:pt x="1088" y="1859"/>
                </a:cubicBezTo>
                <a:cubicBezTo>
                  <a:pt x="1088" y="1738"/>
                  <a:pt x="1141" y="1594"/>
                  <a:pt x="1179" y="1451"/>
                </a:cubicBezTo>
                <a:cubicBezTo>
                  <a:pt x="1217" y="1308"/>
                  <a:pt x="1277" y="1104"/>
                  <a:pt x="1315" y="998"/>
                </a:cubicBezTo>
                <a:cubicBezTo>
                  <a:pt x="1353" y="892"/>
                  <a:pt x="1368" y="876"/>
                  <a:pt x="1406" y="816"/>
                </a:cubicBezTo>
                <a:cubicBezTo>
                  <a:pt x="1444" y="756"/>
                  <a:pt x="1512" y="710"/>
                  <a:pt x="1542" y="635"/>
                </a:cubicBezTo>
                <a:cubicBezTo>
                  <a:pt x="1572" y="560"/>
                  <a:pt x="1595" y="429"/>
                  <a:pt x="1587" y="363"/>
                </a:cubicBezTo>
                <a:cubicBezTo>
                  <a:pt x="1579" y="297"/>
                  <a:pt x="1544" y="267"/>
                  <a:pt x="1494" y="240"/>
                </a:cubicBezTo>
                <a:cubicBezTo>
                  <a:pt x="1444" y="213"/>
                  <a:pt x="1387" y="204"/>
                  <a:pt x="1289" y="202"/>
                </a:cubicBezTo>
                <a:cubicBezTo>
                  <a:pt x="1191" y="200"/>
                  <a:pt x="1084" y="229"/>
                  <a:pt x="907" y="226"/>
                </a:cubicBezTo>
                <a:cubicBezTo>
                  <a:pt x="730" y="223"/>
                  <a:pt x="378" y="219"/>
                  <a:pt x="227" y="181"/>
                </a:cubicBezTo>
                <a:cubicBezTo>
                  <a:pt x="76" y="143"/>
                  <a:pt x="38" y="71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4341960"/>
            <a:ext cx="1309680" cy="2471760"/>
          </a:xfrm>
          <a:custGeom>
            <a:avLst/>
            <a:gdLst/>
            <a:ahLst/>
            <a:rect l="l" t="t" r="r" b="b"/>
            <a:pathLst>
              <a:path w="825" h="1557">
                <a:moveTo>
                  <a:pt x="454" y="1557"/>
                </a:moveTo>
                <a:cubicBezTo>
                  <a:pt x="461" y="1390"/>
                  <a:pt x="469" y="1224"/>
                  <a:pt x="499" y="1058"/>
                </a:cubicBezTo>
                <a:cubicBezTo>
                  <a:pt x="529" y="892"/>
                  <a:pt x="582" y="703"/>
                  <a:pt x="635" y="559"/>
                </a:cubicBezTo>
                <a:cubicBezTo>
                  <a:pt x="688" y="415"/>
                  <a:pt x="809" y="287"/>
                  <a:pt x="817" y="196"/>
                </a:cubicBezTo>
                <a:cubicBezTo>
                  <a:pt x="825" y="105"/>
                  <a:pt x="816" y="30"/>
                  <a:pt x="680" y="15"/>
                </a:cubicBezTo>
                <a:cubicBezTo>
                  <a:pt x="544" y="0"/>
                  <a:pt x="272" y="52"/>
                  <a:pt x="0" y="10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05520" y="81000"/>
            <a:ext cx="3201840" cy="2195640"/>
          </a:xfrm>
          <a:custGeom>
            <a:avLst/>
            <a:gdLst/>
            <a:ahLst/>
            <a:rect l="l" t="t" r="r" b="b"/>
            <a:pathLst>
              <a:path w="2017" h="1383">
                <a:moveTo>
                  <a:pt x="1183" y="0"/>
                </a:moveTo>
                <a:cubicBezTo>
                  <a:pt x="1185" y="20"/>
                  <a:pt x="1217" y="72"/>
                  <a:pt x="1186" y="107"/>
                </a:cubicBezTo>
                <a:cubicBezTo>
                  <a:pt x="1155" y="142"/>
                  <a:pt x="1069" y="180"/>
                  <a:pt x="996" y="213"/>
                </a:cubicBezTo>
                <a:cubicBezTo>
                  <a:pt x="922" y="247"/>
                  <a:pt x="797" y="286"/>
                  <a:pt x="743" y="310"/>
                </a:cubicBezTo>
                <a:cubicBezTo>
                  <a:pt x="689" y="334"/>
                  <a:pt x="721" y="342"/>
                  <a:pt x="671" y="359"/>
                </a:cubicBezTo>
                <a:cubicBezTo>
                  <a:pt x="621" y="376"/>
                  <a:pt x="513" y="389"/>
                  <a:pt x="441" y="410"/>
                </a:cubicBezTo>
                <a:cubicBezTo>
                  <a:pt x="369" y="431"/>
                  <a:pt x="309" y="436"/>
                  <a:pt x="236" y="487"/>
                </a:cubicBezTo>
                <a:cubicBezTo>
                  <a:pt x="163" y="538"/>
                  <a:pt x="0" y="628"/>
                  <a:pt x="6" y="717"/>
                </a:cubicBezTo>
                <a:cubicBezTo>
                  <a:pt x="12" y="806"/>
                  <a:pt x="154" y="943"/>
                  <a:pt x="275" y="1024"/>
                </a:cubicBezTo>
                <a:cubicBezTo>
                  <a:pt x="396" y="1105"/>
                  <a:pt x="480" y="1157"/>
                  <a:pt x="735" y="1203"/>
                </a:cubicBezTo>
                <a:cubicBezTo>
                  <a:pt x="990" y="1249"/>
                  <a:pt x="1595" y="1272"/>
                  <a:pt x="1806" y="1302"/>
                </a:cubicBezTo>
                <a:cubicBezTo>
                  <a:pt x="2017" y="1332"/>
                  <a:pt x="1962" y="1366"/>
                  <a:pt x="2003" y="138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04200" y="34920"/>
            <a:ext cx="1558800" cy="1590840"/>
          </a:xfrm>
          <a:custGeom>
            <a:avLst/>
            <a:gdLst/>
            <a:ahLst/>
            <a:rect l="l" t="t" r="r" b="b"/>
            <a:pathLst>
              <a:path w="982" h="1002">
                <a:moveTo>
                  <a:pt x="909" y="0"/>
                </a:moveTo>
                <a:cubicBezTo>
                  <a:pt x="847" y="94"/>
                  <a:pt x="789" y="197"/>
                  <a:pt x="697" y="266"/>
                </a:cubicBezTo>
                <a:cubicBezTo>
                  <a:pt x="605" y="335"/>
                  <a:pt x="462" y="362"/>
                  <a:pt x="355" y="413"/>
                </a:cubicBezTo>
                <a:cubicBezTo>
                  <a:pt x="248" y="464"/>
                  <a:pt x="87" y="516"/>
                  <a:pt x="54" y="575"/>
                </a:cubicBezTo>
                <a:cubicBezTo>
                  <a:pt x="21" y="634"/>
                  <a:pt x="0" y="696"/>
                  <a:pt x="155" y="767"/>
                </a:cubicBezTo>
                <a:cubicBezTo>
                  <a:pt x="310" y="838"/>
                  <a:pt x="810" y="953"/>
                  <a:pt x="982" y="10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4292640"/>
            <a:ext cx="2519280" cy="1584360"/>
          </a:xfrm>
          <a:custGeom>
            <a:avLst/>
            <a:gdLst/>
            <a:ahLst/>
            <a:rect l="l" t="t" r="r" b="b"/>
            <a:pathLst>
              <a:path w="1587" h="998">
                <a:moveTo>
                  <a:pt x="0" y="0"/>
                </a:moveTo>
                <a:cubicBezTo>
                  <a:pt x="26" y="76"/>
                  <a:pt x="52" y="152"/>
                  <a:pt x="317" y="318"/>
                </a:cubicBezTo>
                <a:cubicBezTo>
                  <a:pt x="582" y="484"/>
                  <a:pt x="1084" y="741"/>
                  <a:pt x="1587" y="998"/>
                </a:cubicBezTo>
              </a:path>
            </a:pathLst>
          </a:custGeom>
          <a:noFill/>
          <a:ln w="38160">
            <a:solidFill>
              <a:srgbClr val="3333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2504400">
            <a:off x="6011280" y="4220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CA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604360" y="1413000"/>
            <a:ext cx="720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7487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48720" y="2852640"/>
            <a:ext cx="6476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675640" y="400536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604360" y="5013360"/>
            <a:ext cx="576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20000" y="5589720"/>
            <a:ext cx="5050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8000" y="429264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rot="891000">
            <a:off x="107640" y="342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155736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050920" y="198900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20098800">
            <a:off x="1554120" y="866520"/>
            <a:ext cx="503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1416600">
            <a:off x="2986920" y="260280"/>
            <a:ext cx="6494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22:53:21Z</dcterms:created>
  <dc:creator>Usuario</dc:creator>
  <dc:description/>
  <dc:language>en-US</dc:language>
  <cp:lastModifiedBy>xv</cp:lastModifiedBy>
  <dcterms:modified xsi:type="dcterms:W3CDTF">2005-03-03T15:31:56Z</dcterms:modified>
  <cp:revision>6</cp:revision>
  <dc:subject/>
  <dc:title>Diapositiva 1</dc:title>
</cp:coreProperties>
</file>