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E5B4-12EA-429F-A349-E077AD4B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ADB-CAC7-4297-8BED-09DC28D9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F05-5796-4A60-BC1E-A0050D8E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0DF-3945-4809-89BA-63A23E5C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0AD-DE4D-4E84-9543-DA0F961B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A29-8142-4DC6-8A02-94942C21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8C2-3ECB-4F8C-B361-F30831BF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200D-537F-471E-BF5B-B7BBC269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7F8-C0A1-42DE-BE46-0AF953E6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4C7-8197-4591-9C42-AE886763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3CD-541E-4048-8761-9FCE19A8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8C65-3F4F-48BB-9608-D6BD6FFC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6311-5C71-476D-BF43-34AD5DDAB6D0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03280" y="692280"/>
            <a:ext cx="6624720" cy="6097320"/>
            <a:chOff x="1403280" y="692280"/>
            <a:chExt cx="6624720" cy="60973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403280" y="692280"/>
              <a:ext cx="6624720" cy="60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20050200">
              <a:off x="2341080" y="2899800"/>
              <a:ext cx="144000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Flu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perfi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39920" y="3443040"/>
              <a:ext cx="642960" cy="241200"/>
            </a:xfrm>
            <a:custGeom>
              <a:avLst/>
              <a:gdLst/>
              <a:ahLst/>
              <a:rect l="l" t="t" r="r" b="b"/>
              <a:pathLst>
                <a:path w="405" h="152">
                  <a:moveTo>
                    <a:pt x="4" y="152"/>
                  </a:moveTo>
                  <a:cubicBezTo>
                    <a:pt x="79" y="79"/>
                    <a:pt x="0" y="141"/>
                    <a:pt x="142" y="102"/>
                  </a:cubicBezTo>
                  <a:cubicBezTo>
                    <a:pt x="156" y="98"/>
                    <a:pt x="165" y="82"/>
                    <a:pt x="179" y="77"/>
                  </a:cubicBezTo>
                  <a:cubicBezTo>
                    <a:pt x="203" y="69"/>
                    <a:pt x="229" y="69"/>
                    <a:pt x="254" y="65"/>
                  </a:cubicBezTo>
                  <a:cubicBezTo>
                    <a:pt x="264" y="37"/>
                    <a:pt x="265" y="8"/>
                    <a:pt x="304" y="2"/>
                  </a:cubicBezTo>
                  <a:cubicBezTo>
                    <a:pt x="317" y="0"/>
                    <a:pt x="329" y="13"/>
                    <a:pt x="342" y="15"/>
                  </a:cubicBezTo>
                  <a:cubicBezTo>
                    <a:pt x="363" y="18"/>
                    <a:pt x="384" y="15"/>
                    <a:pt x="405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372360" y="4437000"/>
            <a:ext cx="107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vis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3068640"/>
            <a:ext cx="10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a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456200">
            <a:off x="4168800" y="3039840"/>
            <a:ext cx="793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uj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283400">
            <a:off x="4501080" y="2565000"/>
            <a:ext cx="64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5280" y="692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tez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2:53:21Z</dcterms:created>
  <dc:creator>Usuario</dc:creator>
  <dc:description/>
  <dc:language>en-US</dc:language>
  <cp:lastModifiedBy>xv</cp:lastModifiedBy>
  <dcterms:modified xsi:type="dcterms:W3CDTF">2005-03-03T15:31:56Z</dcterms:modified>
  <cp:revision>6</cp:revision>
  <dc:subject/>
  <dc:title>Diapositiva 1</dc:title>
</cp:coreProperties>
</file>