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99E37-6E57-497F-9F2D-5D88FD78A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30109-8B44-4009-B9C0-14A14782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9CC81-CF47-42EF-8FDC-BDAE25F01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4BB77-E137-490F-876C-2C15E7E22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446B-7014-4F77-94CE-25009A18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643A-A412-4C32-871D-26C8725B2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24C8-6FDB-4341-B06D-58DB1A76F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B69A-E45B-4B38-A11D-C16291C0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909F-D15A-4319-9511-CCC8097B5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3528-914A-41A9-A41A-98078827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C4F4-1360-443E-9B76-127F8EE8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4374-EA01-4E6A-9B8A-216E0B198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50E1-4DD0-4B00-8EC8-0446DEEAB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tiponubes"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xv</cp:lastModifiedBy>
  <dcterms:modified xsi:type="dcterms:W3CDTF">2005-05-29T23:56:22Z</dcterms:modified>
  <cp:revision>26</cp:revision>
  <dc:subject/>
  <dc:title>Sin título de diapositiva</dc:title>
</cp:coreProperties>
</file>