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5FCAF-AA73-4756-B37E-A5462979E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7259-CBF6-4DAA-BAFD-142FEC71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26BE4-F4F3-4888-B30D-31EE7FDC8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FFB25-AA74-46EC-97C2-DFF4740CC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FB10-1312-4CB6-819D-3F6F212A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247C-FBD2-47CF-9FED-793CA52D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E43DD-68A2-4BBD-9B5A-3A539ABB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B5273-470B-44BE-AC19-6EE54A223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2796-5ACB-49BC-A688-C83E4755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4BAE-FDBB-46E7-B75B-0B57CEB4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6A03-0C11-419E-AC2A-F74984B1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67BF-D96F-4BC2-B67D-4DE82C4F2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8493-78F7-4660-9536-D0A725EEF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tiponubes"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xv</cp:lastModifiedBy>
  <dcterms:modified xsi:type="dcterms:W3CDTF">2005-05-29T23:56:22Z</dcterms:modified>
  <cp:revision>26</cp:revision>
  <dc:subject/>
  <dc:title>Sin título de diapositiva</dc:title>
</cp:coreProperties>
</file>