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BC2-D4AA-48B8-AFF7-0F323627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6AF-00C5-4EC5-9665-8458B51D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04C-857C-4196-9525-D6ECF168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305-0938-4C28-9513-5019C126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4C0-0B72-4A92-BE6D-0D050DF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CA2-91EB-49A4-B993-5B66547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068-5EE9-4182-A543-5F96A65A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FF6-CBFC-4E97-90A2-38DFFD7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9F5-B7D0-45B0-A6D4-9A77CC2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F14-4BA4-4247-B432-F31D2718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F06-51C0-4781-8C10-9EC0DDC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8CE-6A54-4EE8-961C-020C3682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408-33D5-4014-A517-0EA17BDE06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12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13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13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14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14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15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15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15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16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17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17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17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0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0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23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23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24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25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25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25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26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26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26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28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28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28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29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29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29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0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447920"/>
            <a:ext cx="838188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37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37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37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38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38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38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0:39:23Z</dcterms:created>
  <dc:creator>Guillermo Osses</dc:creator>
  <dc:description/>
  <dc:language>en-US</dc:language>
  <cp:lastModifiedBy>xv</cp:lastModifiedBy>
  <dcterms:modified xsi:type="dcterms:W3CDTF">2005-07-29T15:04:09Z</dcterms:modified>
  <cp:revision>26</cp:revision>
  <dc:subject/>
  <dc:title>Presentación de PowerPoint</dc:title>
</cp:coreProperties>
</file>