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F77-2192-4309-BDE4-8D1F690B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38B-BF09-4645-B541-44CB936C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2BE-FA2D-48F3-BFA7-AEC7C25B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F9A-95C1-42AA-9C12-412688F6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5AB-A2A2-4647-9855-A05E8279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15F-FC19-4F97-B1F7-7E55E063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2BD-424D-44E5-82FC-42A2514E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02C-B208-41AC-901B-6263EB08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962-D392-4EC4-9C77-45701416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5D7-8AE5-4AC1-8CA1-7497EC9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9AE-68C4-4917-99CF-0E03CC6C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656-7110-44AA-B9AE-4230AC83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BDAD-DE06-4C99-8089-6A7CAFCF2A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SPECTOS LE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Consuntivos y No Consu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Permanentes y Ev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RECHOS DE AGUA son entregados en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4197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En CHILE de la VIII Región al norte las aguas superficiales han sido entregadas en su totalidad y también las aguas subterráneas en muchas cue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7467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os derechos de agua se pueden tra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533520"/>
            <a:ext cx="79246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: Estructura, mecanismo, esquema o procedimiento (real o abstracto) que relaciona en el tiempo y espacio, una causa entrada o estímulo de materia, energía o información, con un efecto salida, o respuesta de información, energía o ma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21337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297180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e elige subsistema a 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4724280"/>
            <a:ext cx="3124080" cy="825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952880"/>
            <a:ext cx="990720" cy="457200"/>
          </a:xfrm>
          <a:custGeom>
            <a:avLst/>
            <a:gdLst>
              <a:gd name="textAreaLeft" fmla="*/ 123840 w 990720"/>
              <a:gd name="textAreaRight" fmla="*/ 866880 w 9907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5029200"/>
            <a:ext cx="990720" cy="533520"/>
          </a:xfrm>
          <a:custGeom>
            <a:avLst/>
            <a:gdLst>
              <a:gd name="textAreaLeft" fmla="*/ 12384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374800">
            <a:off x="3962160" y="411480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335800">
            <a:off x="3733200" y="571464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í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ey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6400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aturaleza y est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905120" y="762120"/>
            <a:ext cx="2286000" cy="11430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219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nálisis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5326800">
            <a:off x="3124080" y="2514600"/>
            <a:ext cx="1600200" cy="182880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2743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logí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219320" y="7621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UENCA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: UNIDAD BÁSICA, DEFINIDA TOPOGRÁFICAMENTE Y DRENADA POR UN SISTEMA DE CAUCES SUPERFICIALES DE TAL MANERA QUE TODA LA ESCORRENTÍA QUE SE GENERA  EN LA SUPERFICIE ENCERRADA POR LA LÍNEA DIVISORIA DE LAS AGUAS, SE DESCARGA A TRAVÉS DE UNA SALIDA ÚNICA E IDEN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uenca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89154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33720" y="291960"/>
            <a:ext cx="5638680" cy="4623120"/>
          </a:xfrm>
          <a:custGeom>
            <a:avLst/>
            <a:gdLst/>
            <a:ahLst/>
            <a:rect l="l" t="t" r="r" b="b"/>
            <a:pathLst>
              <a:path w="3552" h="2912">
                <a:moveTo>
                  <a:pt x="0" y="2552"/>
                </a:moveTo>
                <a:cubicBezTo>
                  <a:pt x="60" y="2536"/>
                  <a:pt x="120" y="2520"/>
                  <a:pt x="192" y="2552"/>
                </a:cubicBezTo>
                <a:cubicBezTo>
                  <a:pt x="264" y="2584"/>
                  <a:pt x="344" y="2688"/>
                  <a:pt x="432" y="2744"/>
                </a:cubicBezTo>
                <a:cubicBezTo>
                  <a:pt x="520" y="2800"/>
                  <a:pt x="584" y="2864"/>
                  <a:pt x="720" y="2888"/>
                </a:cubicBezTo>
                <a:cubicBezTo>
                  <a:pt x="856" y="2912"/>
                  <a:pt x="1104" y="2904"/>
                  <a:pt x="1248" y="2888"/>
                </a:cubicBezTo>
                <a:cubicBezTo>
                  <a:pt x="1392" y="2872"/>
                  <a:pt x="1336" y="2832"/>
                  <a:pt x="1584" y="2792"/>
                </a:cubicBezTo>
                <a:cubicBezTo>
                  <a:pt x="1832" y="2752"/>
                  <a:pt x="2496" y="2744"/>
                  <a:pt x="2736" y="2648"/>
                </a:cubicBezTo>
                <a:cubicBezTo>
                  <a:pt x="2976" y="2552"/>
                  <a:pt x="2928" y="2392"/>
                  <a:pt x="3024" y="2216"/>
                </a:cubicBezTo>
                <a:cubicBezTo>
                  <a:pt x="3120" y="2040"/>
                  <a:pt x="3240" y="1816"/>
                  <a:pt x="3312" y="1592"/>
                </a:cubicBezTo>
                <a:cubicBezTo>
                  <a:pt x="3384" y="1368"/>
                  <a:pt x="3424" y="1072"/>
                  <a:pt x="3456" y="872"/>
                </a:cubicBezTo>
                <a:cubicBezTo>
                  <a:pt x="3488" y="672"/>
                  <a:pt x="3552" y="480"/>
                  <a:pt x="3504" y="392"/>
                </a:cubicBezTo>
                <a:cubicBezTo>
                  <a:pt x="3456" y="304"/>
                  <a:pt x="3312" y="360"/>
                  <a:pt x="3168" y="344"/>
                </a:cubicBezTo>
                <a:cubicBezTo>
                  <a:pt x="3024" y="328"/>
                  <a:pt x="2816" y="328"/>
                  <a:pt x="2640" y="296"/>
                </a:cubicBezTo>
                <a:cubicBezTo>
                  <a:pt x="2464" y="264"/>
                  <a:pt x="2224" y="192"/>
                  <a:pt x="2112" y="152"/>
                </a:cubicBezTo>
                <a:cubicBezTo>
                  <a:pt x="2000" y="112"/>
                  <a:pt x="2120" y="64"/>
                  <a:pt x="1968" y="56"/>
                </a:cubicBezTo>
                <a:cubicBezTo>
                  <a:pt x="1816" y="48"/>
                  <a:pt x="1312" y="0"/>
                  <a:pt x="1200" y="104"/>
                </a:cubicBezTo>
                <a:cubicBezTo>
                  <a:pt x="1088" y="208"/>
                  <a:pt x="1280" y="528"/>
                  <a:pt x="1296" y="680"/>
                </a:cubicBezTo>
                <a:cubicBezTo>
                  <a:pt x="1312" y="832"/>
                  <a:pt x="1376" y="856"/>
                  <a:pt x="1296" y="1016"/>
                </a:cubicBezTo>
                <a:cubicBezTo>
                  <a:pt x="1216" y="1176"/>
                  <a:pt x="960" y="1464"/>
                  <a:pt x="816" y="1640"/>
                </a:cubicBezTo>
                <a:cubicBezTo>
                  <a:pt x="672" y="1816"/>
                  <a:pt x="560" y="1928"/>
                  <a:pt x="432" y="2072"/>
                </a:cubicBezTo>
                <a:cubicBezTo>
                  <a:pt x="304" y="2216"/>
                  <a:pt x="176" y="2360"/>
                  <a:pt x="48" y="2504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33720" y="1295280"/>
            <a:ext cx="2552760" cy="3048120"/>
          </a:xfrm>
          <a:custGeom>
            <a:avLst/>
            <a:gdLst/>
            <a:ahLst/>
            <a:rect l="l" t="t" r="r" b="b"/>
            <a:pathLst>
              <a:path w="1608" h="1920">
                <a:moveTo>
                  <a:pt x="1584" y="0"/>
                </a:moveTo>
                <a:cubicBezTo>
                  <a:pt x="1596" y="248"/>
                  <a:pt x="1608" y="496"/>
                  <a:pt x="1584" y="624"/>
                </a:cubicBezTo>
                <a:cubicBezTo>
                  <a:pt x="1560" y="752"/>
                  <a:pt x="1496" y="680"/>
                  <a:pt x="1440" y="768"/>
                </a:cubicBezTo>
                <a:cubicBezTo>
                  <a:pt x="1384" y="856"/>
                  <a:pt x="1312" y="1056"/>
                  <a:pt x="1248" y="1152"/>
                </a:cubicBezTo>
                <a:cubicBezTo>
                  <a:pt x="1184" y="1248"/>
                  <a:pt x="1160" y="1280"/>
                  <a:pt x="1056" y="1344"/>
                </a:cubicBezTo>
                <a:cubicBezTo>
                  <a:pt x="952" y="1408"/>
                  <a:pt x="800" y="1440"/>
                  <a:pt x="624" y="1536"/>
                </a:cubicBezTo>
                <a:cubicBezTo>
                  <a:pt x="448" y="1632"/>
                  <a:pt x="224" y="1776"/>
                  <a:pt x="0" y="19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1523880"/>
            <a:ext cx="2286000" cy="1752840"/>
          </a:xfrm>
          <a:custGeom>
            <a:avLst/>
            <a:gdLst/>
            <a:ahLst/>
            <a:rect l="l" t="t" r="r" b="b"/>
            <a:pathLst>
              <a:path w="1440" h="1104">
                <a:moveTo>
                  <a:pt x="1440" y="0"/>
                </a:moveTo>
                <a:cubicBezTo>
                  <a:pt x="1360" y="52"/>
                  <a:pt x="1280" y="104"/>
                  <a:pt x="1248" y="192"/>
                </a:cubicBezTo>
                <a:cubicBezTo>
                  <a:pt x="1216" y="280"/>
                  <a:pt x="1376" y="408"/>
                  <a:pt x="1248" y="528"/>
                </a:cubicBezTo>
                <a:cubicBezTo>
                  <a:pt x="1120" y="648"/>
                  <a:pt x="688" y="816"/>
                  <a:pt x="480" y="912"/>
                </a:cubicBezTo>
                <a:cubicBezTo>
                  <a:pt x="272" y="1008"/>
                  <a:pt x="136" y="1056"/>
                  <a:pt x="0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3048120"/>
            <a:ext cx="838440" cy="1155600"/>
          </a:xfrm>
          <a:custGeom>
            <a:avLst/>
            <a:gdLst/>
            <a:ahLst/>
            <a:rect l="l" t="t" r="r" b="b"/>
            <a:pathLst>
              <a:path w="528" h="728">
                <a:moveTo>
                  <a:pt x="0" y="0"/>
                </a:moveTo>
                <a:cubicBezTo>
                  <a:pt x="104" y="24"/>
                  <a:pt x="208" y="48"/>
                  <a:pt x="240" y="96"/>
                </a:cubicBezTo>
                <a:cubicBezTo>
                  <a:pt x="272" y="144"/>
                  <a:pt x="160" y="192"/>
                  <a:pt x="192" y="288"/>
                </a:cubicBezTo>
                <a:cubicBezTo>
                  <a:pt x="224" y="384"/>
                  <a:pt x="376" y="616"/>
                  <a:pt x="432" y="672"/>
                </a:cubicBezTo>
                <a:cubicBezTo>
                  <a:pt x="488" y="728"/>
                  <a:pt x="508" y="676"/>
                  <a:pt x="5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911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rebuchet MS"/>
              </a:rPr>
              <a:t>Tiempo de concentración: tiempo que demora en alcanzar la salida la partícula de agua que cae en el punto más al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457200"/>
            <a:ext cx="4114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LANCE HIDR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95280"/>
            <a:ext cx="7391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Hidrología estudia y evalúa científicamente cada una de las partes y las interrelaciones de los distintos procesos que componen 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200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iclo Hidrológico es un proceso continuo desde punto de vista global pero localmente contiene elementos de azar y variaciones no continuas (ejemplo: precip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iclo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741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838080"/>
            <a:ext cx="800100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2240" y="3317760"/>
            <a:ext cx="6715080" cy="2549520"/>
          </a:xfrm>
          <a:custGeom>
            <a:avLst/>
            <a:gdLst/>
            <a:ahLst/>
            <a:rect l="l" t="t" r="r" b="b"/>
            <a:pathLst>
              <a:path w="4168" h="1562">
                <a:moveTo>
                  <a:pt x="0" y="304"/>
                </a:moveTo>
                <a:cubicBezTo>
                  <a:pt x="30" y="260"/>
                  <a:pt x="23" y="245"/>
                  <a:pt x="68" y="214"/>
                </a:cubicBezTo>
                <a:cubicBezTo>
                  <a:pt x="86" y="159"/>
                  <a:pt x="119" y="119"/>
                  <a:pt x="158" y="78"/>
                </a:cubicBezTo>
                <a:cubicBezTo>
                  <a:pt x="162" y="67"/>
                  <a:pt x="162" y="53"/>
                  <a:pt x="170" y="45"/>
                </a:cubicBezTo>
                <a:cubicBezTo>
                  <a:pt x="200" y="16"/>
                  <a:pt x="252" y="46"/>
                  <a:pt x="283" y="56"/>
                </a:cubicBezTo>
                <a:cubicBezTo>
                  <a:pt x="319" y="166"/>
                  <a:pt x="259" y="0"/>
                  <a:pt x="328" y="124"/>
                </a:cubicBezTo>
                <a:cubicBezTo>
                  <a:pt x="339" y="145"/>
                  <a:pt x="337" y="172"/>
                  <a:pt x="350" y="191"/>
                </a:cubicBezTo>
                <a:cubicBezTo>
                  <a:pt x="381" y="236"/>
                  <a:pt x="411" y="282"/>
                  <a:pt x="441" y="327"/>
                </a:cubicBezTo>
                <a:cubicBezTo>
                  <a:pt x="443" y="329"/>
                  <a:pt x="484" y="393"/>
                  <a:pt x="486" y="395"/>
                </a:cubicBezTo>
                <a:cubicBezTo>
                  <a:pt x="497" y="402"/>
                  <a:pt x="510" y="408"/>
                  <a:pt x="520" y="417"/>
                </a:cubicBezTo>
                <a:cubicBezTo>
                  <a:pt x="532" y="427"/>
                  <a:pt x="540" y="443"/>
                  <a:pt x="554" y="451"/>
                </a:cubicBezTo>
                <a:cubicBezTo>
                  <a:pt x="602" y="478"/>
                  <a:pt x="680" y="493"/>
                  <a:pt x="734" y="508"/>
                </a:cubicBezTo>
                <a:cubicBezTo>
                  <a:pt x="764" y="516"/>
                  <a:pt x="825" y="530"/>
                  <a:pt x="825" y="530"/>
                </a:cubicBezTo>
                <a:cubicBezTo>
                  <a:pt x="840" y="538"/>
                  <a:pt x="854" y="547"/>
                  <a:pt x="870" y="553"/>
                </a:cubicBezTo>
                <a:cubicBezTo>
                  <a:pt x="892" y="562"/>
                  <a:pt x="938" y="575"/>
                  <a:pt x="938" y="575"/>
                </a:cubicBezTo>
                <a:cubicBezTo>
                  <a:pt x="990" y="653"/>
                  <a:pt x="957" y="635"/>
                  <a:pt x="1017" y="654"/>
                </a:cubicBezTo>
                <a:cubicBezTo>
                  <a:pt x="1078" y="748"/>
                  <a:pt x="998" y="639"/>
                  <a:pt x="1073" y="700"/>
                </a:cubicBezTo>
                <a:cubicBezTo>
                  <a:pt x="1134" y="749"/>
                  <a:pt x="1055" y="723"/>
                  <a:pt x="1130" y="756"/>
                </a:cubicBezTo>
                <a:cubicBezTo>
                  <a:pt x="1259" y="813"/>
                  <a:pt x="1427" y="806"/>
                  <a:pt x="1559" y="813"/>
                </a:cubicBezTo>
                <a:cubicBezTo>
                  <a:pt x="1671" y="804"/>
                  <a:pt x="1766" y="786"/>
                  <a:pt x="1875" y="767"/>
                </a:cubicBezTo>
                <a:cubicBezTo>
                  <a:pt x="1879" y="756"/>
                  <a:pt x="1877" y="741"/>
                  <a:pt x="1886" y="734"/>
                </a:cubicBezTo>
                <a:cubicBezTo>
                  <a:pt x="1915" y="713"/>
                  <a:pt x="1989" y="705"/>
                  <a:pt x="2022" y="700"/>
                </a:cubicBezTo>
                <a:cubicBezTo>
                  <a:pt x="2063" y="672"/>
                  <a:pt x="2105" y="671"/>
                  <a:pt x="2146" y="643"/>
                </a:cubicBezTo>
                <a:cubicBezTo>
                  <a:pt x="2154" y="632"/>
                  <a:pt x="2156" y="614"/>
                  <a:pt x="2169" y="609"/>
                </a:cubicBezTo>
                <a:cubicBezTo>
                  <a:pt x="2229" y="585"/>
                  <a:pt x="2297" y="594"/>
                  <a:pt x="2361" y="587"/>
                </a:cubicBezTo>
                <a:cubicBezTo>
                  <a:pt x="2410" y="591"/>
                  <a:pt x="2460" y="589"/>
                  <a:pt x="2508" y="598"/>
                </a:cubicBezTo>
                <a:cubicBezTo>
                  <a:pt x="2565" y="609"/>
                  <a:pt x="2527" y="662"/>
                  <a:pt x="2587" y="666"/>
                </a:cubicBezTo>
                <a:cubicBezTo>
                  <a:pt x="2700" y="673"/>
                  <a:pt x="2813" y="673"/>
                  <a:pt x="2926" y="677"/>
                </a:cubicBezTo>
                <a:cubicBezTo>
                  <a:pt x="3008" y="705"/>
                  <a:pt x="2970" y="694"/>
                  <a:pt x="3038" y="711"/>
                </a:cubicBezTo>
                <a:cubicBezTo>
                  <a:pt x="3092" y="748"/>
                  <a:pt x="3147" y="747"/>
                  <a:pt x="3208" y="767"/>
                </a:cubicBezTo>
                <a:cubicBezTo>
                  <a:pt x="3215" y="778"/>
                  <a:pt x="3224" y="789"/>
                  <a:pt x="3230" y="801"/>
                </a:cubicBezTo>
                <a:cubicBezTo>
                  <a:pt x="3235" y="812"/>
                  <a:pt x="3233" y="827"/>
                  <a:pt x="3242" y="835"/>
                </a:cubicBezTo>
                <a:cubicBezTo>
                  <a:pt x="3261" y="854"/>
                  <a:pt x="3310" y="880"/>
                  <a:pt x="3310" y="880"/>
                </a:cubicBezTo>
                <a:cubicBezTo>
                  <a:pt x="3339" y="968"/>
                  <a:pt x="3296" y="867"/>
                  <a:pt x="3355" y="926"/>
                </a:cubicBezTo>
                <a:cubicBezTo>
                  <a:pt x="3416" y="987"/>
                  <a:pt x="3308" y="938"/>
                  <a:pt x="3400" y="971"/>
                </a:cubicBezTo>
                <a:cubicBezTo>
                  <a:pt x="3442" y="1036"/>
                  <a:pt x="3468" y="1005"/>
                  <a:pt x="3535" y="1027"/>
                </a:cubicBezTo>
                <a:cubicBezTo>
                  <a:pt x="3546" y="1035"/>
                  <a:pt x="3557" y="1044"/>
                  <a:pt x="3569" y="1050"/>
                </a:cubicBezTo>
                <a:cubicBezTo>
                  <a:pt x="3580" y="1055"/>
                  <a:pt x="3595" y="1053"/>
                  <a:pt x="3603" y="1061"/>
                </a:cubicBezTo>
                <a:cubicBezTo>
                  <a:pt x="3622" y="1080"/>
                  <a:pt x="3633" y="1106"/>
                  <a:pt x="3648" y="1129"/>
                </a:cubicBezTo>
                <a:cubicBezTo>
                  <a:pt x="3661" y="1149"/>
                  <a:pt x="3716" y="1151"/>
                  <a:pt x="3716" y="1151"/>
                </a:cubicBezTo>
                <a:cubicBezTo>
                  <a:pt x="3743" y="1234"/>
                  <a:pt x="3704" y="1137"/>
                  <a:pt x="3761" y="1208"/>
                </a:cubicBezTo>
                <a:cubicBezTo>
                  <a:pt x="3823" y="1285"/>
                  <a:pt x="3713" y="1202"/>
                  <a:pt x="3806" y="1264"/>
                </a:cubicBezTo>
                <a:cubicBezTo>
                  <a:pt x="3859" y="1342"/>
                  <a:pt x="3826" y="1324"/>
                  <a:pt x="3886" y="1343"/>
                </a:cubicBezTo>
                <a:cubicBezTo>
                  <a:pt x="3893" y="1354"/>
                  <a:pt x="3898" y="1368"/>
                  <a:pt x="3908" y="1377"/>
                </a:cubicBezTo>
                <a:cubicBezTo>
                  <a:pt x="3919" y="1386"/>
                  <a:pt x="3993" y="1417"/>
                  <a:pt x="4010" y="1422"/>
                </a:cubicBezTo>
                <a:cubicBezTo>
                  <a:pt x="4044" y="1445"/>
                  <a:pt x="4073" y="1454"/>
                  <a:pt x="4111" y="1468"/>
                </a:cubicBezTo>
                <a:cubicBezTo>
                  <a:pt x="4119" y="1480"/>
                  <a:pt x="4168" y="1562"/>
                  <a:pt x="4168" y="1490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21160"/>
            <a:ext cx="1355760" cy="203400"/>
          </a:xfrm>
          <a:custGeom>
            <a:avLst/>
            <a:gdLst/>
            <a:ahLst/>
            <a:rect l="l" t="t" r="r" b="b"/>
            <a:pathLst>
              <a:path w="854" h="128">
                <a:moveTo>
                  <a:pt x="0" y="15"/>
                </a:moveTo>
                <a:cubicBezTo>
                  <a:pt x="122" y="15"/>
                  <a:pt x="614" y="0"/>
                  <a:pt x="734" y="16"/>
                </a:cubicBezTo>
                <a:cubicBezTo>
                  <a:pt x="854" y="32"/>
                  <a:pt x="793" y="94"/>
                  <a:pt x="720" y="111"/>
                </a:cubicBezTo>
                <a:cubicBezTo>
                  <a:pt x="647" y="128"/>
                  <a:pt x="406" y="126"/>
                  <a:pt x="294" y="118"/>
                </a:cubicBezTo>
                <a:cubicBezTo>
                  <a:pt x="182" y="110"/>
                  <a:pt x="99" y="74"/>
                  <a:pt x="48" y="63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19112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  <a:lnTo>
                  <a:pt x="144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67080"/>
            <a:ext cx="4572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51055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75240" y="5473800"/>
            <a:ext cx="1727280" cy="266760"/>
          </a:xfrm>
          <a:custGeom>
            <a:avLst/>
            <a:gdLst/>
            <a:ahLst/>
            <a:rect l="l" t="t" r="r" b="b"/>
            <a:pathLst>
              <a:path w="1088" h="168">
                <a:moveTo>
                  <a:pt x="352" y="8"/>
                </a:moveTo>
                <a:cubicBezTo>
                  <a:pt x="464" y="8"/>
                  <a:pt x="656" y="0"/>
                  <a:pt x="736" y="8"/>
                </a:cubicBezTo>
                <a:cubicBezTo>
                  <a:pt x="816" y="16"/>
                  <a:pt x="800" y="40"/>
                  <a:pt x="832" y="56"/>
                </a:cubicBezTo>
                <a:cubicBezTo>
                  <a:pt x="864" y="72"/>
                  <a:pt x="904" y="88"/>
                  <a:pt x="928" y="104"/>
                </a:cubicBezTo>
                <a:cubicBezTo>
                  <a:pt x="952" y="120"/>
                  <a:pt x="1088" y="144"/>
                  <a:pt x="976" y="152"/>
                </a:cubicBezTo>
                <a:cubicBezTo>
                  <a:pt x="864" y="160"/>
                  <a:pt x="392" y="168"/>
                  <a:pt x="256" y="152"/>
                </a:cubicBezTo>
                <a:cubicBezTo>
                  <a:pt x="120" y="136"/>
                  <a:pt x="200" y="72"/>
                  <a:pt x="160" y="56"/>
                </a:cubicBezTo>
                <a:cubicBezTo>
                  <a:pt x="120" y="40"/>
                  <a:pt x="32" y="64"/>
                  <a:pt x="16" y="56"/>
                </a:cubicBezTo>
                <a:cubicBezTo>
                  <a:pt x="0" y="48"/>
                  <a:pt x="0" y="16"/>
                  <a:pt x="64" y="8"/>
                </a:cubicBezTo>
                <a:cubicBezTo>
                  <a:pt x="128" y="0"/>
                  <a:pt x="240" y="8"/>
                  <a:pt x="352" y="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559400"/>
            <a:ext cx="1981080" cy="164880"/>
          </a:xfrm>
          <a:custGeom>
            <a:avLst/>
            <a:gdLst/>
            <a:ahLst/>
            <a:rect l="l" t="t" r="r" b="b"/>
            <a:pathLst>
              <a:path w="1040" h="152">
                <a:moveTo>
                  <a:pt x="0" y="152"/>
                </a:moveTo>
                <a:cubicBezTo>
                  <a:pt x="12" y="108"/>
                  <a:pt x="24" y="64"/>
                  <a:pt x="48" y="56"/>
                </a:cubicBezTo>
                <a:cubicBezTo>
                  <a:pt x="72" y="48"/>
                  <a:pt x="112" y="104"/>
                  <a:pt x="144" y="104"/>
                </a:cubicBezTo>
                <a:cubicBezTo>
                  <a:pt x="176" y="104"/>
                  <a:pt x="208" y="56"/>
                  <a:pt x="240" y="56"/>
                </a:cubicBezTo>
                <a:cubicBezTo>
                  <a:pt x="272" y="56"/>
                  <a:pt x="304" y="96"/>
                  <a:pt x="336" y="104"/>
                </a:cubicBezTo>
                <a:cubicBezTo>
                  <a:pt x="368" y="112"/>
                  <a:pt x="392" y="112"/>
                  <a:pt x="432" y="104"/>
                </a:cubicBezTo>
                <a:cubicBezTo>
                  <a:pt x="472" y="96"/>
                  <a:pt x="536" y="56"/>
                  <a:pt x="576" y="56"/>
                </a:cubicBezTo>
                <a:cubicBezTo>
                  <a:pt x="616" y="56"/>
                  <a:pt x="648" y="104"/>
                  <a:pt x="672" y="104"/>
                </a:cubicBezTo>
                <a:cubicBezTo>
                  <a:pt x="696" y="104"/>
                  <a:pt x="696" y="56"/>
                  <a:pt x="720" y="56"/>
                </a:cubicBezTo>
                <a:cubicBezTo>
                  <a:pt x="744" y="56"/>
                  <a:pt x="768" y="96"/>
                  <a:pt x="816" y="104"/>
                </a:cubicBezTo>
                <a:cubicBezTo>
                  <a:pt x="864" y="112"/>
                  <a:pt x="976" y="120"/>
                  <a:pt x="1008" y="104"/>
                </a:cubicBezTo>
                <a:cubicBezTo>
                  <a:pt x="1040" y="88"/>
                  <a:pt x="1008" y="0"/>
                  <a:pt x="1008" y="8"/>
                </a:cubicBezTo>
                <a:cubicBezTo>
                  <a:pt x="1008" y="16"/>
                  <a:pt x="1008" y="84"/>
                  <a:pt x="1008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17400">
            <a:off x="6553080" y="25905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205600">
            <a:off x="7353000" y="186696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266200">
            <a:off x="2437920" y="2361960"/>
            <a:ext cx="1143000" cy="6858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2644400">
            <a:off x="6400800" y="16761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2644400">
            <a:off x="5105520" y="9903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loud"/>
          <p:cNvSpPr/>
          <p:nvPr/>
        </p:nvSpPr>
        <p:spPr>
          <a:xfrm>
            <a:off x="4876920" y="1828800"/>
            <a:ext cx="1523880" cy="102060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17400">
            <a:off x="3885840" y="19047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2644400">
            <a:off x="3580920" y="990000"/>
            <a:ext cx="838440" cy="533160"/>
          </a:xfrm>
          <a:custGeom>
            <a:avLst/>
            <a:gdLst>
              <a:gd name="textAreaLeft" fmla="*/ 146520 w 838440"/>
              <a:gd name="textAreaRight" fmla="*/ 608040 w 8384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loud"/>
          <p:cNvSpPr/>
          <p:nvPr/>
        </p:nvSpPr>
        <p:spPr>
          <a:xfrm>
            <a:off x="1905120" y="1066680"/>
            <a:ext cx="1523880" cy="102096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p=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b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012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3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umedad sobre tierra=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029200"/>
            <a:ext cx="312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30% ÁRE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04920"/>
            <a:ext cx="8915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TMÓSFERA: AGUA COMO VAPOR, SÓLIDA 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853240"/>
            <a:ext cx="48765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5943600"/>
            <a:ext cx="16002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6324480"/>
            <a:ext cx="3124080" cy="45720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6095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. su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4419720"/>
            <a:ext cx="335268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505320"/>
            <a:ext cx="266688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RROYOS, LAGOS,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3352680"/>
            <a:ext cx="42674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PERFICI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5812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4343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7242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48769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876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09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809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685800"/>
            <a:ext cx="228600" cy="2743200"/>
          </a:xfrm>
          <a:prstGeom prst="downArrow">
            <a:avLst>
              <a:gd name="adj1" fmla="val 50000"/>
              <a:gd name="adj2" fmla="val 300000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68580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6858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2209680"/>
            <a:ext cx="304560" cy="1143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75248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9051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38280" y="10666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914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36232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NIEVE Y 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2209680"/>
            <a:ext cx="0" cy="152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685800"/>
            <a:ext cx="189000" cy="1650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1371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609480"/>
            <a:ext cx="152640" cy="114300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1066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762120"/>
            <a:ext cx="228600" cy="25653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2057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685800"/>
            <a:ext cx="228600" cy="2895480"/>
          </a:xfrm>
          <a:prstGeom prst="downArrow">
            <a:avLst>
              <a:gd name="adj1" fmla="val 50000"/>
              <a:gd name="adj2" fmla="val 3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685800"/>
            <a:ext cx="228600" cy="2793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763120" y="685800"/>
            <a:ext cx="304560" cy="52322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810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10480" y="2438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2952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3809880"/>
            <a:ext cx="152280" cy="6098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Ex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8862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2819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48769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4876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50292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5029200"/>
            <a:ext cx="144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Ascenso 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181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762120"/>
            <a:ext cx="243828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ondensación de la humedad y formación de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57200" y="685800"/>
            <a:ext cx="380880" cy="337320"/>
            <a:chOff x="457200" y="685800"/>
            <a:chExt cx="380880" cy="337320"/>
          </a:xfrm>
        </p:grpSpPr>
        <p:sp>
          <p:nvSpPr>
            <p:cNvPr id="129" name=""/>
            <p:cNvSpPr/>
            <p:nvPr/>
          </p:nvSpPr>
          <p:spPr>
            <a:xfrm>
              <a:off x="457200" y="685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160" y="68580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781680" y="762120"/>
            <a:ext cx="198144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namiento de la Humedad Atmosf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763120" y="609480"/>
            <a:ext cx="380880" cy="337320"/>
            <a:chOff x="8763120" y="609480"/>
            <a:chExt cx="380880" cy="337320"/>
          </a:xfrm>
        </p:grpSpPr>
        <p:sp>
          <p:nvSpPr>
            <p:cNvPr id="133" name=""/>
            <p:cNvSpPr/>
            <p:nvPr/>
          </p:nvSpPr>
          <p:spPr>
            <a:xfrm>
              <a:off x="8763120" y="6094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39080" y="6094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H="1">
            <a:off x="3200400" y="990720"/>
            <a:ext cx="3581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762120"/>
            <a:ext cx="2133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Circulación y transferencia del  vapor de agua en la atmósf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1320" y="990720"/>
            <a:ext cx="380880" cy="304560"/>
            <a:chOff x="5791320" y="990720"/>
            <a:chExt cx="380880" cy="304560"/>
          </a:xfrm>
        </p:grpSpPr>
        <p:sp>
          <p:nvSpPr>
            <p:cNvPr id="138" name=""/>
            <p:cNvSpPr/>
            <p:nvPr/>
          </p:nvSpPr>
          <p:spPr>
            <a:xfrm>
              <a:off x="5791320" y="99072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7280" y="990720"/>
              <a:ext cx="228600" cy="276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143000" y="2057400"/>
            <a:ext cx="1219320" cy="5202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Precipitación de las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2952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23623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315200" y="12952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21337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Re-evaporación de la precipi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10080" y="2057400"/>
            <a:ext cx="380880" cy="307080"/>
            <a:chOff x="5410080" y="2057400"/>
            <a:chExt cx="380880" cy="307080"/>
          </a:xfrm>
        </p:grpSpPr>
        <p:sp>
          <p:nvSpPr>
            <p:cNvPr id="146" name=""/>
            <p:cNvSpPr/>
            <p:nvPr/>
          </p:nvSpPr>
          <p:spPr>
            <a:xfrm>
              <a:off x="5410080" y="20574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040" y="20574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76520" y="1371600"/>
            <a:ext cx="380880" cy="307080"/>
            <a:chOff x="1676520" y="1371600"/>
            <a:chExt cx="380880" cy="307080"/>
          </a:xfrm>
        </p:grpSpPr>
        <p:sp>
          <p:nvSpPr>
            <p:cNvPr id="149" name=""/>
            <p:cNvSpPr/>
            <p:nvPr/>
          </p:nvSpPr>
          <p:spPr>
            <a:xfrm>
              <a:off x="1676520" y="13716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52480" y="13716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38080" y="1981080"/>
            <a:ext cx="380880" cy="337320"/>
            <a:chOff x="838080" y="1981080"/>
            <a:chExt cx="380880" cy="337320"/>
          </a:xfrm>
        </p:grpSpPr>
        <p:sp>
          <p:nvSpPr>
            <p:cNvPr id="152" name=""/>
            <p:cNvSpPr/>
            <p:nvPr/>
          </p:nvSpPr>
          <p:spPr>
            <a:xfrm>
              <a:off x="838080" y="19810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4040" y="19810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09480" y="3733920"/>
            <a:ext cx="1295640" cy="1086840"/>
            <a:chOff x="609480" y="3733920"/>
            <a:chExt cx="1295640" cy="1086840"/>
          </a:xfrm>
        </p:grpSpPr>
        <p:sp>
          <p:nvSpPr>
            <p:cNvPr id="155" name=""/>
            <p:cNvSpPr/>
            <p:nvPr/>
          </p:nvSpPr>
          <p:spPr>
            <a:xfrm>
              <a:off x="609480" y="3733920"/>
              <a:ext cx="1295640" cy="1086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480" y="4419720"/>
              <a:ext cx="129564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0" y="3200400"/>
            <a:ext cx="304920" cy="3808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2120" y="3429000"/>
            <a:ext cx="456840" cy="371160"/>
            <a:chOff x="762120" y="3429000"/>
            <a:chExt cx="456840" cy="371160"/>
          </a:xfrm>
        </p:grpSpPr>
        <p:sp>
          <p:nvSpPr>
            <p:cNvPr id="159" name=""/>
            <p:cNvSpPr/>
            <p:nvPr/>
          </p:nvSpPr>
          <p:spPr>
            <a:xfrm>
              <a:off x="762120" y="3429000"/>
              <a:ext cx="456840" cy="371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53200" y="342900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09480" y="5257800"/>
            <a:ext cx="13716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095880"/>
            <a:ext cx="129528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86200"/>
            <a:ext cx="129528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352680"/>
            <a:ext cx="1981440" cy="3353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259092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76520" y="4648320"/>
            <a:ext cx="456840" cy="337320"/>
            <a:chOff x="1676520" y="4648320"/>
            <a:chExt cx="456840" cy="337320"/>
          </a:xfrm>
        </p:grpSpPr>
        <p:sp>
          <p:nvSpPr>
            <p:cNvPr id="168" name=""/>
            <p:cNvSpPr/>
            <p:nvPr/>
          </p:nvSpPr>
          <p:spPr>
            <a:xfrm>
              <a:off x="1676520" y="46483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67600" y="46483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181480"/>
            <a:ext cx="533160" cy="251280"/>
            <a:chOff x="1752480" y="5181480"/>
            <a:chExt cx="533160" cy="251280"/>
          </a:xfrm>
        </p:grpSpPr>
        <p:sp>
          <p:nvSpPr>
            <p:cNvPr id="171" name=""/>
            <p:cNvSpPr/>
            <p:nvPr/>
          </p:nvSpPr>
          <p:spPr>
            <a:xfrm>
              <a:off x="1752480" y="5181480"/>
              <a:ext cx="533160" cy="251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58680" y="51814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752480" y="5943600"/>
            <a:ext cx="533160" cy="246240"/>
            <a:chOff x="1752480" y="5943600"/>
            <a:chExt cx="533160" cy="246240"/>
          </a:xfrm>
        </p:grpSpPr>
        <p:sp>
          <p:nvSpPr>
            <p:cNvPr id="174" name=""/>
            <p:cNvSpPr/>
            <p:nvPr/>
          </p:nvSpPr>
          <p:spPr>
            <a:xfrm>
              <a:off x="1752480" y="5943600"/>
              <a:ext cx="533160" cy="1890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58680" y="594360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144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4479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520" y="5715000"/>
            <a:ext cx="456840" cy="304560"/>
            <a:chOff x="533520" y="5715000"/>
            <a:chExt cx="456840" cy="304560"/>
          </a:xfrm>
        </p:grpSpPr>
        <p:sp>
          <p:nvSpPr>
            <p:cNvPr id="179" name=""/>
            <p:cNvSpPr/>
            <p:nvPr/>
          </p:nvSpPr>
          <p:spPr>
            <a:xfrm>
              <a:off x="53352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60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905120" y="41148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572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1295280"/>
            <a:ext cx="5410080" cy="3276720"/>
          </a:xfrm>
          <a:custGeom>
            <a:avLst/>
            <a:gdLst/>
            <a:ahLst/>
            <a:rect l="l" t="t" r="r" b="b"/>
            <a:pathLst>
              <a:path w="3408" h="2064">
                <a:moveTo>
                  <a:pt x="0" y="2064"/>
                </a:moveTo>
                <a:lnTo>
                  <a:pt x="0" y="1296"/>
                </a:lnTo>
                <a:lnTo>
                  <a:pt x="384" y="1296"/>
                </a:lnTo>
                <a:lnTo>
                  <a:pt x="384" y="864"/>
                </a:lnTo>
                <a:lnTo>
                  <a:pt x="3408" y="864"/>
                </a:lnTo>
                <a:lnTo>
                  <a:pt x="340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3505320"/>
            <a:ext cx="533412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3200400"/>
            <a:ext cx="1447560" cy="320040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486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200400"/>
            <a:ext cx="144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3962520"/>
            <a:ext cx="11430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9810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3526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4419720"/>
            <a:ext cx="0" cy="19047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80720" y="6324480"/>
            <a:ext cx="40388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8880" y="434340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4419720"/>
            <a:ext cx="0" cy="1218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80720" y="5638680"/>
            <a:ext cx="52578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56386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3200400"/>
            <a:ext cx="1067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3124080"/>
            <a:ext cx="5638680" cy="457200"/>
          </a:xfrm>
          <a:custGeom>
            <a:avLst/>
            <a:gdLst/>
            <a:ahLst/>
            <a:rect l="l" t="t" r="r" b="b"/>
            <a:pathLst>
              <a:path w="3552" h="288">
                <a:moveTo>
                  <a:pt x="0" y="48"/>
                </a:moveTo>
                <a:lnTo>
                  <a:pt x="0" y="0"/>
                </a:ln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3552" y="48"/>
                </a:lnTo>
                <a:lnTo>
                  <a:pt x="3552" y="288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29600" y="3581280"/>
            <a:ext cx="914400" cy="946440"/>
          </a:xfrm>
          <a:prstGeom prst="rect">
            <a:avLst/>
          </a:prstGeom>
          <a:solidFill>
            <a:srgbClr val="ff993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-namien-to en Océ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391520" y="1828800"/>
            <a:ext cx="380880" cy="307080"/>
            <a:chOff x="7391520" y="1828800"/>
            <a:chExt cx="380880" cy="307080"/>
          </a:xfrm>
        </p:grpSpPr>
        <p:sp>
          <p:nvSpPr>
            <p:cNvPr id="204" name=""/>
            <p:cNvSpPr/>
            <p:nvPr/>
          </p:nvSpPr>
          <p:spPr>
            <a:xfrm>
              <a:off x="7391520" y="1828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67480" y="18288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505320" y="1295280"/>
            <a:ext cx="4724280" cy="2590920"/>
          </a:xfrm>
          <a:custGeom>
            <a:avLst/>
            <a:gdLst/>
            <a:ahLst/>
            <a:rect l="l" t="t" r="r" b="b"/>
            <a:pathLst>
              <a:path w="2976" h="1632">
                <a:moveTo>
                  <a:pt x="48" y="1632"/>
                </a:move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52"/>
                </a:lnTo>
                <a:lnTo>
                  <a:pt x="2976" y="1152"/>
                </a:lnTo>
                <a:lnTo>
                  <a:pt x="297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848720" y="1905120"/>
            <a:ext cx="456840" cy="307080"/>
            <a:chOff x="7848720" y="1905120"/>
            <a:chExt cx="456840" cy="307080"/>
          </a:xfrm>
        </p:grpSpPr>
        <p:sp>
          <p:nvSpPr>
            <p:cNvPr id="208" name=""/>
            <p:cNvSpPr/>
            <p:nvPr/>
          </p:nvSpPr>
          <p:spPr>
            <a:xfrm>
              <a:off x="7848720" y="19051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39800" y="190512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V="1">
            <a:off x="472428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01992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391520" y="31237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59440" y="4572000"/>
            <a:ext cx="3322440" cy="228600"/>
          </a:xfrm>
          <a:custGeom>
            <a:avLst/>
            <a:gdLst/>
            <a:ahLst/>
            <a:rect l="l" t="t" r="r" b="b"/>
            <a:pathLst>
              <a:path w="2093" h="288">
                <a:moveTo>
                  <a:pt x="0" y="70"/>
                </a:moveTo>
                <a:cubicBezTo>
                  <a:pt x="0" y="88"/>
                  <a:pt x="0" y="106"/>
                  <a:pt x="0" y="124"/>
                </a:cubicBezTo>
                <a:lnTo>
                  <a:pt x="0" y="288"/>
                </a:lnTo>
                <a:lnTo>
                  <a:pt x="557" y="288"/>
                </a:lnTo>
                <a:lnTo>
                  <a:pt x="557" y="240"/>
                </a:lnTo>
                <a:lnTo>
                  <a:pt x="653" y="240"/>
                </a:lnTo>
                <a:lnTo>
                  <a:pt x="653" y="288"/>
                </a:lnTo>
                <a:lnTo>
                  <a:pt x="797" y="288"/>
                </a:lnTo>
                <a:lnTo>
                  <a:pt x="797" y="240"/>
                </a:lnTo>
                <a:lnTo>
                  <a:pt x="941" y="240"/>
                </a:lnTo>
                <a:lnTo>
                  <a:pt x="941" y="288"/>
                </a:lnTo>
                <a:lnTo>
                  <a:pt x="1325" y="288"/>
                </a:lnTo>
                <a:lnTo>
                  <a:pt x="1325" y="240"/>
                </a:lnTo>
                <a:lnTo>
                  <a:pt x="1421" y="240"/>
                </a:lnTo>
                <a:lnTo>
                  <a:pt x="1421" y="288"/>
                </a:lnTo>
                <a:lnTo>
                  <a:pt x="1517" y="288"/>
                </a:lnTo>
                <a:lnTo>
                  <a:pt x="1517" y="240"/>
                </a:lnTo>
                <a:lnTo>
                  <a:pt x="1629" y="241"/>
                </a:lnTo>
                <a:lnTo>
                  <a:pt x="1629" y="288"/>
                </a:lnTo>
                <a:lnTo>
                  <a:pt x="2093" y="288"/>
                </a:lnTo>
                <a:lnTo>
                  <a:pt x="2093" y="0"/>
                </a:ln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480060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6324480"/>
            <a:ext cx="15238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543800" y="4343040"/>
            <a:ext cx="0" cy="19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594360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010280" y="4343400"/>
            <a:ext cx="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191120"/>
            <a:ext cx="1526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238880" y="434304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480060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343400"/>
            <a:ext cx="15228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57200" y="4952880"/>
            <a:ext cx="380880" cy="246240"/>
            <a:chOff x="457200" y="4952880"/>
            <a:chExt cx="380880" cy="246240"/>
          </a:xfrm>
        </p:grpSpPr>
        <p:sp>
          <p:nvSpPr>
            <p:cNvPr id="231" name=""/>
            <p:cNvSpPr/>
            <p:nvPr/>
          </p:nvSpPr>
          <p:spPr>
            <a:xfrm>
              <a:off x="457200" y="4952880"/>
              <a:ext cx="380880" cy="228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160" y="4952880"/>
              <a:ext cx="22860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320" y="2895480"/>
            <a:ext cx="8076960" cy="3895920"/>
          </a:xfrm>
          <a:custGeom>
            <a:avLst/>
            <a:gdLst/>
            <a:ahLst/>
            <a:rect l="l" t="t" r="r" b="b"/>
            <a:pathLst>
              <a:path w="5088" h="2454">
                <a:moveTo>
                  <a:pt x="0" y="2448"/>
                </a:moveTo>
                <a:lnTo>
                  <a:pt x="5087" y="2454"/>
                </a:lnTo>
                <a:lnTo>
                  <a:pt x="5088" y="0"/>
                </a:lnTo>
                <a:lnTo>
                  <a:pt x="0" y="0"/>
                </a:lnTo>
                <a:lnTo>
                  <a:pt x="0" y="2448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403848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2" action="ppaction://hlinksldjump"/>
          </p:cNvPr>
          <p:cNvSpPr/>
          <p:nvPr/>
        </p:nvSpPr>
        <p:spPr>
          <a:xfrm>
            <a:off x="2743200" y="4572000"/>
            <a:ext cx="152280" cy="228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219320" y="3200400"/>
            <a:ext cx="3808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610480" y="3352680"/>
            <a:ext cx="533160" cy="268560"/>
            <a:chOff x="8610480" y="3352680"/>
            <a:chExt cx="533160" cy="268560"/>
          </a:xfrm>
        </p:grpSpPr>
        <p:sp>
          <p:nvSpPr>
            <p:cNvPr id="238" name=""/>
            <p:cNvSpPr/>
            <p:nvPr/>
          </p:nvSpPr>
          <p:spPr>
            <a:xfrm>
              <a:off x="8610480" y="3352680"/>
              <a:ext cx="533160" cy="268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716680" y="33526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8001000" y="655308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480060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0481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981080" y="5715000"/>
            <a:ext cx="456840" cy="304560"/>
            <a:chOff x="1981080" y="5715000"/>
            <a:chExt cx="456840" cy="304560"/>
          </a:xfrm>
        </p:grpSpPr>
        <p:sp>
          <p:nvSpPr>
            <p:cNvPr id="246" name=""/>
            <p:cNvSpPr/>
            <p:nvPr/>
          </p:nvSpPr>
          <p:spPr>
            <a:xfrm>
              <a:off x="198108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7216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38080" y="3352680"/>
            <a:ext cx="45720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066680" y="2655720"/>
            <a:ext cx="2590560" cy="1437840"/>
            <a:chOff x="1066680" y="2655720"/>
            <a:chExt cx="2590560" cy="1437840"/>
          </a:xfrm>
        </p:grpSpPr>
        <p:sp>
          <p:nvSpPr>
            <p:cNvPr id="250" name=""/>
            <p:cNvSpPr/>
            <p:nvPr/>
          </p:nvSpPr>
          <p:spPr>
            <a:xfrm>
              <a:off x="1066680" y="2655720"/>
              <a:ext cx="2590560" cy="143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66680" y="3609360"/>
              <a:ext cx="259056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71800" y="2666880"/>
            <a:ext cx="913680" cy="515520"/>
            <a:chOff x="2971800" y="2666880"/>
            <a:chExt cx="913680" cy="515520"/>
          </a:xfrm>
        </p:grpSpPr>
        <p:sp>
          <p:nvSpPr>
            <p:cNvPr id="253" name=""/>
            <p:cNvSpPr/>
            <p:nvPr/>
          </p:nvSpPr>
          <p:spPr>
            <a:xfrm>
              <a:off x="2971800" y="2666880"/>
              <a:ext cx="913680" cy="515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53960" y="266688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1219320" y="6095880"/>
            <a:ext cx="2590560" cy="580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1066680"/>
            <a:ext cx="0" cy="1589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048120" y="2057400"/>
            <a:ext cx="609120" cy="337320"/>
            <a:chOff x="3048120" y="2057400"/>
            <a:chExt cx="609120" cy="337320"/>
          </a:xfrm>
        </p:grpSpPr>
        <p:sp>
          <p:nvSpPr>
            <p:cNvPr id="258" name=""/>
            <p:cNvSpPr/>
            <p:nvPr/>
          </p:nvSpPr>
          <p:spPr>
            <a:xfrm>
              <a:off x="3048120" y="2057400"/>
              <a:ext cx="609120" cy="317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59720" y="2057400"/>
              <a:ext cx="38556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048120" y="3886200"/>
            <a:ext cx="913680" cy="423360"/>
            <a:chOff x="3048120" y="3886200"/>
            <a:chExt cx="913680" cy="423360"/>
          </a:xfrm>
        </p:grpSpPr>
        <p:sp>
          <p:nvSpPr>
            <p:cNvPr id="261" name=""/>
            <p:cNvSpPr/>
            <p:nvPr/>
          </p:nvSpPr>
          <p:spPr>
            <a:xfrm>
              <a:off x="3048120" y="3886200"/>
              <a:ext cx="91368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30280" y="388620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895480" y="4800600"/>
            <a:ext cx="685440" cy="347400"/>
            <a:chOff x="2895480" y="4800600"/>
            <a:chExt cx="685440" cy="347400"/>
          </a:xfrm>
        </p:grpSpPr>
        <p:sp>
          <p:nvSpPr>
            <p:cNvPr id="264" name=""/>
            <p:cNvSpPr/>
            <p:nvPr/>
          </p:nvSpPr>
          <p:spPr>
            <a:xfrm>
              <a:off x="2895480" y="4800600"/>
              <a:ext cx="685440" cy="347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31920" y="48006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00400" y="6508800"/>
            <a:ext cx="685440" cy="348840"/>
            <a:chOff x="3200400" y="6508800"/>
            <a:chExt cx="685440" cy="348840"/>
          </a:xfrm>
        </p:grpSpPr>
        <p:sp>
          <p:nvSpPr>
            <p:cNvPr id="267" name=""/>
            <p:cNvSpPr/>
            <p:nvPr/>
          </p:nvSpPr>
          <p:spPr>
            <a:xfrm>
              <a:off x="3200400" y="6508800"/>
              <a:ext cx="685440" cy="348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36840" y="65088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657600" y="318456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8196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1447920"/>
            <a:ext cx="685800" cy="2371680"/>
          </a:xfrm>
          <a:custGeom>
            <a:avLst/>
            <a:gdLst/>
            <a:ahLst/>
            <a:rect l="l" t="t" r="r" b="b"/>
            <a:pathLst>
              <a:path w="1116" h="1200">
                <a:moveTo>
                  <a:pt x="0" y="1200"/>
                </a:moveTo>
                <a:lnTo>
                  <a:pt x="0" y="432"/>
                </a:lnTo>
                <a:lnTo>
                  <a:pt x="384" y="432"/>
                </a:lnTo>
                <a:lnTo>
                  <a:pt x="384" y="0"/>
                </a:lnTo>
                <a:lnTo>
                  <a:pt x="1116" y="3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1914480"/>
            <a:ext cx="2895480" cy="444672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1905120"/>
            <a:ext cx="0" cy="350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00400" y="5257800"/>
            <a:ext cx="990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809880" y="6477120"/>
            <a:ext cx="106704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809520" y="61722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029200" y="1295280"/>
            <a:ext cx="456840" cy="423720"/>
            <a:chOff x="5029200" y="1295280"/>
            <a:chExt cx="456840" cy="423720"/>
          </a:xfrm>
        </p:grpSpPr>
        <p:sp>
          <p:nvSpPr>
            <p:cNvPr id="278" name=""/>
            <p:cNvSpPr/>
            <p:nvPr/>
          </p:nvSpPr>
          <p:spPr>
            <a:xfrm>
              <a:off x="5029200" y="1295280"/>
              <a:ext cx="456840" cy="423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20280" y="129528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3520" y="2133720"/>
            <a:ext cx="456840" cy="423360"/>
            <a:chOff x="533520" y="2133720"/>
            <a:chExt cx="456840" cy="423360"/>
          </a:xfrm>
        </p:grpSpPr>
        <p:sp>
          <p:nvSpPr>
            <p:cNvPr id="281" name=""/>
            <p:cNvSpPr/>
            <p:nvPr/>
          </p:nvSpPr>
          <p:spPr>
            <a:xfrm>
              <a:off x="533520" y="2133720"/>
              <a:ext cx="45684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4600" y="21337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28600" y="5791320"/>
            <a:ext cx="533160" cy="423360"/>
            <a:chOff x="228600" y="5791320"/>
            <a:chExt cx="533160" cy="423360"/>
          </a:xfrm>
        </p:grpSpPr>
        <p:sp>
          <p:nvSpPr>
            <p:cNvPr id="284" name=""/>
            <p:cNvSpPr/>
            <p:nvPr/>
          </p:nvSpPr>
          <p:spPr>
            <a:xfrm>
              <a:off x="228600" y="5791320"/>
              <a:ext cx="53316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7320" y="5791320"/>
              <a:ext cx="32004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99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676520" y="4137120"/>
            <a:ext cx="0" cy="6364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743200" y="4114800"/>
            <a:ext cx="0" cy="65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295280" y="4267080"/>
            <a:ext cx="533160" cy="317160"/>
            <a:chOff x="1295280" y="4267080"/>
            <a:chExt cx="533160" cy="317160"/>
          </a:xfrm>
        </p:grpSpPr>
        <p:sp>
          <p:nvSpPr>
            <p:cNvPr id="289" name=""/>
            <p:cNvSpPr/>
            <p:nvPr/>
          </p:nvSpPr>
          <p:spPr>
            <a:xfrm>
              <a:off x="1295280" y="42670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01480" y="42670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114800" y="6324480"/>
            <a:ext cx="533160" cy="317160"/>
            <a:chOff x="4114800" y="6324480"/>
            <a:chExt cx="533160" cy="317160"/>
          </a:xfrm>
        </p:grpSpPr>
        <p:sp>
          <p:nvSpPr>
            <p:cNvPr id="292" name=""/>
            <p:cNvSpPr/>
            <p:nvPr/>
          </p:nvSpPr>
          <p:spPr>
            <a:xfrm>
              <a:off x="4114800" y="63244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21000" y="63244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952880" y="6095880"/>
            <a:ext cx="533160" cy="317160"/>
            <a:chOff x="4952880" y="6095880"/>
            <a:chExt cx="533160" cy="317160"/>
          </a:xfrm>
        </p:grpSpPr>
        <p:sp>
          <p:nvSpPr>
            <p:cNvPr id="295" name=""/>
            <p:cNvSpPr/>
            <p:nvPr/>
          </p:nvSpPr>
          <p:spPr>
            <a:xfrm>
              <a:off x="4952880" y="60958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59080" y="60958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114800" y="5105520"/>
            <a:ext cx="533160" cy="317160"/>
            <a:chOff x="4114800" y="5105520"/>
            <a:chExt cx="533160" cy="317160"/>
          </a:xfrm>
        </p:grpSpPr>
        <p:sp>
          <p:nvSpPr>
            <p:cNvPr id="298" name=""/>
            <p:cNvSpPr/>
            <p:nvPr/>
          </p:nvSpPr>
          <p:spPr>
            <a:xfrm>
              <a:off x="4114800" y="51055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21000" y="51055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>
            <a:off x="3200040" y="54864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257800" y="5334120"/>
            <a:ext cx="533160" cy="317160"/>
            <a:chOff x="5257800" y="5334120"/>
            <a:chExt cx="533160" cy="317160"/>
          </a:xfrm>
        </p:grpSpPr>
        <p:sp>
          <p:nvSpPr>
            <p:cNvPr id="302" name=""/>
            <p:cNvSpPr/>
            <p:nvPr/>
          </p:nvSpPr>
          <p:spPr>
            <a:xfrm>
              <a:off x="5257800" y="53341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64000" y="53341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85800" y="5410080"/>
            <a:ext cx="6094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533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: Flujo de Pp hacia vege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1066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E: Flujo de Pp a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1828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 Flujo de Pp a zonas saturadas y embalse subterrán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26668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P: Evaporación desde el follaje y evapotranspi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335268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T: Flujo de agua entre Zona No saturada y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40384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U: Flujo de agua entre Zona de raíces y zona no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4800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V: Infiltración desde escorrentía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51680" y="557388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W, X: Infiltración desde la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05400" y="6031080"/>
            <a:ext cx="24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Z: Intercambio con e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8381880" y="66294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289548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0400" y="2666880"/>
            <a:ext cx="129528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2666880"/>
            <a:ext cx="114300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91520" y="3048120"/>
            <a:ext cx="114300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18288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3868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0120" y="19810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3809880"/>
            <a:ext cx="0" cy="10670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962520"/>
            <a:ext cx="0" cy="91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8680" y="3962520"/>
            <a:ext cx="0" cy="1676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886200"/>
            <a:ext cx="0" cy="121932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2767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3352680"/>
            <a:ext cx="83844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1741320"/>
            <a:ext cx="6611760" cy="1154160"/>
          </a:xfrm>
          <a:custGeom>
            <a:avLst/>
            <a:gdLst/>
            <a:ahLst/>
            <a:rect l="l" t="t" r="r" b="b"/>
            <a:pathLst>
              <a:path w="4165" h="727">
                <a:moveTo>
                  <a:pt x="0" y="727"/>
                </a:moveTo>
                <a:lnTo>
                  <a:pt x="0" y="103"/>
                </a:lnTo>
                <a:lnTo>
                  <a:pt x="4146" y="101"/>
                </a:lnTo>
                <a:lnTo>
                  <a:pt x="4165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1148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1722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077320" y="190476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14479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4080" y="1523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21337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6483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685440" y="4876920"/>
            <a:ext cx="29718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67080" y="4038480"/>
            <a:ext cx="0" cy="3812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839080" y="41148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39625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3760" y="5105520"/>
            <a:ext cx="2438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4952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548640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334120" y="5638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419720"/>
            <a:ext cx="4572000" cy="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620120" y="3886200"/>
            <a:ext cx="0" cy="5335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24680" y="1447920"/>
            <a:ext cx="3812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342900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312408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0060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8168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34290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191120" y="320040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3733920"/>
            <a:ext cx="228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534520" y="37339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839080" y="34290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53280" y="281952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228600"/>
            <a:ext cx="502920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G, H, I, J: Flujo de Pp a elementos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762120"/>
            <a:ext cx="7010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 M,V,Y: Agua almacenada temporalmente como escorrentía superficial (8) puede escurrir hacia depresiones superficiales, lagos, zonas no saturadas, cauces u océano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28600"/>
            <a:ext cx="2743200" cy="946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V: Agua almacenada en Depresiones Superficiales (7) puede incorporarse a escorrentía superficial o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6019920"/>
            <a:ext cx="52578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X, W:Agua almacenada en Lagos (9) y cauces (10) puede incorporarse a Zonas No saturadas 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5867280"/>
            <a:ext cx="3581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O: Agua almacenada en los cauces (10) puede incorporarse a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3059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447920"/>
            <a:ext cx="838188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Abstracción: se considera sólo aquellos elementos del ciclo que son posibles de cuantifi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7312200">
            <a:off x="4342680" y="1828440"/>
            <a:ext cx="685800" cy="762120"/>
          </a:xfrm>
          <a:custGeom>
            <a:avLst/>
            <a:gdLst>
              <a:gd name="textAreaLeft" fmla="*/ 8568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2666880"/>
            <a:ext cx="39625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4495680"/>
            <a:ext cx="2819520" cy="2022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ESCORREN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143000" y="4648320"/>
            <a:ext cx="1828800" cy="457200"/>
            <a:chOff x="1143000" y="4648320"/>
            <a:chExt cx="1828800" cy="457200"/>
          </a:xfrm>
        </p:grpSpPr>
        <p:sp>
          <p:nvSpPr>
            <p:cNvPr id="373" name=""/>
            <p:cNvSpPr/>
            <p:nvPr/>
          </p:nvSpPr>
          <p:spPr>
            <a:xfrm>
              <a:off x="1143000" y="4648320"/>
              <a:ext cx="1828800" cy="457200"/>
            </a:xfrm>
            <a:custGeom>
              <a:avLst/>
              <a:gdLst>
                <a:gd name="textAreaLeft" fmla="*/ 285480 w 1828800"/>
                <a:gd name="textAreaRight" fmla="*/ 1600200 w 18288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523880" y="47242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Precip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62120" y="5257800"/>
            <a:ext cx="2361960" cy="533520"/>
            <a:chOff x="762120" y="5257800"/>
            <a:chExt cx="2361960" cy="533520"/>
          </a:xfrm>
        </p:grpSpPr>
        <p:sp>
          <p:nvSpPr>
            <p:cNvPr id="376" name=""/>
            <p:cNvSpPr/>
            <p:nvPr/>
          </p:nvSpPr>
          <p:spPr>
            <a:xfrm>
              <a:off x="762120" y="5257800"/>
              <a:ext cx="2361960" cy="533520"/>
            </a:xfrm>
            <a:custGeom>
              <a:avLst/>
              <a:gdLst>
                <a:gd name="textAreaLeft" fmla="*/ 369000 w 2361960"/>
                <a:gd name="textAreaRight" fmla="*/ 2066760 w 23619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280" y="54100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Radiación So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33520" y="5867280"/>
            <a:ext cx="2514600" cy="457200"/>
            <a:chOff x="533520" y="5867280"/>
            <a:chExt cx="2514600" cy="457200"/>
          </a:xfrm>
        </p:grpSpPr>
        <p:sp>
          <p:nvSpPr>
            <p:cNvPr id="379" name=""/>
            <p:cNvSpPr/>
            <p:nvPr/>
          </p:nvSpPr>
          <p:spPr>
            <a:xfrm>
              <a:off x="533520" y="5867280"/>
              <a:ext cx="2514600" cy="4572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23880" y="59436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Grav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943600" y="4419720"/>
            <a:ext cx="2590920" cy="761760"/>
            <a:chOff x="5943600" y="4419720"/>
            <a:chExt cx="2590920" cy="761760"/>
          </a:xfrm>
        </p:grpSpPr>
        <p:sp>
          <p:nvSpPr>
            <p:cNvPr id="382" name=""/>
            <p:cNvSpPr/>
            <p:nvPr/>
          </p:nvSpPr>
          <p:spPr>
            <a:xfrm>
              <a:off x="5943600" y="4419720"/>
              <a:ext cx="2590920" cy="76176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53080" y="45720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Evaporación y Evapotranspir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943600" y="5257800"/>
            <a:ext cx="2514600" cy="685800"/>
            <a:chOff x="5943600" y="5257800"/>
            <a:chExt cx="2514600" cy="685800"/>
          </a:xfrm>
        </p:grpSpPr>
        <p:sp>
          <p:nvSpPr>
            <p:cNvPr id="385" name=""/>
            <p:cNvSpPr/>
            <p:nvPr/>
          </p:nvSpPr>
          <p:spPr>
            <a:xfrm>
              <a:off x="5943600" y="5257800"/>
              <a:ext cx="2514600" cy="6858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24480" y="54100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Escorrentía Superf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019920" y="5867280"/>
            <a:ext cx="2819160" cy="762120"/>
            <a:chOff x="6019920" y="5867280"/>
            <a:chExt cx="2819160" cy="762120"/>
          </a:xfrm>
        </p:grpSpPr>
        <p:sp>
          <p:nvSpPr>
            <p:cNvPr id="388" name=""/>
            <p:cNvSpPr/>
            <p:nvPr/>
          </p:nvSpPr>
          <p:spPr>
            <a:xfrm>
              <a:off x="6019920" y="5867280"/>
              <a:ext cx="2819160" cy="762120"/>
            </a:xfrm>
            <a:custGeom>
              <a:avLst/>
              <a:gdLst>
                <a:gd name="textAreaLeft" fmla="*/ 440280 w 2819160"/>
                <a:gd name="textAreaRight" fmla="*/ 2467080 w 2819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3080" y="6095880"/>
              <a:ext cx="22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imes New Roman"/>
                </a:rPr>
                <a:t>Escorrentía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0:39:23Z</dcterms:created>
  <dc:creator>Guillermo Osses</dc:creator>
  <dc:description/>
  <dc:language>en-US</dc:language>
  <cp:lastModifiedBy>xv</cp:lastModifiedBy>
  <dcterms:modified xsi:type="dcterms:W3CDTF">2005-07-29T15:04:09Z</dcterms:modified>
  <cp:revision>26</cp:revision>
  <dc:subject/>
  <dc:title>Presentación de PowerPoint</dc:title>
</cp:coreProperties>
</file>