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951B-E84D-4625-9662-30036FE2B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F4F6-9A1F-4377-837E-24D61833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C8F3-1D34-4822-80A2-58D9DBC0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9DA2-18A9-4909-800F-1A4DD0888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7D0D-5A71-43E0-9649-25B8469D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2F46-08A2-4EE7-B421-35101F52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3C4F-F722-4AFB-98C8-60B9AFD7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467F-C1DE-4491-879C-145FB4FC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C96C-F1F1-4EF2-95D4-D2A71A28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A2BB-1B4F-4CFF-80B0-4EA8982F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9B1E-E5C8-4EC1-BF95-CB9AC47C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0594-8240-4935-B26C-8A3B433E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2751-5450-4DCA-B394-CDB16A384A0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533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ASPECTOS LEG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6002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Usos Consuntivos y No Consun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24382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Usos Permanentes y Eve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429000"/>
            <a:ext cx="9144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DERECHOS DE AGUA son entregados en Prop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41972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En CHILE de la VIII Región al norte las aguas superficiales han sido entregadas en su totalidad y también las aguas subterráneas en muchas cuen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6095880"/>
            <a:ext cx="7467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Los derechos de agua se pueden tran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685800" y="533520"/>
            <a:ext cx="792468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SISTEMA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: Estructura, mecanismo, esquema o procedimiento (real o abstracto) que relaciona en el tiempo y espacio, una causa entrada o estímulo de materia, energía o información, con un efecto salida, o respuesta de información, energía o mate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001000" y="2133720"/>
            <a:ext cx="914400" cy="1143000"/>
          </a:xfrm>
          <a:custGeom>
            <a:avLst/>
            <a:gdLst>
              <a:gd name="textAreaLeft" fmla="*/ 122400 w 914400"/>
              <a:gd name="textAreaRight" fmla="*/ 792000 w 9144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733920" y="2971800"/>
            <a:ext cx="4267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Se elige subsistema a estud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90920" y="4724280"/>
            <a:ext cx="3124080" cy="825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SISTEMA HIDR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00200" y="4952880"/>
            <a:ext cx="990720" cy="457200"/>
          </a:xfrm>
          <a:custGeom>
            <a:avLst/>
            <a:gdLst>
              <a:gd name="textAreaLeft" fmla="*/ 123840 w 990720"/>
              <a:gd name="textAreaRight" fmla="*/ 866880 w 9907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867280" y="5029200"/>
            <a:ext cx="990720" cy="533520"/>
          </a:xfrm>
          <a:custGeom>
            <a:avLst/>
            <a:gdLst>
              <a:gd name="textAreaLeft" fmla="*/ 123840 w 990720"/>
              <a:gd name="textAreaRight" fmla="*/ 866880 w 9907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5374800">
            <a:off x="3962160" y="4114800"/>
            <a:ext cx="609480" cy="609480"/>
          </a:xfrm>
          <a:custGeom>
            <a:avLst/>
            <a:gdLst>
              <a:gd name="textAreaLeft" fmla="*/ 75960 w 609480"/>
              <a:gd name="textAreaRight" fmla="*/ 53352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5335800">
            <a:off x="3733200" y="5714640"/>
            <a:ext cx="609480" cy="609480"/>
          </a:xfrm>
          <a:custGeom>
            <a:avLst/>
            <a:gdLst>
              <a:gd name="textAreaLeft" fmla="*/ 75960 w 609480"/>
              <a:gd name="textAreaRight" fmla="*/ 53352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5228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stím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01028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048120" y="3733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Leyes Fís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514600" y="6400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Naturaleza y estad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905120" y="762120"/>
            <a:ext cx="2286000" cy="1143000"/>
          </a:xfrm>
          <a:custGeom>
            <a:avLst/>
            <a:gdLst>
              <a:gd name="textAreaLeft" fmla="*/ 285480 w 2286000"/>
              <a:gd name="textAreaRight" fmla="*/ 2000520 w 22860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952880" y="12193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Análisis de 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5326800">
            <a:off x="3124080" y="2514600"/>
            <a:ext cx="1600200" cy="1828800"/>
          </a:xfrm>
          <a:custGeom>
            <a:avLst/>
            <a:gdLst>
              <a:gd name="textAreaLeft" fmla="*/ 199800 w 1600200"/>
              <a:gd name="textAreaRight" fmla="*/ 1400400 w 160020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81480" y="27432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Verdana"/>
              </a:rPr>
              <a:t>Hidrología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219320" y="762120"/>
            <a:ext cx="7086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UENCA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: UNIDAD BÁSICA, DEFINIDA TOPOGRÁFICAMENTE Y DRENADA POR UN SISTEMA DE CAUCES SUPERFICIALES DE TAL MANERA QUE TODA LA ESCORRENTÍA QUE SE GENERA  EN LA SUPERFICIE ENCERRADA POR LA LÍNEA DIVISORIA DE LAS AGUAS, SE DESCARGA A TRAVÉS DE UNA SALIDA ÚNICA E IDENTIFI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cuenca" descr=""/>
          <p:cNvPicPr/>
          <p:nvPr/>
        </p:nvPicPr>
        <p:blipFill>
          <a:blip r:embed="rId1"/>
          <a:stretch/>
        </p:blipFill>
        <p:spPr>
          <a:xfrm>
            <a:off x="228600" y="795240"/>
            <a:ext cx="89154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133720" y="291960"/>
            <a:ext cx="5638680" cy="4623120"/>
          </a:xfrm>
          <a:custGeom>
            <a:avLst/>
            <a:gdLst/>
            <a:ahLst/>
            <a:rect l="l" t="t" r="r" b="b"/>
            <a:pathLst>
              <a:path w="3552" h="2912">
                <a:moveTo>
                  <a:pt x="0" y="2552"/>
                </a:moveTo>
                <a:cubicBezTo>
                  <a:pt x="60" y="2536"/>
                  <a:pt x="120" y="2520"/>
                  <a:pt x="192" y="2552"/>
                </a:cubicBezTo>
                <a:cubicBezTo>
                  <a:pt x="264" y="2584"/>
                  <a:pt x="344" y="2688"/>
                  <a:pt x="432" y="2744"/>
                </a:cubicBezTo>
                <a:cubicBezTo>
                  <a:pt x="520" y="2800"/>
                  <a:pt x="584" y="2864"/>
                  <a:pt x="720" y="2888"/>
                </a:cubicBezTo>
                <a:cubicBezTo>
                  <a:pt x="856" y="2912"/>
                  <a:pt x="1104" y="2904"/>
                  <a:pt x="1248" y="2888"/>
                </a:cubicBezTo>
                <a:cubicBezTo>
                  <a:pt x="1392" y="2872"/>
                  <a:pt x="1336" y="2832"/>
                  <a:pt x="1584" y="2792"/>
                </a:cubicBezTo>
                <a:cubicBezTo>
                  <a:pt x="1832" y="2752"/>
                  <a:pt x="2496" y="2744"/>
                  <a:pt x="2736" y="2648"/>
                </a:cubicBezTo>
                <a:cubicBezTo>
                  <a:pt x="2976" y="2552"/>
                  <a:pt x="2928" y="2392"/>
                  <a:pt x="3024" y="2216"/>
                </a:cubicBezTo>
                <a:cubicBezTo>
                  <a:pt x="3120" y="2040"/>
                  <a:pt x="3240" y="1816"/>
                  <a:pt x="3312" y="1592"/>
                </a:cubicBezTo>
                <a:cubicBezTo>
                  <a:pt x="3384" y="1368"/>
                  <a:pt x="3424" y="1072"/>
                  <a:pt x="3456" y="872"/>
                </a:cubicBezTo>
                <a:cubicBezTo>
                  <a:pt x="3488" y="672"/>
                  <a:pt x="3552" y="480"/>
                  <a:pt x="3504" y="392"/>
                </a:cubicBezTo>
                <a:cubicBezTo>
                  <a:pt x="3456" y="304"/>
                  <a:pt x="3312" y="360"/>
                  <a:pt x="3168" y="344"/>
                </a:cubicBezTo>
                <a:cubicBezTo>
                  <a:pt x="3024" y="328"/>
                  <a:pt x="2816" y="328"/>
                  <a:pt x="2640" y="296"/>
                </a:cubicBezTo>
                <a:cubicBezTo>
                  <a:pt x="2464" y="264"/>
                  <a:pt x="2224" y="192"/>
                  <a:pt x="2112" y="152"/>
                </a:cubicBezTo>
                <a:cubicBezTo>
                  <a:pt x="2000" y="112"/>
                  <a:pt x="2120" y="64"/>
                  <a:pt x="1968" y="56"/>
                </a:cubicBezTo>
                <a:cubicBezTo>
                  <a:pt x="1816" y="48"/>
                  <a:pt x="1312" y="0"/>
                  <a:pt x="1200" y="104"/>
                </a:cubicBezTo>
                <a:cubicBezTo>
                  <a:pt x="1088" y="208"/>
                  <a:pt x="1280" y="528"/>
                  <a:pt x="1296" y="680"/>
                </a:cubicBezTo>
                <a:cubicBezTo>
                  <a:pt x="1312" y="832"/>
                  <a:pt x="1376" y="856"/>
                  <a:pt x="1296" y="1016"/>
                </a:cubicBezTo>
                <a:cubicBezTo>
                  <a:pt x="1216" y="1176"/>
                  <a:pt x="960" y="1464"/>
                  <a:pt x="816" y="1640"/>
                </a:cubicBezTo>
                <a:cubicBezTo>
                  <a:pt x="672" y="1816"/>
                  <a:pt x="560" y="1928"/>
                  <a:pt x="432" y="2072"/>
                </a:cubicBezTo>
                <a:cubicBezTo>
                  <a:pt x="304" y="2216"/>
                  <a:pt x="176" y="2360"/>
                  <a:pt x="48" y="2504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133720" y="1295280"/>
            <a:ext cx="2552760" cy="3048120"/>
          </a:xfrm>
          <a:custGeom>
            <a:avLst/>
            <a:gdLst/>
            <a:ahLst/>
            <a:rect l="l" t="t" r="r" b="b"/>
            <a:pathLst>
              <a:path w="1608" h="1920">
                <a:moveTo>
                  <a:pt x="1584" y="0"/>
                </a:moveTo>
                <a:cubicBezTo>
                  <a:pt x="1596" y="248"/>
                  <a:pt x="1608" y="496"/>
                  <a:pt x="1584" y="624"/>
                </a:cubicBezTo>
                <a:cubicBezTo>
                  <a:pt x="1560" y="752"/>
                  <a:pt x="1496" y="680"/>
                  <a:pt x="1440" y="768"/>
                </a:cubicBezTo>
                <a:cubicBezTo>
                  <a:pt x="1384" y="856"/>
                  <a:pt x="1312" y="1056"/>
                  <a:pt x="1248" y="1152"/>
                </a:cubicBezTo>
                <a:cubicBezTo>
                  <a:pt x="1184" y="1248"/>
                  <a:pt x="1160" y="1280"/>
                  <a:pt x="1056" y="1344"/>
                </a:cubicBezTo>
                <a:cubicBezTo>
                  <a:pt x="952" y="1408"/>
                  <a:pt x="800" y="1440"/>
                  <a:pt x="624" y="1536"/>
                </a:cubicBezTo>
                <a:cubicBezTo>
                  <a:pt x="448" y="1632"/>
                  <a:pt x="224" y="1776"/>
                  <a:pt x="0" y="19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038480" y="1523880"/>
            <a:ext cx="2286000" cy="1752840"/>
          </a:xfrm>
          <a:custGeom>
            <a:avLst/>
            <a:gdLst/>
            <a:ahLst/>
            <a:rect l="l" t="t" r="r" b="b"/>
            <a:pathLst>
              <a:path w="1440" h="1104">
                <a:moveTo>
                  <a:pt x="1440" y="0"/>
                </a:moveTo>
                <a:cubicBezTo>
                  <a:pt x="1360" y="52"/>
                  <a:pt x="1280" y="104"/>
                  <a:pt x="1248" y="192"/>
                </a:cubicBezTo>
                <a:cubicBezTo>
                  <a:pt x="1216" y="280"/>
                  <a:pt x="1376" y="408"/>
                  <a:pt x="1248" y="528"/>
                </a:cubicBezTo>
                <a:cubicBezTo>
                  <a:pt x="1120" y="648"/>
                  <a:pt x="688" y="816"/>
                  <a:pt x="480" y="912"/>
                </a:cubicBezTo>
                <a:cubicBezTo>
                  <a:pt x="272" y="1008"/>
                  <a:pt x="136" y="1056"/>
                  <a:pt x="0" y="11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48320" y="1447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724280" y="3048120"/>
            <a:ext cx="838440" cy="1155600"/>
          </a:xfrm>
          <a:custGeom>
            <a:avLst/>
            <a:gdLst/>
            <a:ahLst/>
            <a:rect l="l" t="t" r="r" b="b"/>
            <a:pathLst>
              <a:path w="528" h="728">
                <a:moveTo>
                  <a:pt x="0" y="0"/>
                </a:moveTo>
                <a:cubicBezTo>
                  <a:pt x="104" y="24"/>
                  <a:pt x="208" y="48"/>
                  <a:pt x="240" y="96"/>
                </a:cubicBezTo>
                <a:cubicBezTo>
                  <a:pt x="272" y="144"/>
                  <a:pt x="160" y="192"/>
                  <a:pt x="192" y="288"/>
                </a:cubicBezTo>
                <a:cubicBezTo>
                  <a:pt x="224" y="384"/>
                  <a:pt x="376" y="616"/>
                  <a:pt x="432" y="672"/>
                </a:cubicBezTo>
                <a:cubicBezTo>
                  <a:pt x="488" y="728"/>
                  <a:pt x="508" y="676"/>
                  <a:pt x="528" y="62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25780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9112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42900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0880" y="54100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rebuchet MS"/>
              </a:rPr>
              <a:t>Tiempo de concentración: tiempo que demora en alcanzar la salida la partícula de agua que cae en el punto más alej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43000" y="457200"/>
            <a:ext cx="4114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BALANCE HIDROLO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95280"/>
            <a:ext cx="73915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La Hidrología estudia y evalúa científicamente cada una de las partes y las interrelaciones de los distintos procesos que componen el ciclo hidr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32004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Ciclo Hidrológico es un proceso continuo desde punto de vista global pero localmente contiene elementos de azar y variaciones no continuas (ejemplo: precipit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iclo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1741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38080" y="838080"/>
            <a:ext cx="800100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62240" y="3317760"/>
            <a:ext cx="6715080" cy="2549520"/>
          </a:xfrm>
          <a:custGeom>
            <a:avLst/>
            <a:gdLst/>
            <a:ahLst/>
            <a:rect l="l" t="t" r="r" b="b"/>
            <a:pathLst>
              <a:path w="4168" h="1562">
                <a:moveTo>
                  <a:pt x="0" y="304"/>
                </a:moveTo>
                <a:cubicBezTo>
                  <a:pt x="30" y="260"/>
                  <a:pt x="23" y="245"/>
                  <a:pt x="68" y="214"/>
                </a:cubicBezTo>
                <a:cubicBezTo>
                  <a:pt x="86" y="159"/>
                  <a:pt x="119" y="119"/>
                  <a:pt x="158" y="78"/>
                </a:cubicBezTo>
                <a:cubicBezTo>
                  <a:pt x="162" y="67"/>
                  <a:pt x="162" y="53"/>
                  <a:pt x="170" y="45"/>
                </a:cubicBezTo>
                <a:cubicBezTo>
                  <a:pt x="200" y="16"/>
                  <a:pt x="252" y="46"/>
                  <a:pt x="283" y="56"/>
                </a:cubicBezTo>
                <a:cubicBezTo>
                  <a:pt x="319" y="166"/>
                  <a:pt x="259" y="0"/>
                  <a:pt x="328" y="124"/>
                </a:cubicBezTo>
                <a:cubicBezTo>
                  <a:pt x="339" y="145"/>
                  <a:pt x="337" y="172"/>
                  <a:pt x="350" y="191"/>
                </a:cubicBezTo>
                <a:cubicBezTo>
                  <a:pt x="381" y="236"/>
                  <a:pt x="411" y="282"/>
                  <a:pt x="441" y="327"/>
                </a:cubicBezTo>
                <a:cubicBezTo>
                  <a:pt x="443" y="329"/>
                  <a:pt x="484" y="393"/>
                  <a:pt x="486" y="395"/>
                </a:cubicBezTo>
                <a:cubicBezTo>
                  <a:pt x="497" y="402"/>
                  <a:pt x="510" y="408"/>
                  <a:pt x="520" y="417"/>
                </a:cubicBezTo>
                <a:cubicBezTo>
                  <a:pt x="532" y="427"/>
                  <a:pt x="540" y="443"/>
                  <a:pt x="554" y="451"/>
                </a:cubicBezTo>
                <a:cubicBezTo>
                  <a:pt x="602" y="478"/>
                  <a:pt x="680" y="493"/>
                  <a:pt x="734" y="508"/>
                </a:cubicBezTo>
                <a:cubicBezTo>
                  <a:pt x="764" y="516"/>
                  <a:pt x="825" y="530"/>
                  <a:pt x="825" y="530"/>
                </a:cubicBezTo>
                <a:cubicBezTo>
                  <a:pt x="840" y="538"/>
                  <a:pt x="854" y="547"/>
                  <a:pt x="870" y="553"/>
                </a:cubicBezTo>
                <a:cubicBezTo>
                  <a:pt x="892" y="562"/>
                  <a:pt x="938" y="575"/>
                  <a:pt x="938" y="575"/>
                </a:cubicBezTo>
                <a:cubicBezTo>
                  <a:pt x="990" y="653"/>
                  <a:pt x="957" y="635"/>
                  <a:pt x="1017" y="654"/>
                </a:cubicBezTo>
                <a:cubicBezTo>
                  <a:pt x="1078" y="748"/>
                  <a:pt x="998" y="639"/>
                  <a:pt x="1073" y="700"/>
                </a:cubicBezTo>
                <a:cubicBezTo>
                  <a:pt x="1134" y="749"/>
                  <a:pt x="1055" y="723"/>
                  <a:pt x="1130" y="756"/>
                </a:cubicBezTo>
                <a:cubicBezTo>
                  <a:pt x="1259" y="813"/>
                  <a:pt x="1427" y="806"/>
                  <a:pt x="1559" y="813"/>
                </a:cubicBezTo>
                <a:cubicBezTo>
                  <a:pt x="1671" y="804"/>
                  <a:pt x="1766" y="786"/>
                  <a:pt x="1875" y="767"/>
                </a:cubicBezTo>
                <a:cubicBezTo>
                  <a:pt x="1879" y="756"/>
                  <a:pt x="1877" y="741"/>
                  <a:pt x="1886" y="734"/>
                </a:cubicBezTo>
                <a:cubicBezTo>
                  <a:pt x="1915" y="713"/>
                  <a:pt x="1989" y="705"/>
                  <a:pt x="2022" y="700"/>
                </a:cubicBezTo>
                <a:cubicBezTo>
                  <a:pt x="2063" y="672"/>
                  <a:pt x="2105" y="671"/>
                  <a:pt x="2146" y="643"/>
                </a:cubicBezTo>
                <a:cubicBezTo>
                  <a:pt x="2154" y="632"/>
                  <a:pt x="2156" y="614"/>
                  <a:pt x="2169" y="609"/>
                </a:cubicBezTo>
                <a:cubicBezTo>
                  <a:pt x="2229" y="585"/>
                  <a:pt x="2297" y="594"/>
                  <a:pt x="2361" y="587"/>
                </a:cubicBezTo>
                <a:cubicBezTo>
                  <a:pt x="2410" y="591"/>
                  <a:pt x="2460" y="589"/>
                  <a:pt x="2508" y="598"/>
                </a:cubicBezTo>
                <a:cubicBezTo>
                  <a:pt x="2565" y="609"/>
                  <a:pt x="2527" y="662"/>
                  <a:pt x="2587" y="666"/>
                </a:cubicBezTo>
                <a:cubicBezTo>
                  <a:pt x="2700" y="673"/>
                  <a:pt x="2813" y="673"/>
                  <a:pt x="2926" y="677"/>
                </a:cubicBezTo>
                <a:cubicBezTo>
                  <a:pt x="3008" y="705"/>
                  <a:pt x="2970" y="694"/>
                  <a:pt x="3038" y="711"/>
                </a:cubicBezTo>
                <a:cubicBezTo>
                  <a:pt x="3092" y="748"/>
                  <a:pt x="3147" y="747"/>
                  <a:pt x="3208" y="767"/>
                </a:cubicBezTo>
                <a:cubicBezTo>
                  <a:pt x="3215" y="778"/>
                  <a:pt x="3224" y="789"/>
                  <a:pt x="3230" y="801"/>
                </a:cubicBezTo>
                <a:cubicBezTo>
                  <a:pt x="3235" y="812"/>
                  <a:pt x="3233" y="827"/>
                  <a:pt x="3242" y="835"/>
                </a:cubicBezTo>
                <a:cubicBezTo>
                  <a:pt x="3261" y="854"/>
                  <a:pt x="3310" y="880"/>
                  <a:pt x="3310" y="880"/>
                </a:cubicBezTo>
                <a:cubicBezTo>
                  <a:pt x="3339" y="968"/>
                  <a:pt x="3296" y="867"/>
                  <a:pt x="3355" y="926"/>
                </a:cubicBezTo>
                <a:cubicBezTo>
                  <a:pt x="3416" y="987"/>
                  <a:pt x="3308" y="938"/>
                  <a:pt x="3400" y="971"/>
                </a:cubicBezTo>
                <a:cubicBezTo>
                  <a:pt x="3442" y="1036"/>
                  <a:pt x="3468" y="1005"/>
                  <a:pt x="3535" y="1027"/>
                </a:cubicBezTo>
                <a:cubicBezTo>
                  <a:pt x="3546" y="1035"/>
                  <a:pt x="3557" y="1044"/>
                  <a:pt x="3569" y="1050"/>
                </a:cubicBezTo>
                <a:cubicBezTo>
                  <a:pt x="3580" y="1055"/>
                  <a:pt x="3595" y="1053"/>
                  <a:pt x="3603" y="1061"/>
                </a:cubicBezTo>
                <a:cubicBezTo>
                  <a:pt x="3622" y="1080"/>
                  <a:pt x="3633" y="1106"/>
                  <a:pt x="3648" y="1129"/>
                </a:cubicBezTo>
                <a:cubicBezTo>
                  <a:pt x="3661" y="1149"/>
                  <a:pt x="3716" y="1151"/>
                  <a:pt x="3716" y="1151"/>
                </a:cubicBezTo>
                <a:cubicBezTo>
                  <a:pt x="3743" y="1234"/>
                  <a:pt x="3704" y="1137"/>
                  <a:pt x="3761" y="1208"/>
                </a:cubicBezTo>
                <a:cubicBezTo>
                  <a:pt x="3823" y="1285"/>
                  <a:pt x="3713" y="1202"/>
                  <a:pt x="3806" y="1264"/>
                </a:cubicBezTo>
                <a:cubicBezTo>
                  <a:pt x="3859" y="1342"/>
                  <a:pt x="3826" y="1324"/>
                  <a:pt x="3886" y="1343"/>
                </a:cubicBezTo>
                <a:cubicBezTo>
                  <a:pt x="3893" y="1354"/>
                  <a:pt x="3898" y="1368"/>
                  <a:pt x="3908" y="1377"/>
                </a:cubicBezTo>
                <a:cubicBezTo>
                  <a:pt x="3919" y="1386"/>
                  <a:pt x="3993" y="1417"/>
                  <a:pt x="4010" y="1422"/>
                </a:cubicBezTo>
                <a:cubicBezTo>
                  <a:pt x="4044" y="1445"/>
                  <a:pt x="4073" y="1454"/>
                  <a:pt x="4111" y="1468"/>
                </a:cubicBezTo>
                <a:cubicBezTo>
                  <a:pt x="4119" y="1480"/>
                  <a:pt x="4168" y="1562"/>
                  <a:pt x="4168" y="1490"/>
                </a:cubicBezTo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4421160"/>
            <a:ext cx="1355760" cy="203400"/>
          </a:xfrm>
          <a:custGeom>
            <a:avLst/>
            <a:gdLst/>
            <a:ahLst/>
            <a:rect l="l" t="t" r="r" b="b"/>
            <a:pathLst>
              <a:path w="854" h="128">
                <a:moveTo>
                  <a:pt x="0" y="15"/>
                </a:moveTo>
                <a:cubicBezTo>
                  <a:pt x="122" y="15"/>
                  <a:pt x="614" y="0"/>
                  <a:pt x="734" y="16"/>
                </a:cubicBezTo>
                <a:cubicBezTo>
                  <a:pt x="854" y="32"/>
                  <a:pt x="793" y="94"/>
                  <a:pt x="720" y="111"/>
                </a:cubicBezTo>
                <a:cubicBezTo>
                  <a:pt x="647" y="128"/>
                  <a:pt x="406" y="126"/>
                  <a:pt x="294" y="118"/>
                </a:cubicBezTo>
                <a:cubicBezTo>
                  <a:pt x="182" y="110"/>
                  <a:pt x="99" y="74"/>
                  <a:pt x="48" y="63"/>
                </a:cubicBez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4191120"/>
            <a:ext cx="228600" cy="380880"/>
          </a:xfrm>
          <a:custGeom>
            <a:avLst/>
            <a:gdLst/>
            <a:ahLst/>
            <a:rect l="l" t="t" r="r" b="b"/>
            <a:pathLst>
              <a:path w="144" h="240">
                <a:moveTo>
                  <a:pt x="0" y="240"/>
                </a:moveTo>
                <a:lnTo>
                  <a:pt x="0" y="0"/>
                </a:lnTo>
                <a:lnTo>
                  <a:pt x="96" y="0"/>
                </a:lnTo>
                <a:lnTo>
                  <a:pt x="144" y="240"/>
                </a:lnTo>
                <a:lnTo>
                  <a:pt x="0" y="24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4267080"/>
            <a:ext cx="457200" cy="152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51055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75240" y="5473800"/>
            <a:ext cx="1727280" cy="266760"/>
          </a:xfrm>
          <a:custGeom>
            <a:avLst/>
            <a:gdLst/>
            <a:ahLst/>
            <a:rect l="l" t="t" r="r" b="b"/>
            <a:pathLst>
              <a:path w="1088" h="168">
                <a:moveTo>
                  <a:pt x="352" y="8"/>
                </a:moveTo>
                <a:cubicBezTo>
                  <a:pt x="464" y="8"/>
                  <a:pt x="656" y="0"/>
                  <a:pt x="736" y="8"/>
                </a:cubicBezTo>
                <a:cubicBezTo>
                  <a:pt x="816" y="16"/>
                  <a:pt x="800" y="40"/>
                  <a:pt x="832" y="56"/>
                </a:cubicBezTo>
                <a:cubicBezTo>
                  <a:pt x="864" y="72"/>
                  <a:pt x="904" y="88"/>
                  <a:pt x="928" y="104"/>
                </a:cubicBezTo>
                <a:cubicBezTo>
                  <a:pt x="952" y="120"/>
                  <a:pt x="1088" y="144"/>
                  <a:pt x="976" y="152"/>
                </a:cubicBezTo>
                <a:cubicBezTo>
                  <a:pt x="864" y="160"/>
                  <a:pt x="392" y="168"/>
                  <a:pt x="256" y="152"/>
                </a:cubicBezTo>
                <a:cubicBezTo>
                  <a:pt x="120" y="136"/>
                  <a:pt x="200" y="72"/>
                  <a:pt x="160" y="56"/>
                </a:cubicBezTo>
                <a:cubicBezTo>
                  <a:pt x="120" y="40"/>
                  <a:pt x="32" y="64"/>
                  <a:pt x="16" y="56"/>
                </a:cubicBezTo>
                <a:cubicBezTo>
                  <a:pt x="0" y="48"/>
                  <a:pt x="0" y="16"/>
                  <a:pt x="64" y="8"/>
                </a:cubicBezTo>
                <a:cubicBezTo>
                  <a:pt x="128" y="0"/>
                  <a:pt x="240" y="8"/>
                  <a:pt x="352" y="8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29400" y="4559400"/>
            <a:ext cx="1981080" cy="164880"/>
          </a:xfrm>
          <a:custGeom>
            <a:avLst/>
            <a:gdLst/>
            <a:ahLst/>
            <a:rect l="l" t="t" r="r" b="b"/>
            <a:pathLst>
              <a:path w="1040" h="152">
                <a:moveTo>
                  <a:pt x="0" y="152"/>
                </a:moveTo>
                <a:cubicBezTo>
                  <a:pt x="12" y="108"/>
                  <a:pt x="24" y="64"/>
                  <a:pt x="48" y="56"/>
                </a:cubicBezTo>
                <a:cubicBezTo>
                  <a:pt x="72" y="48"/>
                  <a:pt x="112" y="104"/>
                  <a:pt x="144" y="104"/>
                </a:cubicBezTo>
                <a:cubicBezTo>
                  <a:pt x="176" y="104"/>
                  <a:pt x="208" y="56"/>
                  <a:pt x="240" y="56"/>
                </a:cubicBezTo>
                <a:cubicBezTo>
                  <a:pt x="272" y="56"/>
                  <a:pt x="304" y="96"/>
                  <a:pt x="336" y="104"/>
                </a:cubicBezTo>
                <a:cubicBezTo>
                  <a:pt x="368" y="112"/>
                  <a:pt x="392" y="112"/>
                  <a:pt x="432" y="104"/>
                </a:cubicBezTo>
                <a:cubicBezTo>
                  <a:pt x="472" y="96"/>
                  <a:pt x="536" y="56"/>
                  <a:pt x="576" y="56"/>
                </a:cubicBezTo>
                <a:cubicBezTo>
                  <a:pt x="616" y="56"/>
                  <a:pt x="648" y="104"/>
                  <a:pt x="672" y="104"/>
                </a:cubicBezTo>
                <a:cubicBezTo>
                  <a:pt x="696" y="104"/>
                  <a:pt x="696" y="56"/>
                  <a:pt x="720" y="56"/>
                </a:cubicBezTo>
                <a:cubicBezTo>
                  <a:pt x="744" y="56"/>
                  <a:pt x="768" y="96"/>
                  <a:pt x="816" y="104"/>
                </a:cubicBezTo>
                <a:cubicBezTo>
                  <a:pt x="864" y="112"/>
                  <a:pt x="976" y="120"/>
                  <a:pt x="1008" y="104"/>
                </a:cubicBezTo>
                <a:cubicBezTo>
                  <a:pt x="1040" y="88"/>
                  <a:pt x="1008" y="0"/>
                  <a:pt x="1008" y="8"/>
                </a:cubicBezTo>
                <a:cubicBezTo>
                  <a:pt x="1008" y="16"/>
                  <a:pt x="1008" y="84"/>
                  <a:pt x="1008" y="15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17400">
            <a:off x="6553080" y="2590560"/>
            <a:ext cx="1447920" cy="685800"/>
          </a:xfrm>
          <a:custGeom>
            <a:avLst/>
            <a:gdLst>
              <a:gd name="textAreaLeft" fmla="*/ 180720 w 1447920"/>
              <a:gd name="textAreaRight" fmla="*/ 1267200 w 14479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205600">
            <a:off x="7353000" y="1866960"/>
            <a:ext cx="1143000" cy="7621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33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5266200">
            <a:off x="2437920" y="2361960"/>
            <a:ext cx="1143000" cy="68580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2644400">
            <a:off x="6400800" y="1676160"/>
            <a:ext cx="838080" cy="533160"/>
          </a:xfrm>
          <a:custGeom>
            <a:avLst/>
            <a:gdLst>
              <a:gd name="textAreaLeft" fmla="*/ 146520 w 838080"/>
              <a:gd name="textAreaRight" fmla="*/ 607680 w 8380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2644400">
            <a:off x="5105520" y="990360"/>
            <a:ext cx="838080" cy="533160"/>
          </a:xfrm>
          <a:custGeom>
            <a:avLst/>
            <a:gdLst>
              <a:gd name="textAreaLeft" fmla="*/ 146520 w 838080"/>
              <a:gd name="textAreaRight" fmla="*/ 607680 w 8380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Cloud"/>
          <p:cNvSpPr/>
          <p:nvPr/>
        </p:nvSpPr>
        <p:spPr>
          <a:xfrm>
            <a:off x="4876920" y="1828800"/>
            <a:ext cx="1523880" cy="1020600"/>
          </a:xfrm>
          <a:prstGeom prst="pi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17400">
            <a:off x="3885840" y="1904760"/>
            <a:ext cx="1447920" cy="685800"/>
          </a:xfrm>
          <a:custGeom>
            <a:avLst/>
            <a:gdLst>
              <a:gd name="textAreaLeft" fmla="*/ 180720 w 1447920"/>
              <a:gd name="textAreaRight" fmla="*/ 1267200 w 14479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2644400">
            <a:off x="3580920" y="990000"/>
            <a:ext cx="838440" cy="533160"/>
          </a:xfrm>
          <a:custGeom>
            <a:avLst/>
            <a:gdLst>
              <a:gd name="textAreaLeft" fmla="*/ 146520 w 838440"/>
              <a:gd name="textAreaRight" fmla="*/ 608040 w 83844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Cloud"/>
          <p:cNvSpPr/>
          <p:nvPr/>
        </p:nvSpPr>
        <p:spPr>
          <a:xfrm>
            <a:off x="1905120" y="1066680"/>
            <a:ext cx="1523880" cy="1020960"/>
          </a:xfrm>
          <a:prstGeom prst="pi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3200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=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3200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=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3886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sup=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4800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sub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0120" y="2895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=3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3657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=4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67280" y="9907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Humedad sobre tierra= 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5029200"/>
            <a:ext cx="3124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Verdana"/>
              </a:rPr>
              <a:t>30% ÁREA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22860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304920"/>
            <a:ext cx="8915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ATMÓSFERA: AGUA COMO VAPOR, SÓLIDA O LÍQU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5853240"/>
            <a:ext cx="4876560" cy="101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ACUÍF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43800" y="5943600"/>
            <a:ext cx="1600200" cy="862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OCÉ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6324480"/>
            <a:ext cx="3124080" cy="457200"/>
          </a:xfrm>
          <a:custGeom>
            <a:avLst/>
            <a:gdLst>
              <a:gd name="textAreaLeft" fmla="*/ 390240 w 3124080"/>
              <a:gd name="textAreaRight" fmla="*/ 2733840 w 3124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6095880"/>
            <a:ext cx="1371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F. su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320" y="4419720"/>
            <a:ext cx="335268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3505320"/>
            <a:ext cx="2666880" cy="1381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ARROYOS, LAGOS, RÍ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3352680"/>
            <a:ext cx="426744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SUPERFICI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3581280"/>
            <a:ext cx="1218960" cy="30492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4343400"/>
            <a:ext cx="1676520" cy="228600"/>
          </a:xfrm>
          <a:prstGeom prst="rightArrow">
            <a:avLst>
              <a:gd name="adj1" fmla="val 50000"/>
              <a:gd name="adj2" fmla="val 1833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2680" y="4724280"/>
            <a:ext cx="1524240" cy="228600"/>
          </a:xfrm>
          <a:prstGeom prst="leftArrow">
            <a:avLst>
              <a:gd name="adj1" fmla="val 50000"/>
              <a:gd name="adj2" fmla="val 16669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00400" y="4876920"/>
            <a:ext cx="228600" cy="914400"/>
          </a:xfrm>
          <a:prstGeom prst="upArrow">
            <a:avLst>
              <a:gd name="adj1" fmla="val 50000"/>
              <a:gd name="adj2" fmla="val 10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4876920"/>
            <a:ext cx="304920" cy="990360"/>
          </a:xfrm>
          <a:prstGeom prst="downArrow">
            <a:avLst>
              <a:gd name="adj1" fmla="val 50000"/>
              <a:gd name="adj2" fmla="val 8119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38098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380988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685800"/>
            <a:ext cx="228600" cy="2743200"/>
          </a:xfrm>
          <a:prstGeom prst="downArrow">
            <a:avLst>
              <a:gd name="adj1" fmla="val 50000"/>
              <a:gd name="adj2" fmla="val 300000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685800"/>
            <a:ext cx="228600" cy="1676520"/>
          </a:xfrm>
          <a:prstGeom prst="downArrow">
            <a:avLst>
              <a:gd name="adj1" fmla="val 50000"/>
              <a:gd name="adj2" fmla="val 183346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685800"/>
            <a:ext cx="228600" cy="1066680"/>
          </a:xfrm>
          <a:prstGeom prst="downArrow">
            <a:avLst>
              <a:gd name="adj1" fmla="val 50000"/>
              <a:gd name="adj2" fmla="val 116654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33920" y="2209680"/>
            <a:ext cx="304560" cy="1143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1752480"/>
            <a:ext cx="16761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VE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90512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106668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9144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2362320"/>
            <a:ext cx="17528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NIEVE Y HI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2209680"/>
            <a:ext cx="0" cy="114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2209680"/>
            <a:ext cx="0" cy="152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685800"/>
            <a:ext cx="189000" cy="165096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13716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609480"/>
            <a:ext cx="152640" cy="114300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10666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762120"/>
            <a:ext cx="228600" cy="256536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20574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685800"/>
            <a:ext cx="228600" cy="2895480"/>
          </a:xfrm>
          <a:prstGeom prst="downArrow">
            <a:avLst>
              <a:gd name="adj1" fmla="val 50000"/>
              <a:gd name="adj2" fmla="val 316654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62920" y="685800"/>
            <a:ext cx="228600" cy="279396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763120" y="685800"/>
            <a:ext cx="304560" cy="523224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198108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610480" y="243828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129528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71800" y="3809880"/>
            <a:ext cx="152280" cy="60984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solidFill>
            <a:srgbClr val="ff3300"/>
          </a:solidFill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3886200"/>
            <a:ext cx="68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I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3886200"/>
            <a:ext cx="68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Ex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3886200"/>
            <a:ext cx="1371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if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2819520"/>
            <a:ext cx="114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F s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5105520"/>
            <a:ext cx="1067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F 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57800" y="4876920"/>
            <a:ext cx="152280" cy="990360"/>
          </a:xfrm>
          <a:prstGeom prst="downArrow">
            <a:avLst>
              <a:gd name="adj1" fmla="val 50000"/>
              <a:gd name="adj2" fmla="val 16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43800" y="4876920"/>
            <a:ext cx="152280" cy="1143000"/>
          </a:xfrm>
          <a:prstGeom prst="downArrow">
            <a:avLst>
              <a:gd name="adj1" fmla="val 50000"/>
              <a:gd name="adj2" fmla="val 18764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96080" y="5029200"/>
            <a:ext cx="114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F s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76520" y="5029200"/>
            <a:ext cx="14475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Verdana"/>
              </a:rPr>
              <a:t>Ascenso Capi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5181480"/>
            <a:ext cx="1219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Per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0" y="0"/>
            <a:ext cx="9144000" cy="708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762120"/>
            <a:ext cx="2438280" cy="520200"/>
          </a:xfrm>
          <a:prstGeom prst="rect">
            <a:avLst/>
          </a:prstGeom>
          <a:solidFill>
            <a:srgbClr val="ff9933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Condensación de la humedad y formación de go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57200" y="685800"/>
            <a:ext cx="380880" cy="337320"/>
            <a:chOff x="457200" y="685800"/>
            <a:chExt cx="380880" cy="337320"/>
          </a:xfrm>
        </p:grpSpPr>
        <p:sp>
          <p:nvSpPr>
            <p:cNvPr id="129" name=""/>
            <p:cNvSpPr/>
            <p:nvPr/>
          </p:nvSpPr>
          <p:spPr>
            <a:xfrm>
              <a:off x="457200" y="68580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3160" y="685800"/>
              <a:ext cx="22860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781680" y="762120"/>
            <a:ext cx="1981440" cy="520200"/>
          </a:xfrm>
          <a:prstGeom prst="rect">
            <a:avLst/>
          </a:prstGeom>
          <a:solidFill>
            <a:srgbClr val="ff9933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Almacenamiento de la Humedad Atmosfé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8763120" y="609480"/>
            <a:ext cx="380880" cy="337320"/>
            <a:chOff x="8763120" y="609480"/>
            <a:chExt cx="380880" cy="337320"/>
          </a:xfrm>
        </p:grpSpPr>
        <p:sp>
          <p:nvSpPr>
            <p:cNvPr id="133" name=""/>
            <p:cNvSpPr/>
            <p:nvPr/>
          </p:nvSpPr>
          <p:spPr>
            <a:xfrm>
              <a:off x="8763120" y="60948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839080" y="609480"/>
              <a:ext cx="22860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 flipH="1">
            <a:off x="3200400" y="990720"/>
            <a:ext cx="35812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762120"/>
            <a:ext cx="2133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99"/>
                </a:solidFill>
                <a:latin typeface="Times New Roman"/>
              </a:rPr>
              <a:t>Circulación y transferencia del  vapor de agua en la atmósf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791320" y="990720"/>
            <a:ext cx="380880" cy="304560"/>
            <a:chOff x="5791320" y="990720"/>
            <a:chExt cx="380880" cy="304560"/>
          </a:xfrm>
        </p:grpSpPr>
        <p:sp>
          <p:nvSpPr>
            <p:cNvPr id="138" name=""/>
            <p:cNvSpPr/>
            <p:nvPr/>
          </p:nvSpPr>
          <p:spPr>
            <a:xfrm>
              <a:off x="5791320" y="99072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67280" y="990720"/>
              <a:ext cx="228600" cy="2764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99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143000" y="2057400"/>
            <a:ext cx="1219320" cy="520200"/>
          </a:xfrm>
          <a:prstGeom prst="rect">
            <a:avLst/>
          </a:prstGeom>
          <a:solidFill>
            <a:srgbClr val="ff993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Precipitación de las go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1295280"/>
            <a:ext cx="0" cy="7621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62320" y="2362320"/>
            <a:ext cx="4952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315200" y="1295280"/>
            <a:ext cx="0" cy="1067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213372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99"/>
                </a:solidFill>
                <a:latin typeface="Times New Roman"/>
              </a:rPr>
              <a:t>Re-evaporación de la precipit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410080" y="2057400"/>
            <a:ext cx="380880" cy="307080"/>
            <a:chOff x="5410080" y="2057400"/>
            <a:chExt cx="380880" cy="307080"/>
          </a:xfrm>
        </p:grpSpPr>
        <p:sp>
          <p:nvSpPr>
            <p:cNvPr id="146" name=""/>
            <p:cNvSpPr/>
            <p:nvPr/>
          </p:nvSpPr>
          <p:spPr>
            <a:xfrm>
              <a:off x="5410080" y="205740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86040" y="2057400"/>
              <a:ext cx="22860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676520" y="1371600"/>
            <a:ext cx="380880" cy="307080"/>
            <a:chOff x="1676520" y="1371600"/>
            <a:chExt cx="380880" cy="307080"/>
          </a:xfrm>
        </p:grpSpPr>
        <p:sp>
          <p:nvSpPr>
            <p:cNvPr id="149" name=""/>
            <p:cNvSpPr/>
            <p:nvPr/>
          </p:nvSpPr>
          <p:spPr>
            <a:xfrm>
              <a:off x="1676520" y="137160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52480" y="1371600"/>
              <a:ext cx="22860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838080" y="1981080"/>
            <a:ext cx="380880" cy="337320"/>
            <a:chOff x="838080" y="1981080"/>
            <a:chExt cx="380880" cy="337320"/>
          </a:xfrm>
        </p:grpSpPr>
        <p:sp>
          <p:nvSpPr>
            <p:cNvPr id="152" name=""/>
            <p:cNvSpPr/>
            <p:nvPr/>
          </p:nvSpPr>
          <p:spPr>
            <a:xfrm>
              <a:off x="838080" y="198108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14040" y="1981080"/>
              <a:ext cx="22860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09480" y="3733920"/>
            <a:ext cx="1295640" cy="1086840"/>
            <a:chOff x="609480" y="3733920"/>
            <a:chExt cx="1295640" cy="1086840"/>
          </a:xfrm>
        </p:grpSpPr>
        <p:sp>
          <p:nvSpPr>
            <p:cNvPr id="155" name=""/>
            <p:cNvSpPr/>
            <p:nvPr/>
          </p:nvSpPr>
          <p:spPr>
            <a:xfrm>
              <a:off x="609480" y="3733920"/>
              <a:ext cx="1295640" cy="10868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3399"/>
                  </a:solidFill>
                  <a:latin typeface="Times New Roman"/>
                </a:rPr>
                <a:t>Intercepción de la vegetación y Almacenamiento en Follaj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3399"/>
                  </a:solidFill>
                  <a:latin typeface="Times New Roman"/>
                </a:rPr>
                <a:t>Almacenamiento en Zona de raí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9480" y="4419720"/>
              <a:ext cx="1295640" cy="0"/>
            </a:xfrm>
            <a:prstGeom prst="line">
              <a:avLst/>
            </a:prstGeom>
            <a:ln cap="rnd" w="93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0" y="3200400"/>
            <a:ext cx="304920" cy="38088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62120" y="3429000"/>
            <a:ext cx="456840" cy="371160"/>
            <a:chOff x="762120" y="3429000"/>
            <a:chExt cx="456840" cy="371160"/>
          </a:xfrm>
        </p:grpSpPr>
        <p:sp>
          <p:nvSpPr>
            <p:cNvPr id="159" name=""/>
            <p:cNvSpPr/>
            <p:nvPr/>
          </p:nvSpPr>
          <p:spPr>
            <a:xfrm>
              <a:off x="762120" y="3429000"/>
              <a:ext cx="456840" cy="371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53200" y="3429000"/>
              <a:ext cx="27432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09480" y="5257800"/>
            <a:ext cx="1371600" cy="398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99"/>
                </a:solidFill>
                <a:latin typeface="Times New Roman"/>
              </a:rPr>
              <a:t>Almacenamiento en Zonas no Saturad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6095880"/>
            <a:ext cx="1295280" cy="398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99"/>
                </a:solidFill>
                <a:latin typeface="Times New Roman"/>
              </a:rPr>
              <a:t>Almacenamiento en Zonas Saturad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86200"/>
            <a:ext cx="1143000" cy="55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99"/>
                </a:solidFill>
                <a:latin typeface="Times New Roman"/>
              </a:rPr>
              <a:t>Almacenamiento en Depresiones Superfic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886200"/>
            <a:ext cx="1295280" cy="55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99"/>
                </a:solidFill>
                <a:latin typeface="Times New Roman"/>
              </a:rPr>
              <a:t>Retención temporal de la escorrentía superfic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3352680"/>
            <a:ext cx="1981440" cy="33530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52480" y="2590920"/>
            <a:ext cx="0" cy="1143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76520" y="4648320"/>
            <a:ext cx="456840" cy="337320"/>
            <a:chOff x="1676520" y="4648320"/>
            <a:chExt cx="456840" cy="337320"/>
          </a:xfrm>
        </p:grpSpPr>
        <p:sp>
          <p:nvSpPr>
            <p:cNvPr id="168" name=""/>
            <p:cNvSpPr/>
            <p:nvPr/>
          </p:nvSpPr>
          <p:spPr>
            <a:xfrm>
              <a:off x="1676520" y="4648320"/>
              <a:ext cx="45684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67600" y="4648320"/>
              <a:ext cx="27432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752480" y="5181480"/>
            <a:ext cx="533160" cy="251280"/>
            <a:chOff x="1752480" y="5181480"/>
            <a:chExt cx="533160" cy="251280"/>
          </a:xfrm>
        </p:grpSpPr>
        <p:sp>
          <p:nvSpPr>
            <p:cNvPr id="171" name=""/>
            <p:cNvSpPr/>
            <p:nvPr/>
          </p:nvSpPr>
          <p:spPr>
            <a:xfrm>
              <a:off x="1752480" y="5181480"/>
              <a:ext cx="533160" cy="2512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58680" y="5181480"/>
              <a:ext cx="32004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3399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752480" y="5943600"/>
            <a:ext cx="533160" cy="246240"/>
            <a:chOff x="1752480" y="5943600"/>
            <a:chExt cx="533160" cy="246240"/>
          </a:xfrm>
        </p:grpSpPr>
        <p:sp>
          <p:nvSpPr>
            <p:cNvPr id="174" name=""/>
            <p:cNvSpPr/>
            <p:nvPr/>
          </p:nvSpPr>
          <p:spPr>
            <a:xfrm>
              <a:off x="1752480" y="5943600"/>
              <a:ext cx="533160" cy="1890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58680" y="5943600"/>
              <a:ext cx="32004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3399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914400" y="56386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447920" y="56386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33520" y="5715000"/>
            <a:ext cx="456840" cy="304560"/>
            <a:chOff x="533520" y="5715000"/>
            <a:chExt cx="456840" cy="304560"/>
          </a:xfrm>
        </p:grpSpPr>
        <p:sp>
          <p:nvSpPr>
            <p:cNvPr id="179" name=""/>
            <p:cNvSpPr/>
            <p:nvPr/>
          </p:nvSpPr>
          <p:spPr>
            <a:xfrm>
              <a:off x="533520" y="5715000"/>
              <a:ext cx="45684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600" y="5715000"/>
              <a:ext cx="27432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3399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905120" y="411480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05120" y="457200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1295280"/>
            <a:ext cx="5410080" cy="3276720"/>
          </a:xfrm>
          <a:custGeom>
            <a:avLst/>
            <a:gdLst/>
            <a:ahLst/>
            <a:rect l="l" t="t" r="r" b="b"/>
            <a:pathLst>
              <a:path w="3408" h="2064">
                <a:moveTo>
                  <a:pt x="0" y="2064"/>
                </a:moveTo>
                <a:lnTo>
                  <a:pt x="0" y="1296"/>
                </a:lnTo>
                <a:lnTo>
                  <a:pt x="384" y="1296"/>
                </a:lnTo>
                <a:lnTo>
                  <a:pt x="384" y="864"/>
                </a:lnTo>
                <a:lnTo>
                  <a:pt x="3408" y="864"/>
                </a:lnTo>
                <a:lnTo>
                  <a:pt x="3408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3505320"/>
            <a:ext cx="5334120" cy="11430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3200400"/>
            <a:ext cx="1447560" cy="3200400"/>
          </a:xfrm>
          <a:custGeom>
            <a:avLst/>
            <a:gdLst/>
            <a:ahLst/>
            <a:rect l="l" t="t" r="r" b="b"/>
            <a:pathLst>
              <a:path w="912" h="2016">
                <a:moveTo>
                  <a:pt x="912" y="0"/>
                </a:moveTo>
                <a:lnTo>
                  <a:pt x="3" y="2"/>
                </a:lnTo>
                <a:lnTo>
                  <a:pt x="0" y="2013"/>
                </a:lnTo>
                <a:lnTo>
                  <a:pt x="249" y="201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548640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3200400"/>
            <a:ext cx="1440" cy="22860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3886200"/>
            <a:ext cx="1143000" cy="55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99"/>
                </a:solidFill>
                <a:latin typeface="Times New Roman"/>
              </a:rPr>
              <a:t>Almacenamiento en Lagos, embalses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0" y="3962520"/>
            <a:ext cx="1143000" cy="398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99"/>
                </a:solidFill>
                <a:latin typeface="Times New Roman"/>
              </a:rPr>
              <a:t>Almacenamiento en los cauc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52680" y="4419720"/>
            <a:ext cx="0" cy="11430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981080" y="5562720"/>
            <a:ext cx="13716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4419720"/>
            <a:ext cx="0" cy="11430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352680" y="5562720"/>
            <a:ext cx="13716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19920" y="4419720"/>
            <a:ext cx="0" cy="19047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980720" y="6324480"/>
            <a:ext cx="403884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38880" y="4343400"/>
            <a:ext cx="0" cy="1295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4419720"/>
            <a:ext cx="0" cy="12189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1980720" y="5638680"/>
            <a:ext cx="52578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05520" y="5638680"/>
            <a:ext cx="4572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3200400"/>
            <a:ext cx="10670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19520" y="3124080"/>
            <a:ext cx="5638680" cy="457200"/>
          </a:xfrm>
          <a:custGeom>
            <a:avLst/>
            <a:gdLst/>
            <a:ahLst/>
            <a:rect l="l" t="t" r="r" b="b"/>
            <a:pathLst>
              <a:path w="3552" h="288">
                <a:moveTo>
                  <a:pt x="0" y="48"/>
                </a:moveTo>
                <a:lnTo>
                  <a:pt x="0" y="0"/>
                </a:lnTo>
                <a:lnTo>
                  <a:pt x="48" y="0"/>
                </a:lnTo>
                <a:lnTo>
                  <a:pt x="96" y="0"/>
                </a:lnTo>
                <a:lnTo>
                  <a:pt x="96" y="48"/>
                </a:lnTo>
                <a:lnTo>
                  <a:pt x="3552" y="48"/>
                </a:lnTo>
                <a:lnTo>
                  <a:pt x="3552" y="288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229600" y="3581280"/>
            <a:ext cx="914400" cy="946440"/>
          </a:xfrm>
          <a:prstGeom prst="rect">
            <a:avLst/>
          </a:prstGeom>
          <a:solidFill>
            <a:srgbClr val="ff9933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Almace-namien-to en Océa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7391520" y="1828800"/>
            <a:ext cx="380880" cy="307080"/>
            <a:chOff x="7391520" y="1828800"/>
            <a:chExt cx="380880" cy="307080"/>
          </a:xfrm>
        </p:grpSpPr>
        <p:sp>
          <p:nvSpPr>
            <p:cNvPr id="204" name=""/>
            <p:cNvSpPr/>
            <p:nvPr/>
          </p:nvSpPr>
          <p:spPr>
            <a:xfrm>
              <a:off x="7391520" y="182880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67480" y="1828800"/>
              <a:ext cx="22860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3505320" y="1295280"/>
            <a:ext cx="4724280" cy="2590920"/>
          </a:xfrm>
          <a:custGeom>
            <a:avLst/>
            <a:gdLst/>
            <a:ahLst/>
            <a:rect l="l" t="t" r="r" b="b"/>
            <a:pathLst>
              <a:path w="2976" h="1632">
                <a:moveTo>
                  <a:pt x="48" y="1632"/>
                </a:moveTo>
                <a:lnTo>
                  <a:pt x="48" y="1248"/>
                </a:lnTo>
                <a:lnTo>
                  <a:pt x="0" y="1248"/>
                </a:lnTo>
                <a:lnTo>
                  <a:pt x="0" y="1152"/>
                </a:lnTo>
                <a:lnTo>
                  <a:pt x="48" y="1152"/>
                </a:lnTo>
                <a:lnTo>
                  <a:pt x="2976" y="1152"/>
                </a:lnTo>
                <a:lnTo>
                  <a:pt x="2976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7848720" y="1905120"/>
            <a:ext cx="456840" cy="307080"/>
            <a:chOff x="7848720" y="1905120"/>
            <a:chExt cx="456840" cy="307080"/>
          </a:xfrm>
        </p:grpSpPr>
        <p:sp>
          <p:nvSpPr>
            <p:cNvPr id="208" name=""/>
            <p:cNvSpPr/>
            <p:nvPr/>
          </p:nvSpPr>
          <p:spPr>
            <a:xfrm>
              <a:off x="7848720" y="1905120"/>
              <a:ext cx="45684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39800" y="1905120"/>
              <a:ext cx="27432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 flipV="1">
            <a:off x="4724280" y="3123720"/>
            <a:ext cx="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019920" y="3123720"/>
            <a:ext cx="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7391520" y="3123720"/>
            <a:ext cx="0" cy="838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320040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19720" y="320040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91320" y="320040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32004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59440" y="4572000"/>
            <a:ext cx="3322440" cy="228600"/>
          </a:xfrm>
          <a:custGeom>
            <a:avLst/>
            <a:gdLst/>
            <a:ahLst/>
            <a:rect l="l" t="t" r="r" b="b"/>
            <a:pathLst>
              <a:path w="2093" h="288">
                <a:moveTo>
                  <a:pt x="0" y="70"/>
                </a:moveTo>
                <a:cubicBezTo>
                  <a:pt x="0" y="88"/>
                  <a:pt x="0" y="106"/>
                  <a:pt x="0" y="124"/>
                </a:cubicBezTo>
                <a:lnTo>
                  <a:pt x="0" y="288"/>
                </a:lnTo>
                <a:lnTo>
                  <a:pt x="557" y="288"/>
                </a:lnTo>
                <a:lnTo>
                  <a:pt x="557" y="240"/>
                </a:lnTo>
                <a:lnTo>
                  <a:pt x="653" y="240"/>
                </a:lnTo>
                <a:lnTo>
                  <a:pt x="653" y="288"/>
                </a:lnTo>
                <a:lnTo>
                  <a:pt x="797" y="288"/>
                </a:lnTo>
                <a:lnTo>
                  <a:pt x="797" y="240"/>
                </a:lnTo>
                <a:lnTo>
                  <a:pt x="941" y="240"/>
                </a:lnTo>
                <a:lnTo>
                  <a:pt x="941" y="288"/>
                </a:lnTo>
                <a:lnTo>
                  <a:pt x="1325" y="288"/>
                </a:lnTo>
                <a:lnTo>
                  <a:pt x="1325" y="240"/>
                </a:lnTo>
                <a:lnTo>
                  <a:pt x="1421" y="240"/>
                </a:lnTo>
                <a:lnTo>
                  <a:pt x="1421" y="288"/>
                </a:lnTo>
                <a:lnTo>
                  <a:pt x="1517" y="288"/>
                </a:lnTo>
                <a:lnTo>
                  <a:pt x="1517" y="240"/>
                </a:lnTo>
                <a:lnTo>
                  <a:pt x="1629" y="241"/>
                </a:lnTo>
                <a:lnTo>
                  <a:pt x="1629" y="288"/>
                </a:lnTo>
                <a:lnTo>
                  <a:pt x="2093" y="288"/>
                </a:lnTo>
                <a:lnTo>
                  <a:pt x="2093" y="0"/>
                </a:ln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86400" y="4800600"/>
            <a:ext cx="22860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19920" y="6324480"/>
            <a:ext cx="152388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7543800" y="4343040"/>
            <a:ext cx="0" cy="19810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5943600"/>
            <a:ext cx="0" cy="3049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7010280" y="4343400"/>
            <a:ext cx="0" cy="4572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191120"/>
            <a:ext cx="15264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05720" y="4191120"/>
            <a:ext cx="1522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191120"/>
            <a:ext cx="1522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238880" y="4343040"/>
            <a:ext cx="0" cy="3049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480060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447920" y="4876920"/>
            <a:ext cx="0" cy="3808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4343400"/>
            <a:ext cx="152280" cy="1905120"/>
          </a:xfrm>
          <a:custGeom>
            <a:avLst/>
            <a:gdLst/>
            <a:ahLst/>
            <a:rect l="l" t="t" r="r" b="b"/>
            <a:pathLst>
              <a:path w="96" h="1200">
                <a:moveTo>
                  <a:pt x="96" y="1200"/>
                </a:moveTo>
                <a:lnTo>
                  <a:pt x="0" y="1200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w="936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57200" y="4952880"/>
            <a:ext cx="380880" cy="246240"/>
            <a:chOff x="457200" y="4952880"/>
            <a:chExt cx="380880" cy="246240"/>
          </a:xfrm>
        </p:grpSpPr>
        <p:sp>
          <p:nvSpPr>
            <p:cNvPr id="231" name=""/>
            <p:cNvSpPr/>
            <p:nvPr/>
          </p:nvSpPr>
          <p:spPr>
            <a:xfrm>
              <a:off x="457200" y="4952880"/>
              <a:ext cx="380880" cy="2289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3160" y="4952880"/>
              <a:ext cx="22860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3399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76320" y="2895480"/>
            <a:ext cx="8076960" cy="3895920"/>
          </a:xfrm>
          <a:custGeom>
            <a:avLst/>
            <a:gdLst/>
            <a:ahLst/>
            <a:rect l="l" t="t" r="r" b="b"/>
            <a:pathLst>
              <a:path w="5088" h="2454">
                <a:moveTo>
                  <a:pt x="0" y="2448"/>
                </a:moveTo>
                <a:lnTo>
                  <a:pt x="5087" y="2454"/>
                </a:lnTo>
                <a:lnTo>
                  <a:pt x="5088" y="0"/>
                </a:lnTo>
                <a:lnTo>
                  <a:pt x="0" y="0"/>
                </a:lnTo>
                <a:lnTo>
                  <a:pt x="0" y="2448"/>
                </a:lnTo>
                <a:close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77320" y="4038480"/>
            <a:ext cx="1522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>
            <a:hlinkClick r:id="rId2" action="ppaction://hlinksldjump"/>
          </p:cNvPr>
          <p:cNvSpPr/>
          <p:nvPr/>
        </p:nvSpPr>
        <p:spPr>
          <a:xfrm>
            <a:off x="2743200" y="4572000"/>
            <a:ext cx="152280" cy="2286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219320" y="3200400"/>
            <a:ext cx="38088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8610480" y="3352680"/>
            <a:ext cx="533160" cy="268560"/>
            <a:chOff x="8610480" y="3352680"/>
            <a:chExt cx="533160" cy="268560"/>
          </a:xfrm>
        </p:grpSpPr>
        <p:sp>
          <p:nvSpPr>
            <p:cNvPr id="238" name=""/>
            <p:cNvSpPr/>
            <p:nvPr/>
          </p:nvSpPr>
          <p:spPr>
            <a:xfrm>
              <a:off x="8610480" y="3352680"/>
              <a:ext cx="533160" cy="268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716680" y="3352680"/>
              <a:ext cx="32004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3399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8001000" y="6553080"/>
            <a:ext cx="380880" cy="3049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4800600"/>
            <a:ext cx="1905120" cy="824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99"/>
                </a:solidFill>
                <a:latin typeface="Times New Roman"/>
              </a:rPr>
              <a:t>Almacenamiento en Zonas no Satur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28800" y="56386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048120" y="56386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981080" y="5715000"/>
            <a:ext cx="456840" cy="304560"/>
            <a:chOff x="1981080" y="5715000"/>
            <a:chExt cx="456840" cy="304560"/>
          </a:xfrm>
        </p:grpSpPr>
        <p:sp>
          <p:nvSpPr>
            <p:cNvPr id="246" name=""/>
            <p:cNvSpPr/>
            <p:nvPr/>
          </p:nvSpPr>
          <p:spPr>
            <a:xfrm>
              <a:off x="1981080" y="5715000"/>
              <a:ext cx="45684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72160" y="5715000"/>
              <a:ext cx="27432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3399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838080" y="3352680"/>
            <a:ext cx="457200" cy="1905120"/>
          </a:xfrm>
          <a:custGeom>
            <a:avLst/>
            <a:gdLst/>
            <a:ahLst/>
            <a:rect l="l" t="t" r="r" b="b"/>
            <a:pathLst>
              <a:path w="96" h="1200">
                <a:moveTo>
                  <a:pt x="96" y="1200"/>
                </a:moveTo>
                <a:lnTo>
                  <a:pt x="0" y="1200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w="9360">
            <a:solidFill>
              <a:srgbClr val="00cc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066680" y="2655720"/>
            <a:ext cx="2590560" cy="1437840"/>
            <a:chOff x="1066680" y="2655720"/>
            <a:chExt cx="2590560" cy="1437840"/>
          </a:xfrm>
        </p:grpSpPr>
        <p:sp>
          <p:nvSpPr>
            <p:cNvPr id="250" name=""/>
            <p:cNvSpPr/>
            <p:nvPr/>
          </p:nvSpPr>
          <p:spPr>
            <a:xfrm>
              <a:off x="1066680" y="2655720"/>
              <a:ext cx="2590560" cy="14378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Intercepción de la vegetación y Almacenamiento en Folla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Almacenamiento en Zona de raí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66680" y="3609360"/>
              <a:ext cx="2590560" cy="0"/>
            </a:xfrm>
            <a:prstGeom prst="line">
              <a:avLst/>
            </a:prstGeom>
            <a:ln cap="rnd" w="93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2971800" y="2666880"/>
            <a:ext cx="913680" cy="515520"/>
            <a:chOff x="2971800" y="2666880"/>
            <a:chExt cx="913680" cy="515520"/>
          </a:xfrm>
        </p:grpSpPr>
        <p:sp>
          <p:nvSpPr>
            <p:cNvPr id="253" name=""/>
            <p:cNvSpPr/>
            <p:nvPr/>
          </p:nvSpPr>
          <p:spPr>
            <a:xfrm>
              <a:off x="2971800" y="2666880"/>
              <a:ext cx="913680" cy="5155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53960" y="2666880"/>
              <a:ext cx="55260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1219320" y="6095880"/>
            <a:ext cx="2590560" cy="580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99"/>
                </a:solidFill>
                <a:latin typeface="Times New Roman"/>
              </a:rPr>
              <a:t>Almacenamiento en Zonas Satur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1066680"/>
            <a:ext cx="0" cy="15890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048120" y="2057400"/>
            <a:ext cx="609120" cy="337320"/>
            <a:chOff x="3048120" y="2057400"/>
            <a:chExt cx="609120" cy="337320"/>
          </a:xfrm>
        </p:grpSpPr>
        <p:sp>
          <p:nvSpPr>
            <p:cNvPr id="258" name=""/>
            <p:cNvSpPr/>
            <p:nvPr/>
          </p:nvSpPr>
          <p:spPr>
            <a:xfrm>
              <a:off x="3048120" y="2057400"/>
              <a:ext cx="609120" cy="3175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59720" y="2057400"/>
              <a:ext cx="38556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3048120" y="3886200"/>
            <a:ext cx="913680" cy="423360"/>
            <a:chOff x="3048120" y="3886200"/>
            <a:chExt cx="913680" cy="423360"/>
          </a:xfrm>
        </p:grpSpPr>
        <p:sp>
          <p:nvSpPr>
            <p:cNvPr id="261" name=""/>
            <p:cNvSpPr/>
            <p:nvPr/>
          </p:nvSpPr>
          <p:spPr>
            <a:xfrm>
              <a:off x="3048120" y="3886200"/>
              <a:ext cx="913680" cy="423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30280" y="3886200"/>
              <a:ext cx="55260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895480" y="4800600"/>
            <a:ext cx="685440" cy="347400"/>
            <a:chOff x="2895480" y="4800600"/>
            <a:chExt cx="685440" cy="347400"/>
          </a:xfrm>
        </p:grpSpPr>
        <p:sp>
          <p:nvSpPr>
            <p:cNvPr id="264" name=""/>
            <p:cNvSpPr/>
            <p:nvPr/>
          </p:nvSpPr>
          <p:spPr>
            <a:xfrm>
              <a:off x="2895480" y="4800600"/>
              <a:ext cx="685440" cy="3474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31920" y="4800600"/>
              <a:ext cx="41112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200400" y="6508800"/>
            <a:ext cx="685440" cy="348840"/>
            <a:chOff x="3200400" y="6508800"/>
            <a:chExt cx="685440" cy="348840"/>
          </a:xfrm>
        </p:grpSpPr>
        <p:sp>
          <p:nvSpPr>
            <p:cNvPr id="267" name=""/>
            <p:cNvSpPr/>
            <p:nvPr/>
          </p:nvSpPr>
          <p:spPr>
            <a:xfrm>
              <a:off x="3200400" y="6508800"/>
              <a:ext cx="685440" cy="348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36840" y="6508800"/>
              <a:ext cx="41112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3657600" y="318456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57600" y="381960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19720" y="1447920"/>
            <a:ext cx="685800" cy="2371680"/>
          </a:xfrm>
          <a:custGeom>
            <a:avLst/>
            <a:gdLst/>
            <a:ahLst/>
            <a:rect l="l" t="t" r="r" b="b"/>
            <a:pathLst>
              <a:path w="1116" h="1200">
                <a:moveTo>
                  <a:pt x="0" y="1200"/>
                </a:moveTo>
                <a:lnTo>
                  <a:pt x="0" y="432"/>
                </a:lnTo>
                <a:lnTo>
                  <a:pt x="384" y="432"/>
                </a:lnTo>
                <a:lnTo>
                  <a:pt x="384" y="0"/>
                </a:lnTo>
                <a:lnTo>
                  <a:pt x="1116" y="3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1914480"/>
            <a:ext cx="2895480" cy="4446720"/>
          </a:xfrm>
          <a:custGeom>
            <a:avLst/>
            <a:gdLst/>
            <a:ahLst/>
            <a:rect l="l" t="t" r="r" b="b"/>
            <a:pathLst>
              <a:path w="912" h="2016">
                <a:moveTo>
                  <a:pt x="912" y="0"/>
                </a:moveTo>
                <a:lnTo>
                  <a:pt x="3" y="2"/>
                </a:lnTo>
                <a:lnTo>
                  <a:pt x="0" y="2013"/>
                </a:lnTo>
                <a:lnTo>
                  <a:pt x="249" y="201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1905120"/>
            <a:ext cx="0" cy="3504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200400" y="5257800"/>
            <a:ext cx="99072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809880" y="6477120"/>
            <a:ext cx="1067040" cy="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3809520" y="6172200"/>
            <a:ext cx="2057400" cy="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029200" y="1295280"/>
            <a:ext cx="456840" cy="423720"/>
            <a:chOff x="5029200" y="1295280"/>
            <a:chExt cx="456840" cy="423720"/>
          </a:xfrm>
        </p:grpSpPr>
        <p:sp>
          <p:nvSpPr>
            <p:cNvPr id="278" name=""/>
            <p:cNvSpPr/>
            <p:nvPr/>
          </p:nvSpPr>
          <p:spPr>
            <a:xfrm>
              <a:off x="5029200" y="1295280"/>
              <a:ext cx="456840" cy="4237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120280" y="1295280"/>
              <a:ext cx="27432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533520" y="2133720"/>
            <a:ext cx="456840" cy="423360"/>
            <a:chOff x="533520" y="2133720"/>
            <a:chExt cx="456840" cy="423360"/>
          </a:xfrm>
        </p:grpSpPr>
        <p:sp>
          <p:nvSpPr>
            <p:cNvPr id="281" name=""/>
            <p:cNvSpPr/>
            <p:nvPr/>
          </p:nvSpPr>
          <p:spPr>
            <a:xfrm>
              <a:off x="533520" y="2133720"/>
              <a:ext cx="456840" cy="423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4600" y="2133720"/>
              <a:ext cx="27432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228600" y="5791320"/>
            <a:ext cx="533160" cy="423360"/>
            <a:chOff x="228600" y="5791320"/>
            <a:chExt cx="533160" cy="423360"/>
          </a:xfrm>
        </p:grpSpPr>
        <p:sp>
          <p:nvSpPr>
            <p:cNvPr id="284" name=""/>
            <p:cNvSpPr/>
            <p:nvPr/>
          </p:nvSpPr>
          <p:spPr>
            <a:xfrm>
              <a:off x="228600" y="5791320"/>
              <a:ext cx="533160" cy="423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7320" y="5791320"/>
              <a:ext cx="32004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1676520" y="4137120"/>
            <a:ext cx="0" cy="6364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743200" y="4114800"/>
            <a:ext cx="0" cy="6588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295280" y="4267080"/>
            <a:ext cx="533160" cy="317160"/>
            <a:chOff x="1295280" y="4267080"/>
            <a:chExt cx="533160" cy="317160"/>
          </a:xfrm>
        </p:grpSpPr>
        <p:sp>
          <p:nvSpPr>
            <p:cNvPr id="289" name=""/>
            <p:cNvSpPr/>
            <p:nvPr/>
          </p:nvSpPr>
          <p:spPr>
            <a:xfrm>
              <a:off x="1295280" y="4267080"/>
              <a:ext cx="533160" cy="317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01480" y="4267080"/>
              <a:ext cx="32004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114800" y="6324480"/>
            <a:ext cx="533160" cy="317160"/>
            <a:chOff x="4114800" y="6324480"/>
            <a:chExt cx="533160" cy="317160"/>
          </a:xfrm>
        </p:grpSpPr>
        <p:sp>
          <p:nvSpPr>
            <p:cNvPr id="292" name=""/>
            <p:cNvSpPr/>
            <p:nvPr/>
          </p:nvSpPr>
          <p:spPr>
            <a:xfrm>
              <a:off x="4114800" y="6324480"/>
              <a:ext cx="533160" cy="317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21000" y="6324480"/>
              <a:ext cx="32004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4952880" y="6095880"/>
            <a:ext cx="533160" cy="317160"/>
            <a:chOff x="4952880" y="6095880"/>
            <a:chExt cx="533160" cy="317160"/>
          </a:xfrm>
        </p:grpSpPr>
        <p:sp>
          <p:nvSpPr>
            <p:cNvPr id="295" name=""/>
            <p:cNvSpPr/>
            <p:nvPr/>
          </p:nvSpPr>
          <p:spPr>
            <a:xfrm>
              <a:off x="4952880" y="6095880"/>
              <a:ext cx="533160" cy="317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59080" y="6095880"/>
              <a:ext cx="32004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114800" y="5105520"/>
            <a:ext cx="533160" cy="317160"/>
            <a:chOff x="4114800" y="5105520"/>
            <a:chExt cx="533160" cy="317160"/>
          </a:xfrm>
        </p:grpSpPr>
        <p:sp>
          <p:nvSpPr>
            <p:cNvPr id="298" name=""/>
            <p:cNvSpPr/>
            <p:nvPr/>
          </p:nvSpPr>
          <p:spPr>
            <a:xfrm>
              <a:off x="4114800" y="5105520"/>
              <a:ext cx="533160" cy="317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221000" y="5105520"/>
              <a:ext cx="32004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 flipH="1">
            <a:off x="3200040" y="5486400"/>
            <a:ext cx="2057400" cy="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257800" y="5334120"/>
            <a:ext cx="533160" cy="317160"/>
            <a:chOff x="5257800" y="5334120"/>
            <a:chExt cx="533160" cy="317160"/>
          </a:xfrm>
        </p:grpSpPr>
        <p:sp>
          <p:nvSpPr>
            <p:cNvPr id="302" name=""/>
            <p:cNvSpPr/>
            <p:nvPr/>
          </p:nvSpPr>
          <p:spPr>
            <a:xfrm>
              <a:off x="5257800" y="5334120"/>
              <a:ext cx="533160" cy="317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364000" y="5334120"/>
              <a:ext cx="32004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685800" y="5410080"/>
            <a:ext cx="60948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15000" y="5335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C: Flujo de Pp hacia vege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72200" y="1066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E: Flujo de Pp a zonas no satur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15000" y="1828800"/>
            <a:ext cx="266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F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 Flujo de Pp a zonas saturadas y embalse subterrán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38680" y="266688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P: Evaporación desde el follaje y evapotranspi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81480" y="3352680"/>
            <a:ext cx="304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T: Flujo de agua entre Zona No saturada y satu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48520" y="4038480"/>
            <a:ext cx="243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U: Flujo de agua entre Zona de raíces y zona no satu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72200" y="48006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V: Infiltración desde escorrentía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151680" y="5573880"/>
            <a:ext cx="246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W, X: Infiltración desde lag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305400" y="6031080"/>
            <a:ext cx="24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Z: Intercambio con el Océ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" action="ppaction://hlinkshowjump?jump=previousslide"/>
          </p:cNvPr>
          <p:cNvSpPr/>
          <p:nvPr/>
        </p:nvSpPr>
        <p:spPr>
          <a:xfrm>
            <a:off x="8381880" y="66294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1600200"/>
            <a:ext cx="914400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" y="2895480"/>
            <a:ext cx="1905120" cy="824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99"/>
                </a:solidFill>
                <a:latin typeface="Times New Roman"/>
              </a:rPr>
              <a:t>Almacenamiento en Depresiones Superfic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00400" y="2666880"/>
            <a:ext cx="1295280" cy="13107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99"/>
                </a:solidFill>
                <a:latin typeface="Times New Roman"/>
              </a:rPr>
              <a:t>Retención temporal de la escorrentía superfi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34120" y="2666880"/>
            <a:ext cx="1143000" cy="13107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99"/>
                </a:solidFill>
                <a:latin typeface="Times New Roman"/>
              </a:rPr>
              <a:t>Almacenamiento en Lagos, embals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391520" y="3048120"/>
            <a:ext cx="1143000" cy="824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99"/>
                </a:solidFill>
                <a:latin typeface="Times New Roman"/>
              </a:rPr>
              <a:t>Almacenamiento en los cau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1828800"/>
            <a:ext cx="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9000" y="1600200"/>
            <a:ext cx="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638680" y="1600200"/>
            <a:ext cx="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20120" y="1981080"/>
            <a:ext cx="0" cy="10670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143000" y="3809880"/>
            <a:ext cx="0" cy="106704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657600" y="3962520"/>
            <a:ext cx="0" cy="91440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638680" y="3962520"/>
            <a:ext cx="0" cy="16761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3886200"/>
            <a:ext cx="0" cy="121932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3276720"/>
            <a:ext cx="106668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95680" y="3352680"/>
            <a:ext cx="83844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1741320"/>
            <a:ext cx="6611760" cy="1154160"/>
          </a:xfrm>
          <a:custGeom>
            <a:avLst/>
            <a:gdLst/>
            <a:ahLst/>
            <a:rect l="l" t="t" r="r" b="b"/>
            <a:pathLst>
              <a:path w="4165" h="727">
                <a:moveTo>
                  <a:pt x="0" y="727"/>
                </a:moveTo>
                <a:lnTo>
                  <a:pt x="0" y="103"/>
                </a:lnTo>
                <a:lnTo>
                  <a:pt x="4146" y="101"/>
                </a:lnTo>
                <a:lnTo>
                  <a:pt x="4165" y="0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4114800" y="1905120"/>
            <a:ext cx="0" cy="7617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6172200" y="1905120"/>
            <a:ext cx="0" cy="7617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8077320" y="1904760"/>
            <a:ext cx="0" cy="1143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" y="1905120"/>
            <a:ext cx="3049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1447920"/>
            <a:ext cx="3045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24080" y="152388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91520" y="2133720"/>
            <a:ext cx="3045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14400" y="190512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0880" y="464832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685440" y="4876920"/>
            <a:ext cx="2971800" cy="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267080" y="4038480"/>
            <a:ext cx="0" cy="38124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839080" y="411480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5880" y="3962520"/>
            <a:ext cx="0" cy="11430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333760" y="5105520"/>
            <a:ext cx="243828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29200" y="495288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76920" y="5486400"/>
            <a:ext cx="4572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38188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5334120" y="56386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419720"/>
            <a:ext cx="4572000" cy="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7620120" y="3886200"/>
            <a:ext cx="0" cy="53352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924680" y="1447920"/>
            <a:ext cx="3812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477120" y="3429000"/>
            <a:ext cx="91440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590920" y="3124080"/>
            <a:ext cx="3045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800600" y="327672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81680" y="327672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76520" y="3429000"/>
            <a:ext cx="380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191120" y="3200400"/>
            <a:ext cx="3045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3733920"/>
            <a:ext cx="2286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534520" y="373392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839080" y="342900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153280" y="2819520"/>
            <a:ext cx="4572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" y="228600"/>
            <a:ext cx="5029200" cy="337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Times New Roman"/>
              </a:rPr>
              <a:t>G, H, I, J: Flujo de Pp a elementos de almace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33520" y="762120"/>
            <a:ext cx="701028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Times New Roman"/>
              </a:rPr>
              <a:t>L, M,V,Y: Agua almacenada temporalmente como escorrentía superficial (8) puede escurrir hacia depresiones superficiales, lagos, zonas no saturadas, cauces u océano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400800" y="228600"/>
            <a:ext cx="2743200" cy="946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Times New Roman"/>
              </a:rPr>
              <a:t>L,V: Agua almacenada en Depresiones Superficiales (7) puede incorporarse a escorrentía superficial o zonas no satur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" y="6019920"/>
            <a:ext cx="525780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Times New Roman"/>
              </a:rPr>
              <a:t>X, W:Agua almacenada en Lagos (9) y cauces (10) puede incorporarse a Zonas No saturadas o satur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562720" y="5867280"/>
            <a:ext cx="358128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Times New Roman"/>
              </a:rPr>
              <a:t>O: Agua almacenada en los cauces (10) puede incorporarse al Océ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>
            <a:hlinkClick r:id="rId1" action="ppaction://hlinksldjump"/>
          </p:cNvPr>
          <p:cNvSpPr/>
          <p:nvPr/>
        </p:nvSpPr>
        <p:spPr>
          <a:xfrm>
            <a:off x="8305920" y="64771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57200" y="1447920"/>
            <a:ext cx="8381880" cy="337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Times New Roman"/>
              </a:rPr>
              <a:t>Abstracción: se considera sólo aquellos elementos del ciclo que son posibles de cuantific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7312200">
            <a:off x="4342680" y="1828440"/>
            <a:ext cx="685800" cy="762120"/>
          </a:xfrm>
          <a:custGeom>
            <a:avLst/>
            <a:gdLst>
              <a:gd name="textAreaLeft" fmla="*/ 85680 w 685800"/>
              <a:gd name="textAreaRight" fmla="*/ 600120 w 685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828800" y="2666880"/>
            <a:ext cx="396252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ICLO DE 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4495680"/>
            <a:ext cx="2819520" cy="2022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ROCESOS CIC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E ESCORRENT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1143000" y="4648320"/>
            <a:ext cx="1828800" cy="457200"/>
            <a:chOff x="1143000" y="4648320"/>
            <a:chExt cx="1828800" cy="457200"/>
          </a:xfrm>
        </p:grpSpPr>
        <p:sp>
          <p:nvSpPr>
            <p:cNvPr id="373" name=""/>
            <p:cNvSpPr/>
            <p:nvPr/>
          </p:nvSpPr>
          <p:spPr>
            <a:xfrm>
              <a:off x="1143000" y="4648320"/>
              <a:ext cx="1828800" cy="457200"/>
            </a:xfrm>
            <a:custGeom>
              <a:avLst/>
              <a:gdLst>
                <a:gd name="textAreaLeft" fmla="*/ 285480 w 1828800"/>
                <a:gd name="textAreaRight" fmla="*/ 1600200 w 18288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523880" y="472428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Precipit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762120" y="5257800"/>
            <a:ext cx="2361960" cy="533520"/>
            <a:chOff x="762120" y="5257800"/>
            <a:chExt cx="2361960" cy="533520"/>
          </a:xfrm>
        </p:grpSpPr>
        <p:sp>
          <p:nvSpPr>
            <p:cNvPr id="376" name=""/>
            <p:cNvSpPr/>
            <p:nvPr/>
          </p:nvSpPr>
          <p:spPr>
            <a:xfrm>
              <a:off x="762120" y="5257800"/>
              <a:ext cx="2361960" cy="533520"/>
            </a:xfrm>
            <a:custGeom>
              <a:avLst/>
              <a:gdLst>
                <a:gd name="textAreaLeft" fmla="*/ 369000 w 2361960"/>
                <a:gd name="textAreaRight" fmla="*/ 2066760 w 236196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295280" y="541008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3300"/>
                  </a:solidFill>
                  <a:latin typeface="Times New Roman"/>
                </a:rPr>
                <a:t>Radiación Sol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33520" y="5867280"/>
            <a:ext cx="2514600" cy="457200"/>
            <a:chOff x="533520" y="5867280"/>
            <a:chExt cx="2514600" cy="457200"/>
          </a:xfrm>
        </p:grpSpPr>
        <p:sp>
          <p:nvSpPr>
            <p:cNvPr id="379" name=""/>
            <p:cNvSpPr/>
            <p:nvPr/>
          </p:nvSpPr>
          <p:spPr>
            <a:xfrm>
              <a:off x="533520" y="5867280"/>
              <a:ext cx="2514600" cy="457200"/>
            </a:xfrm>
            <a:custGeom>
              <a:avLst/>
              <a:gdLst>
                <a:gd name="textAreaLeft" fmla="*/ 392760 w 2514600"/>
                <a:gd name="textAreaRight" fmla="*/ 2200320 w 2514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23880" y="59436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Grave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943600" y="4419720"/>
            <a:ext cx="2590920" cy="761760"/>
            <a:chOff x="5943600" y="4419720"/>
            <a:chExt cx="2590920" cy="761760"/>
          </a:xfrm>
        </p:grpSpPr>
        <p:sp>
          <p:nvSpPr>
            <p:cNvPr id="382" name=""/>
            <p:cNvSpPr/>
            <p:nvPr/>
          </p:nvSpPr>
          <p:spPr>
            <a:xfrm>
              <a:off x="5943600" y="4419720"/>
              <a:ext cx="2590920" cy="761760"/>
            </a:xfrm>
            <a:custGeom>
              <a:avLst/>
              <a:gdLst>
                <a:gd name="textAreaLeft" fmla="*/ 404640 w 2590920"/>
                <a:gd name="textAreaRight" fmla="*/ 2267280 w 2590920"/>
                <a:gd name="textAreaTop" fmla="*/ 190440 h 761760"/>
                <a:gd name="textAreaBottom" fmla="*/ 5713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553080" y="4572000"/>
              <a:ext cx="1828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Evaporación y Evapotranspir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5943600" y="5257800"/>
            <a:ext cx="2514600" cy="685800"/>
            <a:chOff x="5943600" y="5257800"/>
            <a:chExt cx="2514600" cy="685800"/>
          </a:xfrm>
        </p:grpSpPr>
        <p:sp>
          <p:nvSpPr>
            <p:cNvPr id="385" name=""/>
            <p:cNvSpPr/>
            <p:nvPr/>
          </p:nvSpPr>
          <p:spPr>
            <a:xfrm>
              <a:off x="5943600" y="5257800"/>
              <a:ext cx="2514600" cy="685800"/>
            </a:xfrm>
            <a:custGeom>
              <a:avLst/>
              <a:gdLst>
                <a:gd name="textAreaLeft" fmla="*/ 392760 w 2514600"/>
                <a:gd name="textAreaRight" fmla="*/ 2200320 w 2514600"/>
                <a:gd name="textAreaTop" fmla="*/ 171360 h 685800"/>
                <a:gd name="textAreaBottom" fmla="*/ 51444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24480" y="54100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33cc"/>
                  </a:solidFill>
                  <a:latin typeface="Times New Roman"/>
                </a:rPr>
                <a:t>Escorrentía Superfic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019920" y="5867280"/>
            <a:ext cx="2819160" cy="762120"/>
            <a:chOff x="6019920" y="5867280"/>
            <a:chExt cx="2819160" cy="762120"/>
          </a:xfrm>
        </p:grpSpPr>
        <p:sp>
          <p:nvSpPr>
            <p:cNvPr id="388" name=""/>
            <p:cNvSpPr/>
            <p:nvPr/>
          </p:nvSpPr>
          <p:spPr>
            <a:xfrm>
              <a:off x="6019920" y="5867280"/>
              <a:ext cx="2819160" cy="762120"/>
            </a:xfrm>
            <a:custGeom>
              <a:avLst/>
              <a:gdLst>
                <a:gd name="textAreaLeft" fmla="*/ 440280 w 2819160"/>
                <a:gd name="textAreaRight" fmla="*/ 2467080 w 2819160"/>
                <a:gd name="textAreaTop" fmla="*/ 190440 h 762120"/>
                <a:gd name="textAreaBottom" fmla="*/ 5716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33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53080" y="6095880"/>
              <a:ext cx="221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00"/>
                  </a:solidFill>
                  <a:latin typeface="Times New Roman"/>
                </a:rPr>
                <a:t>Escorrentía Subterrán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0:39:23Z</dcterms:created>
  <dc:creator>Guillermo Osses</dc:creator>
  <dc:description/>
  <dc:language>en-US</dc:language>
  <cp:lastModifiedBy>xv</cp:lastModifiedBy>
  <dcterms:modified xsi:type="dcterms:W3CDTF">2005-07-29T15:04:09Z</dcterms:modified>
  <cp:revision>26</cp:revision>
  <dc:subject/>
  <dc:title>Presentación de PowerPoint</dc:title>
</cp:coreProperties>
</file>