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D763-7322-488C-927C-0B2351EA2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80C4-2A60-4D70-AD0A-AA8D8C49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66A0-35C7-4C2D-8E35-8D3A38A66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9CF2-EE74-45BF-9664-6383E2D66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756A-31ED-4F63-A5FB-08BC6911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2B93-6913-4CAC-982E-8F53F315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82C6-BDC8-4102-9210-67B4C416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157A-2C89-43BA-9830-F6B4968E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ADA2-496F-418F-AF03-DB869B05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95AA-357E-4FDA-94C3-02827B4E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18E5-93B8-4B7D-A384-9E219233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EA3C-7945-45C5-91A5-3E5F7985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FEED-4B70-4711-B0E6-CD2AD70C4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onfluencia" descr=""/>
          <p:cNvPicPr/>
          <p:nvPr/>
        </p:nvPicPr>
        <p:blipFill>
          <a:blip r:embed="rId1"/>
          <a:stretch/>
        </p:blipFill>
        <p:spPr>
          <a:xfrm>
            <a:off x="914400" y="1154160"/>
            <a:ext cx="7010280" cy="5475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00200" y="22860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LANCE HIDROLO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609480" y="6858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Curva Hipsométrica: representación gráfica del área acumulada bajo o sobre una cierta c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57400" y="22860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057400" y="571500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044800" y="2590920"/>
            <a:ext cx="4584600" cy="3124080"/>
          </a:xfrm>
          <a:custGeom>
            <a:avLst/>
            <a:gdLst/>
            <a:ahLst/>
            <a:rect l="l" t="t" r="r" b="b"/>
            <a:pathLst>
              <a:path w="2888" h="1968">
                <a:moveTo>
                  <a:pt x="8" y="0"/>
                </a:moveTo>
                <a:cubicBezTo>
                  <a:pt x="4" y="116"/>
                  <a:pt x="0" y="232"/>
                  <a:pt x="152" y="384"/>
                </a:cubicBezTo>
                <a:cubicBezTo>
                  <a:pt x="304" y="536"/>
                  <a:pt x="616" y="784"/>
                  <a:pt x="920" y="912"/>
                </a:cubicBezTo>
                <a:cubicBezTo>
                  <a:pt x="1224" y="1040"/>
                  <a:pt x="1680" y="1048"/>
                  <a:pt x="1976" y="1152"/>
                </a:cubicBezTo>
                <a:cubicBezTo>
                  <a:pt x="2272" y="1256"/>
                  <a:pt x="2544" y="1400"/>
                  <a:pt x="2696" y="1536"/>
                </a:cubicBezTo>
                <a:cubicBezTo>
                  <a:pt x="2848" y="1672"/>
                  <a:pt x="2856" y="1896"/>
                  <a:pt x="2888" y="19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38080" y="205740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Cota (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477120" y="5943600"/>
            <a:ext cx="2361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"/>
              </a:rPr>
              <a:t>%Área sobre cota 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"/>
              </a:rPr>
              <a:t>Área sobre co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43400" y="190512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Moda de curva es el valor más frecuente (mayor área) del intervalo de cl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133720" y="42670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5866920" y="3962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172200" y="35812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Elevación 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828800" y="2514600"/>
            <a:ext cx="5334120" cy="1295280"/>
          </a:xfrm>
          <a:custGeom>
            <a:avLst/>
            <a:gdLst/>
            <a:ahLst/>
            <a:rect l="l" t="t" r="r" b="b"/>
            <a:pathLst>
              <a:path w="3360" h="816">
                <a:moveTo>
                  <a:pt x="0" y="816"/>
                </a:moveTo>
                <a:lnTo>
                  <a:pt x="1152" y="0"/>
                </a:lnTo>
                <a:lnTo>
                  <a:pt x="3360" y="0"/>
                </a:lnTo>
                <a:lnTo>
                  <a:pt x="2304" y="816"/>
                </a:lnTo>
                <a:lnTo>
                  <a:pt x="144" y="816"/>
                </a:lnTo>
                <a:lnTo>
                  <a:pt x="144" y="624"/>
                </a:lnTo>
                <a:lnTo>
                  <a:pt x="2304" y="624"/>
                </a:lnTo>
                <a:lnTo>
                  <a:pt x="2304" y="816"/>
                </a:ln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2133720"/>
            <a:ext cx="1828800" cy="1676160"/>
          </a:xfrm>
          <a:custGeom>
            <a:avLst/>
            <a:gdLst/>
            <a:ahLst/>
            <a:rect l="l" t="t" r="r" b="b"/>
            <a:pathLst>
              <a:path w="1152" h="1056">
                <a:moveTo>
                  <a:pt x="0" y="1056"/>
                </a:moveTo>
                <a:lnTo>
                  <a:pt x="0" y="816"/>
                </a:lnTo>
                <a:lnTo>
                  <a:pt x="1152" y="0"/>
                </a:lnTo>
                <a:lnTo>
                  <a:pt x="1152" y="240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133720"/>
            <a:ext cx="3505320" cy="3808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657600"/>
            <a:ext cx="457200" cy="609480"/>
          </a:xfrm>
          <a:custGeom>
            <a:avLst/>
            <a:gdLst/>
            <a:ahLst/>
            <a:rect l="l" t="t" r="r" b="b"/>
            <a:pathLst>
              <a:path w="288" h="384">
                <a:moveTo>
                  <a:pt x="288" y="0"/>
                </a:moveTo>
                <a:cubicBezTo>
                  <a:pt x="216" y="40"/>
                  <a:pt x="144" y="80"/>
                  <a:pt x="96" y="144"/>
                </a:cubicBezTo>
                <a:cubicBezTo>
                  <a:pt x="48" y="208"/>
                  <a:pt x="24" y="296"/>
                  <a:pt x="0" y="384"/>
                </a:cubicBezTo>
              </a:path>
            </a:pathLst>
          </a:custGeom>
          <a:solidFill>
            <a:srgbClr val="3333cc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3733920"/>
            <a:ext cx="457200" cy="609480"/>
          </a:xfrm>
          <a:custGeom>
            <a:avLst/>
            <a:gdLst/>
            <a:ahLst/>
            <a:rect l="l" t="t" r="r" b="b"/>
            <a:pathLst>
              <a:path w="288" h="384">
                <a:moveTo>
                  <a:pt x="288" y="0"/>
                </a:moveTo>
                <a:cubicBezTo>
                  <a:pt x="216" y="40"/>
                  <a:pt x="144" y="80"/>
                  <a:pt x="96" y="144"/>
                </a:cubicBezTo>
                <a:cubicBezTo>
                  <a:pt x="48" y="208"/>
                  <a:pt x="24" y="296"/>
                  <a:pt x="0" y="384"/>
                </a:cubicBezTo>
              </a:path>
            </a:pathLst>
          </a:custGeom>
          <a:solidFill>
            <a:srgbClr val="3333cc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3733920"/>
            <a:ext cx="457200" cy="609480"/>
          </a:xfrm>
          <a:custGeom>
            <a:avLst/>
            <a:gdLst/>
            <a:ahLst/>
            <a:rect l="l" t="t" r="r" b="b"/>
            <a:pathLst>
              <a:path w="288" h="384">
                <a:moveTo>
                  <a:pt x="288" y="0"/>
                </a:moveTo>
                <a:cubicBezTo>
                  <a:pt x="216" y="40"/>
                  <a:pt x="144" y="80"/>
                  <a:pt x="96" y="144"/>
                </a:cubicBezTo>
                <a:cubicBezTo>
                  <a:pt x="48" y="208"/>
                  <a:pt x="24" y="296"/>
                  <a:pt x="0" y="384"/>
                </a:cubicBezTo>
              </a:path>
            </a:pathLst>
          </a:custGeom>
          <a:solidFill>
            <a:srgbClr val="3333cc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3809880"/>
            <a:ext cx="457200" cy="609840"/>
          </a:xfrm>
          <a:custGeom>
            <a:avLst/>
            <a:gdLst/>
            <a:ahLst/>
            <a:rect l="l" t="t" r="r" b="b"/>
            <a:pathLst>
              <a:path w="288" h="384">
                <a:moveTo>
                  <a:pt x="288" y="0"/>
                </a:moveTo>
                <a:cubicBezTo>
                  <a:pt x="216" y="40"/>
                  <a:pt x="144" y="80"/>
                  <a:pt x="96" y="144"/>
                </a:cubicBezTo>
                <a:cubicBezTo>
                  <a:pt x="48" y="208"/>
                  <a:pt x="24" y="296"/>
                  <a:pt x="0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3809880"/>
            <a:ext cx="457200" cy="609840"/>
          </a:xfrm>
          <a:custGeom>
            <a:avLst/>
            <a:gdLst/>
            <a:ahLst/>
            <a:rect l="l" t="t" r="r" b="b"/>
            <a:pathLst>
              <a:path w="288" h="384">
                <a:moveTo>
                  <a:pt x="288" y="0"/>
                </a:moveTo>
                <a:cubicBezTo>
                  <a:pt x="216" y="40"/>
                  <a:pt x="144" y="80"/>
                  <a:pt x="96" y="144"/>
                </a:cubicBezTo>
                <a:cubicBezTo>
                  <a:pt x="48" y="208"/>
                  <a:pt x="24" y="296"/>
                  <a:pt x="0" y="384"/>
                </a:cubicBezTo>
              </a:path>
            </a:pathLst>
          </a:custGeom>
          <a:solidFill>
            <a:srgbClr val="3333cc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2362320"/>
            <a:ext cx="5334120" cy="1295280"/>
          </a:xfrm>
          <a:custGeom>
            <a:avLst/>
            <a:gdLst/>
            <a:ahLst/>
            <a:rect l="l" t="t" r="r" b="b"/>
            <a:pathLst>
              <a:path w="3360" h="816">
                <a:moveTo>
                  <a:pt x="0" y="816"/>
                </a:moveTo>
                <a:lnTo>
                  <a:pt x="1152" y="0"/>
                </a:lnTo>
                <a:lnTo>
                  <a:pt x="3360" y="0"/>
                </a:lnTo>
                <a:lnTo>
                  <a:pt x="2304" y="816"/>
                </a:ln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3733920"/>
            <a:ext cx="457200" cy="609480"/>
          </a:xfrm>
          <a:custGeom>
            <a:avLst/>
            <a:gdLst/>
            <a:ahLst/>
            <a:rect l="l" t="t" r="r" b="b"/>
            <a:pathLst>
              <a:path w="288" h="384">
                <a:moveTo>
                  <a:pt x="288" y="0"/>
                </a:moveTo>
                <a:cubicBezTo>
                  <a:pt x="216" y="40"/>
                  <a:pt x="144" y="80"/>
                  <a:pt x="96" y="144"/>
                </a:cubicBezTo>
                <a:cubicBezTo>
                  <a:pt x="48" y="208"/>
                  <a:pt x="24" y="296"/>
                  <a:pt x="0" y="384"/>
                </a:cubicBezTo>
              </a:path>
            </a:pathLst>
          </a:custGeom>
          <a:solidFill>
            <a:srgbClr val="3333cc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400" y="3505320"/>
            <a:ext cx="3429000" cy="3045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86400" y="2209680"/>
            <a:ext cx="1676520" cy="1600200"/>
          </a:xfrm>
          <a:custGeom>
            <a:avLst/>
            <a:gdLst/>
            <a:ahLst/>
            <a:rect l="l" t="t" r="r" b="b"/>
            <a:pathLst>
              <a:path w="1056" h="1008">
                <a:moveTo>
                  <a:pt x="0" y="816"/>
                </a:moveTo>
                <a:lnTo>
                  <a:pt x="1056" y="0"/>
                </a:lnTo>
                <a:lnTo>
                  <a:pt x="1056" y="192"/>
                </a:lnTo>
                <a:lnTo>
                  <a:pt x="0" y="1008"/>
                </a:lnTo>
                <a:lnTo>
                  <a:pt x="0" y="81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3657600"/>
            <a:ext cx="22860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9520" y="4800600"/>
            <a:ext cx="5943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ra que se inicie escorrentía Q debe haber pequeña altura de agua: detención superfi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066320" y="3962520"/>
            <a:ext cx="685800" cy="7617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4724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057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38480" y="22860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48320" y="2133720"/>
            <a:ext cx="228600" cy="761760"/>
          </a:xfrm>
          <a:prstGeom prst="downArrow">
            <a:avLst>
              <a:gd name="adj1" fmla="val 50000"/>
              <a:gd name="adj2" fmla="val 83307"/>
            </a:avLst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76920" y="243828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20968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13716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38080" y="914400"/>
            <a:ext cx="7848720" cy="14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"X" representa los insumos o entradas al sistema por unidad de tiempo, "Y" las salidas por unidad de tiempo y dS/dt es la tasa de variación con el tiempo del almacenamiento de masa o volumen en el siste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P + Q</a:t>
            </a:r>
            <a:r>
              <a:rPr b="1" lang="es-CL" sz="1400" spc="-1" strike="noStrike" baseline="-25000">
                <a:solidFill>
                  <a:srgbClr val="ff3300"/>
                </a:solidFill>
                <a:latin typeface="Verdana"/>
              </a:rPr>
              <a:t>sa</a:t>
            </a: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 + Q</a:t>
            </a:r>
            <a:r>
              <a:rPr b="1" lang="es-CL" sz="1400" spc="-1" strike="noStrike" baseline="-25000">
                <a:solidFill>
                  <a:srgbClr val="ff3300"/>
                </a:solidFill>
                <a:latin typeface="Verdana"/>
              </a:rPr>
              <a:t>za</a:t>
            </a: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 = E + ET + I + Q</a:t>
            </a:r>
            <a:r>
              <a:rPr b="1" lang="es-CL" sz="1400" spc="-1" strike="noStrike" baseline="-25000">
                <a:solidFill>
                  <a:srgbClr val="ff3300"/>
                </a:solidFill>
                <a:latin typeface="Verdana"/>
              </a:rPr>
              <a:t>se</a:t>
            </a: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+ Q</a:t>
            </a:r>
            <a:r>
              <a:rPr b="1" lang="es-CL" sz="1400" spc="-1" strike="noStrike" baseline="-25000">
                <a:solidFill>
                  <a:srgbClr val="ff3300"/>
                </a:solidFill>
                <a:latin typeface="Verdana"/>
              </a:rPr>
              <a:t>ze</a:t>
            </a: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 ± </a:t>
            </a:r>
            <a:r>
              <a:rPr b="1" lang="es-CL" sz="14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S</a:t>
            </a:r>
            <a:r>
              <a:rPr b="1" lang="es-CL" sz="1400" spc="-1" strike="noStrike" baseline="-25000">
                <a:solidFill>
                  <a:srgbClr val="ff3300"/>
                </a:solidFill>
                <a:latin typeface="Verdana"/>
              </a:rPr>
              <a:t>L</a:t>
            </a: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 ± </a:t>
            </a:r>
            <a:r>
              <a:rPr b="1" lang="es-CL" sz="14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S</a:t>
            </a:r>
            <a:r>
              <a:rPr b="1" lang="es-CL" sz="1400" spc="-1" strike="noStrike" baseline="-25000">
                <a:solidFill>
                  <a:srgbClr val="ff3300"/>
                </a:solidFill>
                <a:latin typeface="Verdana"/>
              </a:rPr>
              <a:t>S</a:t>
            </a: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 ± </a:t>
            </a:r>
            <a:r>
              <a:rPr b="1" lang="es-CL" sz="14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S</a:t>
            </a:r>
            <a:r>
              <a:rPr b="1" lang="es-CL" sz="1400" spc="-1" strike="noStrike" baseline="-25000">
                <a:solidFill>
                  <a:srgbClr val="ff3300"/>
                </a:solidFill>
                <a:latin typeface="Verdana"/>
              </a:rPr>
              <a:t>Z</a:t>
            </a: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± </a:t>
            </a:r>
            <a:r>
              <a:rPr b="1" lang="es-CL" sz="14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S</a:t>
            </a:r>
            <a:r>
              <a:rPr b="1" lang="es-CL" sz="1400" spc="-1" strike="noStrike" baseline="-25000">
                <a:solidFill>
                  <a:srgbClr val="ff3300"/>
                </a:solidFill>
                <a:latin typeface="Verdan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-304920" y="2438280"/>
            <a:ext cx="9448920" cy="41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precipitación med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Q</a:t>
            </a:r>
            <a:r>
              <a:rPr b="1" lang="es-CL" sz="1400" spc="-1" strike="noStrike" baseline="-25000">
                <a:solidFill>
                  <a:srgbClr val="3333cc"/>
                </a:solidFill>
                <a:latin typeface="Verdana"/>
              </a:rPr>
              <a:t>sa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gastos superficiales afluentes a la cuenca o subsistema 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(naturales y/o artificiale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Q</a:t>
            </a:r>
            <a:r>
              <a:rPr b="1" lang="es-CL" sz="1400" spc="-1" strike="noStrike" baseline="-25000">
                <a:solidFill>
                  <a:srgbClr val="3333cc"/>
                </a:solidFill>
                <a:latin typeface="Verdana"/>
              </a:rPr>
              <a:t>za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gastos subterráneos afluen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E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evaporación media desde superficies de agua lib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ET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evapotranspiración med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I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retención por intercepción de la precipitación en 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vegeta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Q</a:t>
            </a:r>
            <a:r>
              <a:rPr b="1" lang="es-CL" sz="1400" spc="-1" strike="noStrike" baseline="-25000">
                <a:solidFill>
                  <a:srgbClr val="3333cc"/>
                </a:solidFill>
                <a:latin typeface="Verdana"/>
              </a:rPr>
              <a:t>se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gastos superficiales efluentes de la cuen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Q</a:t>
            </a:r>
            <a:r>
              <a:rPr b="1" lang="es-CL" sz="1400" spc="-1" strike="noStrike" baseline="-25000">
                <a:solidFill>
                  <a:srgbClr val="3333cc"/>
                </a:solidFill>
                <a:latin typeface="Verdana"/>
              </a:rPr>
              <a:t>ze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gastos subterráneos efluen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S</a:t>
            </a:r>
            <a:r>
              <a:rPr b="1" lang="es-CL" sz="1400" spc="-1" strike="noStrike" baseline="-25000">
                <a:solidFill>
                  <a:srgbClr val="3333cc"/>
                </a:solidFill>
                <a:latin typeface="Verdana"/>
              </a:rPr>
              <a:t>L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variación en el período, de los volúmenes de agua almacenada 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superficialmente (lagos, embalses, lagunas, depresiones 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superficiales del terreno, etc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S</a:t>
            </a:r>
            <a:r>
              <a:rPr b="1" lang="es-CL" sz="14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variación del volumen de agua almacenada en los suelos no 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saturados (en forma de humedad del suelo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S</a:t>
            </a:r>
            <a:r>
              <a:rPr b="1" lang="es-CL" sz="1400" spc="-1" strike="noStrike" baseline="-25000">
                <a:solidFill>
                  <a:srgbClr val="3333cc"/>
                </a:solidFill>
                <a:latin typeface="Verdana"/>
              </a:rPr>
              <a:t>Z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variación del almacenamiento subterráneo en los acuífer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S</a:t>
            </a:r>
            <a:r>
              <a:rPr b="1" lang="es-CL" sz="1400" spc="-1" strike="noStrike" baseline="-25000">
                <a:solidFill>
                  <a:srgbClr val="3333cc"/>
                </a:solidFill>
                <a:latin typeface="Verdana"/>
              </a:rPr>
              <a:t>N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variación del agua almacenada en nieves y glaciar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80880"/>
            <a:ext cx="350532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X = Y + dS/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959440" y="2205000"/>
            <a:ext cx="1589040" cy="1073160"/>
          </a:xfrm>
          <a:custGeom>
            <a:avLst/>
            <a:gdLst/>
            <a:ahLst/>
            <a:rect l="l" t="t" r="r" b="b"/>
            <a:pathLst>
              <a:path w="1001" h="676">
                <a:moveTo>
                  <a:pt x="380" y="566"/>
                </a:moveTo>
                <a:cubicBezTo>
                  <a:pt x="324" y="577"/>
                  <a:pt x="309" y="586"/>
                  <a:pt x="247" y="566"/>
                </a:cubicBezTo>
                <a:cubicBezTo>
                  <a:pt x="224" y="559"/>
                  <a:pt x="214" y="529"/>
                  <a:pt x="191" y="522"/>
                </a:cubicBezTo>
                <a:cubicBezTo>
                  <a:pt x="170" y="515"/>
                  <a:pt x="146" y="515"/>
                  <a:pt x="124" y="511"/>
                </a:cubicBezTo>
                <a:cubicBezTo>
                  <a:pt x="117" y="500"/>
                  <a:pt x="107" y="490"/>
                  <a:pt x="102" y="478"/>
                </a:cubicBezTo>
                <a:cubicBezTo>
                  <a:pt x="95" y="460"/>
                  <a:pt x="103" y="437"/>
                  <a:pt x="91" y="422"/>
                </a:cubicBezTo>
                <a:cubicBezTo>
                  <a:pt x="81" y="410"/>
                  <a:pt x="61" y="415"/>
                  <a:pt x="46" y="411"/>
                </a:cubicBezTo>
                <a:cubicBezTo>
                  <a:pt x="4" y="347"/>
                  <a:pt x="0" y="356"/>
                  <a:pt x="35" y="233"/>
                </a:cubicBezTo>
                <a:cubicBezTo>
                  <a:pt x="36" y="229"/>
                  <a:pt x="92" y="216"/>
                  <a:pt x="113" y="211"/>
                </a:cubicBezTo>
                <a:cubicBezTo>
                  <a:pt x="84" y="124"/>
                  <a:pt x="142" y="123"/>
                  <a:pt x="213" y="111"/>
                </a:cubicBezTo>
                <a:cubicBezTo>
                  <a:pt x="217" y="92"/>
                  <a:pt x="213" y="71"/>
                  <a:pt x="224" y="55"/>
                </a:cubicBezTo>
                <a:cubicBezTo>
                  <a:pt x="231" y="45"/>
                  <a:pt x="246" y="45"/>
                  <a:pt x="258" y="44"/>
                </a:cubicBezTo>
                <a:cubicBezTo>
                  <a:pt x="313" y="38"/>
                  <a:pt x="369" y="37"/>
                  <a:pt x="424" y="33"/>
                </a:cubicBezTo>
                <a:cubicBezTo>
                  <a:pt x="482" y="19"/>
                  <a:pt x="488" y="8"/>
                  <a:pt x="547" y="22"/>
                </a:cubicBezTo>
                <a:cubicBezTo>
                  <a:pt x="613" y="121"/>
                  <a:pt x="680" y="0"/>
                  <a:pt x="747" y="100"/>
                </a:cubicBezTo>
                <a:cubicBezTo>
                  <a:pt x="774" y="181"/>
                  <a:pt x="731" y="86"/>
                  <a:pt x="858" y="144"/>
                </a:cubicBezTo>
                <a:cubicBezTo>
                  <a:pt x="873" y="151"/>
                  <a:pt x="874" y="173"/>
                  <a:pt x="880" y="189"/>
                </a:cubicBezTo>
                <a:cubicBezTo>
                  <a:pt x="889" y="211"/>
                  <a:pt x="895" y="233"/>
                  <a:pt x="902" y="255"/>
                </a:cubicBezTo>
                <a:cubicBezTo>
                  <a:pt x="907" y="270"/>
                  <a:pt x="932" y="262"/>
                  <a:pt x="947" y="266"/>
                </a:cubicBezTo>
                <a:cubicBezTo>
                  <a:pt x="1001" y="322"/>
                  <a:pt x="976" y="357"/>
                  <a:pt x="969" y="444"/>
                </a:cubicBezTo>
                <a:cubicBezTo>
                  <a:pt x="965" y="492"/>
                  <a:pt x="974" y="543"/>
                  <a:pt x="958" y="589"/>
                </a:cubicBezTo>
                <a:cubicBezTo>
                  <a:pt x="953" y="604"/>
                  <a:pt x="928" y="596"/>
                  <a:pt x="913" y="600"/>
                </a:cubicBezTo>
                <a:cubicBezTo>
                  <a:pt x="891" y="607"/>
                  <a:pt x="847" y="622"/>
                  <a:pt x="847" y="622"/>
                </a:cubicBezTo>
                <a:cubicBezTo>
                  <a:pt x="791" y="676"/>
                  <a:pt x="755" y="652"/>
                  <a:pt x="669" y="644"/>
                </a:cubicBezTo>
                <a:cubicBezTo>
                  <a:pt x="662" y="622"/>
                  <a:pt x="647" y="577"/>
                  <a:pt x="647" y="577"/>
                </a:cubicBez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609480"/>
            <a:ext cx="685800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ISTEMA SUELO-AGUA-PLA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3505320"/>
            <a:ext cx="7391520" cy="185760"/>
          </a:xfrm>
          <a:custGeom>
            <a:avLst/>
            <a:gdLst/>
            <a:ahLst/>
            <a:rect l="l" t="t" r="r" b="b"/>
            <a:pathLst>
              <a:path w="4656" h="117">
                <a:moveTo>
                  <a:pt x="0" y="34"/>
                </a:moveTo>
                <a:cubicBezTo>
                  <a:pt x="98" y="0"/>
                  <a:pt x="43" y="8"/>
                  <a:pt x="166" y="22"/>
                </a:cubicBezTo>
                <a:cubicBezTo>
                  <a:pt x="218" y="41"/>
                  <a:pt x="254" y="58"/>
                  <a:pt x="311" y="67"/>
                </a:cubicBezTo>
                <a:cubicBezTo>
                  <a:pt x="433" y="63"/>
                  <a:pt x="555" y="65"/>
                  <a:pt x="677" y="56"/>
                </a:cubicBezTo>
                <a:cubicBezTo>
                  <a:pt x="700" y="54"/>
                  <a:pt x="721" y="35"/>
                  <a:pt x="744" y="34"/>
                </a:cubicBezTo>
                <a:cubicBezTo>
                  <a:pt x="814" y="30"/>
                  <a:pt x="885" y="26"/>
                  <a:pt x="955" y="22"/>
                </a:cubicBezTo>
                <a:cubicBezTo>
                  <a:pt x="1083" y="49"/>
                  <a:pt x="1102" y="48"/>
                  <a:pt x="1278" y="56"/>
                </a:cubicBezTo>
                <a:cubicBezTo>
                  <a:pt x="1421" y="104"/>
                  <a:pt x="1584" y="61"/>
                  <a:pt x="1733" y="45"/>
                </a:cubicBezTo>
                <a:cubicBezTo>
                  <a:pt x="1759" y="39"/>
                  <a:pt x="1784" y="22"/>
                  <a:pt x="1811" y="22"/>
                </a:cubicBezTo>
                <a:cubicBezTo>
                  <a:pt x="1868" y="22"/>
                  <a:pt x="1913" y="51"/>
                  <a:pt x="1967" y="56"/>
                </a:cubicBezTo>
                <a:cubicBezTo>
                  <a:pt x="2033" y="62"/>
                  <a:pt x="2100" y="65"/>
                  <a:pt x="2167" y="67"/>
                </a:cubicBezTo>
                <a:cubicBezTo>
                  <a:pt x="2356" y="72"/>
                  <a:pt x="2544" y="74"/>
                  <a:pt x="2733" y="78"/>
                </a:cubicBezTo>
                <a:cubicBezTo>
                  <a:pt x="2892" y="117"/>
                  <a:pt x="3183" y="46"/>
                  <a:pt x="3356" y="34"/>
                </a:cubicBezTo>
                <a:cubicBezTo>
                  <a:pt x="3408" y="38"/>
                  <a:pt x="3460" y="39"/>
                  <a:pt x="3511" y="45"/>
                </a:cubicBezTo>
                <a:cubicBezTo>
                  <a:pt x="3546" y="49"/>
                  <a:pt x="3576" y="77"/>
                  <a:pt x="3611" y="78"/>
                </a:cubicBezTo>
                <a:cubicBezTo>
                  <a:pt x="3959" y="85"/>
                  <a:pt x="4308" y="78"/>
                  <a:pt x="4656" y="78"/>
                </a:cubicBezTo>
              </a:path>
            </a:pathLst>
          </a:custGeom>
          <a:noFill/>
          <a:ln w="2844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3276720"/>
            <a:ext cx="0" cy="2286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3352680"/>
            <a:ext cx="0" cy="2286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971800" y="3200400"/>
            <a:ext cx="1295280" cy="380880"/>
            <a:chOff x="2971800" y="3200400"/>
            <a:chExt cx="1295280" cy="380880"/>
          </a:xfrm>
        </p:grpSpPr>
        <p:sp>
          <p:nvSpPr>
            <p:cNvPr id="74" name=""/>
            <p:cNvSpPr/>
            <p:nvPr/>
          </p:nvSpPr>
          <p:spPr>
            <a:xfrm>
              <a:off x="2971800" y="3428640"/>
              <a:ext cx="0" cy="75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352680" y="335268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04960" y="3200400"/>
              <a:ext cx="0" cy="3808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657600" y="335268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124080" y="3428640"/>
              <a:ext cx="0" cy="75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962160" y="335268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733560" y="3200400"/>
              <a:ext cx="0" cy="3808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67080" y="335268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362320" y="3276720"/>
            <a:ext cx="1295280" cy="380880"/>
            <a:chOff x="2362320" y="3276720"/>
            <a:chExt cx="1295280" cy="380880"/>
          </a:xfrm>
        </p:grpSpPr>
        <p:sp>
          <p:nvSpPr>
            <p:cNvPr id="83" name=""/>
            <p:cNvSpPr/>
            <p:nvPr/>
          </p:nvSpPr>
          <p:spPr>
            <a:xfrm>
              <a:off x="2362320" y="3504960"/>
              <a:ext cx="0" cy="75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4320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895480" y="3276720"/>
              <a:ext cx="0" cy="3808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04812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14600" y="3504960"/>
              <a:ext cx="0" cy="75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5268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24080" y="3276720"/>
              <a:ext cx="0" cy="3808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65760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362320" y="3124080"/>
            <a:ext cx="1295280" cy="381240"/>
            <a:chOff x="2362320" y="3124080"/>
            <a:chExt cx="1295280" cy="381240"/>
          </a:xfrm>
        </p:grpSpPr>
        <p:sp>
          <p:nvSpPr>
            <p:cNvPr id="92" name=""/>
            <p:cNvSpPr/>
            <p:nvPr/>
          </p:nvSpPr>
          <p:spPr>
            <a:xfrm>
              <a:off x="2362320" y="3352680"/>
              <a:ext cx="0" cy="7632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43200" y="3276720"/>
              <a:ext cx="0" cy="2286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895480" y="3124080"/>
              <a:ext cx="0" cy="381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048120" y="3276720"/>
              <a:ext cx="0" cy="2286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514600" y="3352680"/>
              <a:ext cx="0" cy="7632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352680" y="3276720"/>
              <a:ext cx="0" cy="2286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124080" y="3124080"/>
              <a:ext cx="0" cy="381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657600" y="3276720"/>
              <a:ext cx="0" cy="2286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514600" y="3276720"/>
            <a:ext cx="1295280" cy="380880"/>
            <a:chOff x="2514600" y="3276720"/>
            <a:chExt cx="1295280" cy="380880"/>
          </a:xfrm>
        </p:grpSpPr>
        <p:sp>
          <p:nvSpPr>
            <p:cNvPr id="101" name=""/>
            <p:cNvSpPr/>
            <p:nvPr/>
          </p:nvSpPr>
          <p:spPr>
            <a:xfrm>
              <a:off x="2514600" y="3504960"/>
              <a:ext cx="0" cy="75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89548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047760" y="3276720"/>
              <a:ext cx="0" cy="3808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20040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66880" y="3504960"/>
              <a:ext cx="0" cy="75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0496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76360" y="3276720"/>
              <a:ext cx="0" cy="3808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0988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666880" y="3276720"/>
            <a:ext cx="1295280" cy="380880"/>
            <a:chOff x="2666880" y="3276720"/>
            <a:chExt cx="1295280" cy="380880"/>
          </a:xfrm>
        </p:grpSpPr>
        <p:sp>
          <p:nvSpPr>
            <p:cNvPr id="110" name=""/>
            <p:cNvSpPr/>
            <p:nvPr/>
          </p:nvSpPr>
          <p:spPr>
            <a:xfrm>
              <a:off x="2666880" y="3504960"/>
              <a:ext cx="0" cy="75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776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00040" y="3276720"/>
              <a:ext cx="0" cy="3808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35268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19160" y="3504960"/>
              <a:ext cx="0" cy="75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65724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28640" y="3276720"/>
              <a:ext cx="0" cy="3808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6216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378480" y="2712960"/>
            <a:ext cx="890640" cy="903240"/>
          </a:xfrm>
          <a:custGeom>
            <a:avLst/>
            <a:gdLst/>
            <a:ahLst/>
            <a:rect l="l" t="t" r="r" b="b"/>
            <a:pathLst>
              <a:path w="561" h="569">
                <a:moveTo>
                  <a:pt x="94" y="546"/>
                </a:moveTo>
                <a:cubicBezTo>
                  <a:pt x="103" y="483"/>
                  <a:pt x="104" y="453"/>
                  <a:pt x="138" y="402"/>
                </a:cubicBezTo>
                <a:cubicBezTo>
                  <a:pt x="142" y="372"/>
                  <a:pt x="141" y="342"/>
                  <a:pt x="149" y="313"/>
                </a:cubicBezTo>
                <a:cubicBezTo>
                  <a:pt x="152" y="300"/>
                  <a:pt x="171" y="293"/>
                  <a:pt x="171" y="280"/>
                </a:cubicBezTo>
                <a:cubicBezTo>
                  <a:pt x="171" y="269"/>
                  <a:pt x="156" y="265"/>
                  <a:pt x="149" y="257"/>
                </a:cubicBezTo>
                <a:cubicBezTo>
                  <a:pt x="112" y="210"/>
                  <a:pt x="148" y="229"/>
                  <a:pt x="83" y="213"/>
                </a:cubicBezTo>
                <a:cubicBezTo>
                  <a:pt x="67" y="170"/>
                  <a:pt x="55" y="150"/>
                  <a:pt x="16" y="124"/>
                </a:cubicBezTo>
                <a:cubicBezTo>
                  <a:pt x="12" y="113"/>
                  <a:pt x="0" y="101"/>
                  <a:pt x="5" y="91"/>
                </a:cubicBezTo>
                <a:cubicBezTo>
                  <a:pt x="18" y="66"/>
                  <a:pt x="58" y="87"/>
                  <a:pt x="71" y="91"/>
                </a:cubicBezTo>
                <a:cubicBezTo>
                  <a:pt x="88" y="107"/>
                  <a:pt x="98" y="131"/>
                  <a:pt x="116" y="146"/>
                </a:cubicBezTo>
                <a:cubicBezTo>
                  <a:pt x="120" y="149"/>
                  <a:pt x="179" y="168"/>
                  <a:pt x="183" y="169"/>
                </a:cubicBezTo>
                <a:cubicBezTo>
                  <a:pt x="215" y="72"/>
                  <a:pt x="215" y="132"/>
                  <a:pt x="183" y="69"/>
                </a:cubicBezTo>
                <a:cubicBezTo>
                  <a:pt x="178" y="58"/>
                  <a:pt x="175" y="46"/>
                  <a:pt x="171" y="35"/>
                </a:cubicBezTo>
                <a:cubicBezTo>
                  <a:pt x="179" y="28"/>
                  <a:pt x="183" y="13"/>
                  <a:pt x="194" y="13"/>
                </a:cubicBezTo>
                <a:cubicBezTo>
                  <a:pt x="217" y="13"/>
                  <a:pt x="260" y="35"/>
                  <a:pt x="260" y="35"/>
                </a:cubicBezTo>
                <a:cubicBezTo>
                  <a:pt x="340" y="9"/>
                  <a:pt x="347" y="0"/>
                  <a:pt x="294" y="35"/>
                </a:cubicBezTo>
                <a:cubicBezTo>
                  <a:pt x="298" y="76"/>
                  <a:pt x="280" y="125"/>
                  <a:pt x="305" y="158"/>
                </a:cubicBezTo>
                <a:cubicBezTo>
                  <a:pt x="319" y="176"/>
                  <a:pt x="371" y="135"/>
                  <a:pt x="371" y="135"/>
                </a:cubicBezTo>
                <a:cubicBezTo>
                  <a:pt x="379" y="128"/>
                  <a:pt x="384" y="118"/>
                  <a:pt x="394" y="113"/>
                </a:cubicBezTo>
                <a:cubicBezTo>
                  <a:pt x="415" y="103"/>
                  <a:pt x="460" y="91"/>
                  <a:pt x="460" y="91"/>
                </a:cubicBezTo>
                <a:cubicBezTo>
                  <a:pt x="464" y="102"/>
                  <a:pt x="475" y="113"/>
                  <a:pt x="471" y="124"/>
                </a:cubicBezTo>
                <a:cubicBezTo>
                  <a:pt x="466" y="136"/>
                  <a:pt x="448" y="138"/>
                  <a:pt x="438" y="146"/>
                </a:cubicBezTo>
                <a:cubicBezTo>
                  <a:pt x="430" y="153"/>
                  <a:pt x="423" y="161"/>
                  <a:pt x="416" y="169"/>
                </a:cubicBezTo>
                <a:cubicBezTo>
                  <a:pt x="427" y="176"/>
                  <a:pt x="436" y="188"/>
                  <a:pt x="449" y="191"/>
                </a:cubicBezTo>
                <a:cubicBezTo>
                  <a:pt x="482" y="199"/>
                  <a:pt x="519" y="187"/>
                  <a:pt x="549" y="202"/>
                </a:cubicBezTo>
                <a:cubicBezTo>
                  <a:pt x="561" y="208"/>
                  <a:pt x="528" y="218"/>
                  <a:pt x="516" y="224"/>
                </a:cubicBezTo>
                <a:cubicBezTo>
                  <a:pt x="506" y="229"/>
                  <a:pt x="494" y="233"/>
                  <a:pt x="483" y="235"/>
                </a:cubicBezTo>
                <a:cubicBezTo>
                  <a:pt x="446" y="241"/>
                  <a:pt x="408" y="242"/>
                  <a:pt x="371" y="246"/>
                </a:cubicBezTo>
                <a:cubicBezTo>
                  <a:pt x="333" y="259"/>
                  <a:pt x="316" y="280"/>
                  <a:pt x="283" y="302"/>
                </a:cubicBezTo>
                <a:cubicBezTo>
                  <a:pt x="238" y="427"/>
                  <a:pt x="238" y="429"/>
                  <a:pt x="238" y="569"/>
                </a:cubicBezTo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657600" y="1600200"/>
            <a:ext cx="990720" cy="612000"/>
            <a:chOff x="3657600" y="1600200"/>
            <a:chExt cx="990720" cy="612000"/>
          </a:xfrm>
        </p:grpSpPr>
        <p:sp>
          <p:nvSpPr>
            <p:cNvPr id="120" name=""/>
            <p:cNvSpPr/>
            <p:nvPr/>
          </p:nvSpPr>
          <p:spPr>
            <a:xfrm>
              <a:off x="3657600" y="1600200"/>
              <a:ext cx="609480" cy="53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67080" y="17524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248520" y="1371600"/>
            <a:ext cx="990000" cy="612000"/>
            <a:chOff x="6248520" y="1371600"/>
            <a:chExt cx="990000" cy="612000"/>
          </a:xfrm>
        </p:grpSpPr>
        <p:sp>
          <p:nvSpPr>
            <p:cNvPr id="123" name=""/>
            <p:cNvSpPr/>
            <p:nvPr/>
          </p:nvSpPr>
          <p:spPr>
            <a:xfrm>
              <a:off x="6248520" y="1371600"/>
              <a:ext cx="609120" cy="53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857640" y="1523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11480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86400" y="2286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14800" y="3352680"/>
            <a:ext cx="0" cy="6858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3962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574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464832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49528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4419720"/>
            <a:ext cx="0" cy="914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76400" y="6075360"/>
            <a:ext cx="7039080" cy="434880"/>
          </a:xfrm>
          <a:custGeom>
            <a:avLst/>
            <a:gdLst/>
            <a:ahLst/>
            <a:rect l="l" t="t" r="r" b="b"/>
            <a:pathLst>
              <a:path w="4434" h="274">
                <a:moveTo>
                  <a:pt x="0" y="28"/>
                </a:moveTo>
                <a:cubicBezTo>
                  <a:pt x="70" y="32"/>
                  <a:pt x="141" y="33"/>
                  <a:pt x="211" y="39"/>
                </a:cubicBezTo>
                <a:cubicBezTo>
                  <a:pt x="358" y="52"/>
                  <a:pt x="139" y="43"/>
                  <a:pt x="267" y="73"/>
                </a:cubicBezTo>
                <a:cubicBezTo>
                  <a:pt x="307" y="82"/>
                  <a:pt x="348" y="80"/>
                  <a:pt x="389" y="84"/>
                </a:cubicBezTo>
                <a:cubicBezTo>
                  <a:pt x="506" y="107"/>
                  <a:pt x="531" y="104"/>
                  <a:pt x="678" y="95"/>
                </a:cubicBezTo>
                <a:cubicBezTo>
                  <a:pt x="875" y="56"/>
                  <a:pt x="518" y="124"/>
                  <a:pt x="1067" y="73"/>
                </a:cubicBezTo>
                <a:cubicBezTo>
                  <a:pt x="1092" y="71"/>
                  <a:pt x="1110" y="47"/>
                  <a:pt x="1133" y="39"/>
                </a:cubicBezTo>
                <a:cubicBezTo>
                  <a:pt x="1213" y="47"/>
                  <a:pt x="1278" y="64"/>
                  <a:pt x="1356" y="73"/>
                </a:cubicBezTo>
                <a:cubicBezTo>
                  <a:pt x="1430" y="81"/>
                  <a:pt x="1578" y="95"/>
                  <a:pt x="1578" y="95"/>
                </a:cubicBezTo>
                <a:cubicBezTo>
                  <a:pt x="1811" y="92"/>
                  <a:pt x="2310" y="274"/>
                  <a:pt x="2545" y="39"/>
                </a:cubicBezTo>
                <a:cubicBezTo>
                  <a:pt x="2769" y="84"/>
                  <a:pt x="2703" y="74"/>
                  <a:pt x="3067" y="84"/>
                </a:cubicBezTo>
                <a:cubicBezTo>
                  <a:pt x="3421" y="61"/>
                  <a:pt x="3435" y="59"/>
                  <a:pt x="3956" y="50"/>
                </a:cubicBezTo>
                <a:cubicBezTo>
                  <a:pt x="4107" y="0"/>
                  <a:pt x="4284" y="39"/>
                  <a:pt x="4434" y="39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3124080"/>
            <a:ext cx="609840" cy="3200400"/>
          </a:xfrm>
          <a:custGeom>
            <a:avLst/>
            <a:gdLst/>
            <a:ahLst/>
            <a:rect l="l" t="t" r="r" b="b"/>
            <a:pathLst>
              <a:path w="384" h="2016">
                <a:moveTo>
                  <a:pt x="192" y="0"/>
                </a:moveTo>
                <a:lnTo>
                  <a:pt x="192" y="480"/>
                </a:lnTo>
                <a:lnTo>
                  <a:pt x="288" y="624"/>
                </a:lnTo>
                <a:lnTo>
                  <a:pt x="0" y="672"/>
                </a:lnTo>
                <a:lnTo>
                  <a:pt x="384" y="1248"/>
                </a:lnTo>
                <a:lnTo>
                  <a:pt x="288" y="1344"/>
                </a:lnTo>
                <a:lnTo>
                  <a:pt x="384" y="1488"/>
                </a:lnTo>
                <a:lnTo>
                  <a:pt x="0" y="1632"/>
                </a:lnTo>
                <a:lnTo>
                  <a:pt x="240" y="1632"/>
                </a:lnTo>
                <a:lnTo>
                  <a:pt x="240" y="201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8080" y="5549760"/>
            <a:ext cx="7239240" cy="88920"/>
          </a:xfrm>
          <a:custGeom>
            <a:avLst/>
            <a:gdLst/>
            <a:ahLst/>
            <a:rect l="l" t="t" r="r" b="b"/>
            <a:pathLst>
              <a:path w="4560" h="56">
                <a:moveTo>
                  <a:pt x="144" y="8"/>
                </a:moveTo>
                <a:cubicBezTo>
                  <a:pt x="160" y="32"/>
                  <a:pt x="176" y="56"/>
                  <a:pt x="240" y="56"/>
                </a:cubicBezTo>
                <a:cubicBezTo>
                  <a:pt x="304" y="56"/>
                  <a:pt x="456" y="16"/>
                  <a:pt x="528" y="8"/>
                </a:cubicBezTo>
                <a:cubicBezTo>
                  <a:pt x="600" y="0"/>
                  <a:pt x="0" y="8"/>
                  <a:pt x="672" y="8"/>
                </a:cubicBezTo>
                <a:cubicBezTo>
                  <a:pt x="1344" y="8"/>
                  <a:pt x="2952" y="8"/>
                  <a:pt x="4560" y="8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257800" y="5638680"/>
            <a:ext cx="3049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4120" y="5715000"/>
            <a:ext cx="1522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52680" y="5715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848720" y="3048120"/>
            <a:ext cx="761760" cy="3657600"/>
          </a:xfrm>
          <a:custGeom>
            <a:avLst/>
            <a:gdLst/>
            <a:ahLst/>
            <a:rect l="l" t="t" r="r" b="b"/>
            <a:pathLst>
              <a:path w="480" h="2304">
                <a:moveTo>
                  <a:pt x="288" y="0"/>
                </a:moveTo>
                <a:lnTo>
                  <a:pt x="288" y="576"/>
                </a:lnTo>
                <a:lnTo>
                  <a:pt x="384" y="720"/>
                </a:lnTo>
                <a:lnTo>
                  <a:pt x="96" y="816"/>
                </a:lnTo>
                <a:lnTo>
                  <a:pt x="336" y="1008"/>
                </a:lnTo>
                <a:lnTo>
                  <a:pt x="96" y="1200"/>
                </a:lnTo>
                <a:lnTo>
                  <a:pt x="480" y="1440"/>
                </a:lnTo>
                <a:lnTo>
                  <a:pt x="0" y="1632"/>
                </a:lnTo>
                <a:lnTo>
                  <a:pt x="240" y="1872"/>
                </a:lnTo>
                <a:lnTo>
                  <a:pt x="144" y="1968"/>
                </a:lnTo>
                <a:lnTo>
                  <a:pt x="144" y="23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3352680"/>
            <a:ext cx="9907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5943600"/>
            <a:ext cx="9907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3429000"/>
            <a:ext cx="9903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0120" y="5867280"/>
            <a:ext cx="9903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380880" cy="380880"/>
          </a:xfrm>
          <a:custGeom>
            <a:avLst/>
            <a:gdLst>
              <a:gd name="textAreaLeft" fmla="*/ 127080 w 380880"/>
              <a:gd name="textAreaRight" fmla="*/ 326520 w 38088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2743200"/>
            <a:ext cx="76320" cy="762120"/>
          </a:xfrm>
          <a:prstGeom prst="upArrow">
            <a:avLst>
              <a:gd name="adj1" fmla="val 50000"/>
              <a:gd name="adj2" fmla="val 2496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27432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1880" y="28954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81880" y="59436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50292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66"/>
                </a:solidFill>
                <a:latin typeface="Times New Roman"/>
              </a:rPr>
              <a:t>Napa subterrá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5486040" y="5334120"/>
            <a:ext cx="228600" cy="22860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52680" y="2590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67480" y="1905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15000" y="40384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Zona radi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48769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Zona de perco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nextslide"/>
          </p:cNvPr>
          <p:cNvSpPr/>
          <p:nvPr/>
        </p:nvSpPr>
        <p:spPr>
          <a:xfrm>
            <a:off x="2057400" y="6338880"/>
            <a:ext cx="137160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523880" y="3886200"/>
            <a:ext cx="6553440" cy="579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+E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+ES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= ET+EI2+ES2+ In +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+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8229600" y="60958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38400">
            <a:off x="2360520" y="4039920"/>
            <a:ext cx="304560" cy="1676520"/>
          </a:xfrm>
          <a:custGeom>
            <a:avLst/>
            <a:gdLst>
              <a:gd name="textAreaLeft" fmla="*/ 194760 w 304560"/>
              <a:gd name="textAreaRight" fmla="*/ 304920 w 30456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5308800">
            <a:off x="4457160" y="2327040"/>
            <a:ext cx="380880" cy="2133720"/>
          </a:xfrm>
          <a:custGeom>
            <a:avLst/>
            <a:gdLst>
              <a:gd name="textAreaLeft" fmla="*/ 243360 w 380880"/>
              <a:gd name="textAreaRight" fmla="*/ 381240 w 38088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6238400">
            <a:off x="6705360" y="3803040"/>
            <a:ext cx="304920" cy="1828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47920" y="5562720"/>
            <a:ext cx="236196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ENTR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62320" y="5105520"/>
            <a:ext cx="304560" cy="380880"/>
          </a:xfrm>
          <a:prstGeom prst="downArrow">
            <a:avLst>
              <a:gd name="adj1" fmla="val 50000"/>
              <a:gd name="adj2" fmla="val 31265"/>
            </a:avLst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95680" y="2666880"/>
            <a:ext cx="381240" cy="457200"/>
          </a:xfrm>
          <a:prstGeom prst="upArrow">
            <a:avLst>
              <a:gd name="adj1" fmla="val 50000"/>
              <a:gd name="adj2" fmla="val 29981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9880" y="1828800"/>
            <a:ext cx="1981440" cy="520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AL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81680" y="4876920"/>
            <a:ext cx="53352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57800" y="5562720"/>
            <a:ext cx="2971800" cy="7038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VARIACIONES ALMACE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959440" y="2205000"/>
            <a:ext cx="1589040" cy="1073160"/>
          </a:xfrm>
          <a:custGeom>
            <a:avLst/>
            <a:gdLst/>
            <a:ahLst/>
            <a:rect l="l" t="t" r="r" b="b"/>
            <a:pathLst>
              <a:path w="1001" h="676">
                <a:moveTo>
                  <a:pt x="380" y="566"/>
                </a:moveTo>
                <a:cubicBezTo>
                  <a:pt x="324" y="577"/>
                  <a:pt x="309" y="586"/>
                  <a:pt x="247" y="566"/>
                </a:cubicBezTo>
                <a:cubicBezTo>
                  <a:pt x="224" y="559"/>
                  <a:pt x="214" y="529"/>
                  <a:pt x="191" y="522"/>
                </a:cubicBezTo>
                <a:cubicBezTo>
                  <a:pt x="170" y="515"/>
                  <a:pt x="146" y="515"/>
                  <a:pt x="124" y="511"/>
                </a:cubicBezTo>
                <a:cubicBezTo>
                  <a:pt x="117" y="500"/>
                  <a:pt x="107" y="490"/>
                  <a:pt x="102" y="478"/>
                </a:cubicBezTo>
                <a:cubicBezTo>
                  <a:pt x="95" y="460"/>
                  <a:pt x="103" y="437"/>
                  <a:pt x="91" y="422"/>
                </a:cubicBezTo>
                <a:cubicBezTo>
                  <a:pt x="81" y="410"/>
                  <a:pt x="61" y="415"/>
                  <a:pt x="46" y="411"/>
                </a:cubicBezTo>
                <a:cubicBezTo>
                  <a:pt x="4" y="347"/>
                  <a:pt x="0" y="356"/>
                  <a:pt x="35" y="233"/>
                </a:cubicBezTo>
                <a:cubicBezTo>
                  <a:pt x="36" y="229"/>
                  <a:pt x="92" y="216"/>
                  <a:pt x="113" y="211"/>
                </a:cubicBezTo>
                <a:cubicBezTo>
                  <a:pt x="84" y="124"/>
                  <a:pt x="142" y="123"/>
                  <a:pt x="213" y="111"/>
                </a:cubicBezTo>
                <a:cubicBezTo>
                  <a:pt x="217" y="92"/>
                  <a:pt x="213" y="71"/>
                  <a:pt x="224" y="55"/>
                </a:cubicBezTo>
                <a:cubicBezTo>
                  <a:pt x="231" y="45"/>
                  <a:pt x="246" y="45"/>
                  <a:pt x="258" y="44"/>
                </a:cubicBezTo>
                <a:cubicBezTo>
                  <a:pt x="313" y="38"/>
                  <a:pt x="369" y="37"/>
                  <a:pt x="424" y="33"/>
                </a:cubicBezTo>
                <a:cubicBezTo>
                  <a:pt x="482" y="19"/>
                  <a:pt x="488" y="8"/>
                  <a:pt x="547" y="22"/>
                </a:cubicBezTo>
                <a:cubicBezTo>
                  <a:pt x="613" y="121"/>
                  <a:pt x="680" y="0"/>
                  <a:pt x="747" y="100"/>
                </a:cubicBezTo>
                <a:cubicBezTo>
                  <a:pt x="774" y="181"/>
                  <a:pt x="731" y="86"/>
                  <a:pt x="858" y="144"/>
                </a:cubicBezTo>
                <a:cubicBezTo>
                  <a:pt x="873" y="151"/>
                  <a:pt x="874" y="173"/>
                  <a:pt x="880" y="189"/>
                </a:cubicBezTo>
                <a:cubicBezTo>
                  <a:pt x="889" y="211"/>
                  <a:pt x="895" y="233"/>
                  <a:pt x="902" y="255"/>
                </a:cubicBezTo>
                <a:cubicBezTo>
                  <a:pt x="907" y="270"/>
                  <a:pt x="932" y="262"/>
                  <a:pt x="947" y="266"/>
                </a:cubicBezTo>
                <a:cubicBezTo>
                  <a:pt x="1001" y="322"/>
                  <a:pt x="976" y="357"/>
                  <a:pt x="969" y="444"/>
                </a:cubicBezTo>
                <a:cubicBezTo>
                  <a:pt x="965" y="492"/>
                  <a:pt x="974" y="543"/>
                  <a:pt x="958" y="589"/>
                </a:cubicBezTo>
                <a:cubicBezTo>
                  <a:pt x="953" y="604"/>
                  <a:pt x="928" y="596"/>
                  <a:pt x="913" y="600"/>
                </a:cubicBezTo>
                <a:cubicBezTo>
                  <a:pt x="891" y="607"/>
                  <a:pt x="847" y="622"/>
                  <a:pt x="847" y="622"/>
                </a:cubicBezTo>
                <a:cubicBezTo>
                  <a:pt x="791" y="676"/>
                  <a:pt x="755" y="652"/>
                  <a:pt x="669" y="644"/>
                </a:cubicBezTo>
                <a:cubicBezTo>
                  <a:pt x="662" y="622"/>
                  <a:pt x="647" y="577"/>
                  <a:pt x="647" y="577"/>
                </a:cubicBez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609480"/>
            <a:ext cx="685800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ISTEMA ZONA RADI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3505320"/>
            <a:ext cx="7391520" cy="185760"/>
          </a:xfrm>
          <a:custGeom>
            <a:avLst/>
            <a:gdLst/>
            <a:ahLst/>
            <a:rect l="l" t="t" r="r" b="b"/>
            <a:pathLst>
              <a:path w="4656" h="117">
                <a:moveTo>
                  <a:pt x="0" y="34"/>
                </a:moveTo>
                <a:cubicBezTo>
                  <a:pt x="98" y="0"/>
                  <a:pt x="43" y="8"/>
                  <a:pt x="166" y="22"/>
                </a:cubicBezTo>
                <a:cubicBezTo>
                  <a:pt x="218" y="41"/>
                  <a:pt x="254" y="58"/>
                  <a:pt x="311" y="67"/>
                </a:cubicBezTo>
                <a:cubicBezTo>
                  <a:pt x="433" y="63"/>
                  <a:pt x="555" y="65"/>
                  <a:pt x="677" y="56"/>
                </a:cubicBezTo>
                <a:cubicBezTo>
                  <a:pt x="700" y="54"/>
                  <a:pt x="721" y="35"/>
                  <a:pt x="744" y="34"/>
                </a:cubicBezTo>
                <a:cubicBezTo>
                  <a:pt x="814" y="30"/>
                  <a:pt x="885" y="26"/>
                  <a:pt x="955" y="22"/>
                </a:cubicBezTo>
                <a:cubicBezTo>
                  <a:pt x="1083" y="49"/>
                  <a:pt x="1102" y="48"/>
                  <a:pt x="1278" y="56"/>
                </a:cubicBezTo>
                <a:cubicBezTo>
                  <a:pt x="1421" y="104"/>
                  <a:pt x="1584" y="61"/>
                  <a:pt x="1733" y="45"/>
                </a:cubicBezTo>
                <a:cubicBezTo>
                  <a:pt x="1759" y="39"/>
                  <a:pt x="1784" y="22"/>
                  <a:pt x="1811" y="22"/>
                </a:cubicBezTo>
                <a:cubicBezTo>
                  <a:pt x="1868" y="22"/>
                  <a:pt x="1913" y="51"/>
                  <a:pt x="1967" y="56"/>
                </a:cubicBezTo>
                <a:cubicBezTo>
                  <a:pt x="2033" y="62"/>
                  <a:pt x="2100" y="65"/>
                  <a:pt x="2167" y="67"/>
                </a:cubicBezTo>
                <a:cubicBezTo>
                  <a:pt x="2356" y="72"/>
                  <a:pt x="2544" y="74"/>
                  <a:pt x="2733" y="78"/>
                </a:cubicBezTo>
                <a:cubicBezTo>
                  <a:pt x="2892" y="117"/>
                  <a:pt x="3183" y="46"/>
                  <a:pt x="3356" y="34"/>
                </a:cubicBezTo>
                <a:cubicBezTo>
                  <a:pt x="3408" y="38"/>
                  <a:pt x="3460" y="39"/>
                  <a:pt x="3511" y="45"/>
                </a:cubicBezTo>
                <a:cubicBezTo>
                  <a:pt x="3546" y="49"/>
                  <a:pt x="3576" y="77"/>
                  <a:pt x="3611" y="78"/>
                </a:cubicBezTo>
                <a:cubicBezTo>
                  <a:pt x="3959" y="85"/>
                  <a:pt x="4308" y="78"/>
                  <a:pt x="4656" y="78"/>
                </a:cubicBezTo>
              </a:path>
            </a:pathLst>
          </a:custGeom>
          <a:noFill/>
          <a:ln w="2844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3276720"/>
            <a:ext cx="0" cy="2286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429000" y="3352680"/>
            <a:ext cx="0" cy="2286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971800" y="3200400"/>
            <a:ext cx="1295280" cy="380880"/>
            <a:chOff x="2971800" y="3200400"/>
            <a:chExt cx="1295280" cy="380880"/>
          </a:xfrm>
        </p:grpSpPr>
        <p:sp>
          <p:nvSpPr>
            <p:cNvPr id="174" name=""/>
            <p:cNvSpPr/>
            <p:nvPr/>
          </p:nvSpPr>
          <p:spPr>
            <a:xfrm>
              <a:off x="2971800" y="3428640"/>
              <a:ext cx="0" cy="75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52680" y="335268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04960" y="3200400"/>
              <a:ext cx="0" cy="3808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57600" y="335268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24080" y="3428640"/>
              <a:ext cx="0" cy="75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962160" y="335268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33560" y="3200400"/>
              <a:ext cx="0" cy="3808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67080" y="335268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362320" y="3276720"/>
            <a:ext cx="1295280" cy="380880"/>
            <a:chOff x="2362320" y="3276720"/>
            <a:chExt cx="1295280" cy="380880"/>
          </a:xfrm>
        </p:grpSpPr>
        <p:sp>
          <p:nvSpPr>
            <p:cNvPr id="183" name=""/>
            <p:cNvSpPr/>
            <p:nvPr/>
          </p:nvSpPr>
          <p:spPr>
            <a:xfrm>
              <a:off x="2362320" y="3504960"/>
              <a:ext cx="0" cy="75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320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95480" y="3276720"/>
              <a:ext cx="0" cy="3808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4812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514600" y="3504960"/>
              <a:ext cx="0" cy="75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5268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124080" y="3276720"/>
              <a:ext cx="0" cy="3808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5760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2362320" y="3124080"/>
            <a:ext cx="1295280" cy="381240"/>
            <a:chOff x="2362320" y="3124080"/>
            <a:chExt cx="1295280" cy="381240"/>
          </a:xfrm>
        </p:grpSpPr>
        <p:sp>
          <p:nvSpPr>
            <p:cNvPr id="192" name=""/>
            <p:cNvSpPr/>
            <p:nvPr/>
          </p:nvSpPr>
          <p:spPr>
            <a:xfrm>
              <a:off x="2362320" y="3352680"/>
              <a:ext cx="0" cy="7632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743200" y="3276720"/>
              <a:ext cx="0" cy="2286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895480" y="3124080"/>
              <a:ext cx="0" cy="381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48120" y="3276720"/>
              <a:ext cx="0" cy="2286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514600" y="3352680"/>
              <a:ext cx="0" cy="7632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352680" y="3276720"/>
              <a:ext cx="0" cy="2286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24080" y="3124080"/>
              <a:ext cx="0" cy="381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57600" y="3276720"/>
              <a:ext cx="0" cy="2286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2514600" y="3276720"/>
            <a:ext cx="1295280" cy="380880"/>
            <a:chOff x="2514600" y="3276720"/>
            <a:chExt cx="1295280" cy="380880"/>
          </a:xfrm>
        </p:grpSpPr>
        <p:sp>
          <p:nvSpPr>
            <p:cNvPr id="201" name=""/>
            <p:cNvSpPr/>
            <p:nvPr/>
          </p:nvSpPr>
          <p:spPr>
            <a:xfrm>
              <a:off x="2514600" y="3504960"/>
              <a:ext cx="0" cy="75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89548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047760" y="3276720"/>
              <a:ext cx="0" cy="3808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0040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66880" y="3504960"/>
              <a:ext cx="0" cy="75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50496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76360" y="3276720"/>
              <a:ext cx="0" cy="3808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0988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2666880" y="3276720"/>
            <a:ext cx="1295280" cy="380880"/>
            <a:chOff x="2666880" y="3276720"/>
            <a:chExt cx="1295280" cy="380880"/>
          </a:xfrm>
        </p:grpSpPr>
        <p:sp>
          <p:nvSpPr>
            <p:cNvPr id="210" name=""/>
            <p:cNvSpPr/>
            <p:nvPr/>
          </p:nvSpPr>
          <p:spPr>
            <a:xfrm>
              <a:off x="2666880" y="3504960"/>
              <a:ext cx="0" cy="75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04776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200040" y="3276720"/>
              <a:ext cx="0" cy="3808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9160" y="3504960"/>
              <a:ext cx="0" cy="75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5724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28640" y="3276720"/>
              <a:ext cx="0" cy="3808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6216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6378480" y="2712960"/>
            <a:ext cx="890640" cy="903240"/>
          </a:xfrm>
          <a:custGeom>
            <a:avLst/>
            <a:gdLst/>
            <a:ahLst/>
            <a:rect l="l" t="t" r="r" b="b"/>
            <a:pathLst>
              <a:path w="561" h="569">
                <a:moveTo>
                  <a:pt x="94" y="546"/>
                </a:moveTo>
                <a:cubicBezTo>
                  <a:pt x="103" y="483"/>
                  <a:pt x="104" y="453"/>
                  <a:pt x="138" y="402"/>
                </a:cubicBezTo>
                <a:cubicBezTo>
                  <a:pt x="142" y="372"/>
                  <a:pt x="141" y="342"/>
                  <a:pt x="149" y="313"/>
                </a:cubicBezTo>
                <a:cubicBezTo>
                  <a:pt x="152" y="300"/>
                  <a:pt x="171" y="293"/>
                  <a:pt x="171" y="280"/>
                </a:cubicBezTo>
                <a:cubicBezTo>
                  <a:pt x="171" y="269"/>
                  <a:pt x="156" y="265"/>
                  <a:pt x="149" y="257"/>
                </a:cubicBezTo>
                <a:cubicBezTo>
                  <a:pt x="112" y="210"/>
                  <a:pt x="148" y="229"/>
                  <a:pt x="83" y="213"/>
                </a:cubicBezTo>
                <a:cubicBezTo>
                  <a:pt x="67" y="170"/>
                  <a:pt x="55" y="150"/>
                  <a:pt x="16" y="124"/>
                </a:cubicBezTo>
                <a:cubicBezTo>
                  <a:pt x="12" y="113"/>
                  <a:pt x="0" y="101"/>
                  <a:pt x="5" y="91"/>
                </a:cubicBezTo>
                <a:cubicBezTo>
                  <a:pt x="18" y="66"/>
                  <a:pt x="58" y="87"/>
                  <a:pt x="71" y="91"/>
                </a:cubicBezTo>
                <a:cubicBezTo>
                  <a:pt x="88" y="107"/>
                  <a:pt x="98" y="131"/>
                  <a:pt x="116" y="146"/>
                </a:cubicBezTo>
                <a:cubicBezTo>
                  <a:pt x="120" y="149"/>
                  <a:pt x="179" y="168"/>
                  <a:pt x="183" y="169"/>
                </a:cubicBezTo>
                <a:cubicBezTo>
                  <a:pt x="215" y="72"/>
                  <a:pt x="215" y="132"/>
                  <a:pt x="183" y="69"/>
                </a:cubicBezTo>
                <a:cubicBezTo>
                  <a:pt x="178" y="58"/>
                  <a:pt x="175" y="46"/>
                  <a:pt x="171" y="35"/>
                </a:cubicBezTo>
                <a:cubicBezTo>
                  <a:pt x="179" y="28"/>
                  <a:pt x="183" y="13"/>
                  <a:pt x="194" y="13"/>
                </a:cubicBezTo>
                <a:cubicBezTo>
                  <a:pt x="217" y="13"/>
                  <a:pt x="260" y="35"/>
                  <a:pt x="260" y="35"/>
                </a:cubicBezTo>
                <a:cubicBezTo>
                  <a:pt x="340" y="9"/>
                  <a:pt x="347" y="0"/>
                  <a:pt x="294" y="35"/>
                </a:cubicBezTo>
                <a:cubicBezTo>
                  <a:pt x="298" y="76"/>
                  <a:pt x="280" y="125"/>
                  <a:pt x="305" y="158"/>
                </a:cubicBezTo>
                <a:cubicBezTo>
                  <a:pt x="319" y="176"/>
                  <a:pt x="371" y="135"/>
                  <a:pt x="371" y="135"/>
                </a:cubicBezTo>
                <a:cubicBezTo>
                  <a:pt x="379" y="128"/>
                  <a:pt x="384" y="118"/>
                  <a:pt x="394" y="113"/>
                </a:cubicBezTo>
                <a:cubicBezTo>
                  <a:pt x="415" y="103"/>
                  <a:pt x="460" y="91"/>
                  <a:pt x="460" y="91"/>
                </a:cubicBezTo>
                <a:cubicBezTo>
                  <a:pt x="464" y="102"/>
                  <a:pt x="475" y="113"/>
                  <a:pt x="471" y="124"/>
                </a:cubicBezTo>
                <a:cubicBezTo>
                  <a:pt x="466" y="136"/>
                  <a:pt x="448" y="138"/>
                  <a:pt x="438" y="146"/>
                </a:cubicBezTo>
                <a:cubicBezTo>
                  <a:pt x="430" y="153"/>
                  <a:pt x="423" y="161"/>
                  <a:pt x="416" y="169"/>
                </a:cubicBezTo>
                <a:cubicBezTo>
                  <a:pt x="427" y="176"/>
                  <a:pt x="436" y="188"/>
                  <a:pt x="449" y="191"/>
                </a:cubicBezTo>
                <a:cubicBezTo>
                  <a:pt x="482" y="199"/>
                  <a:pt x="519" y="187"/>
                  <a:pt x="549" y="202"/>
                </a:cubicBezTo>
                <a:cubicBezTo>
                  <a:pt x="561" y="208"/>
                  <a:pt x="528" y="218"/>
                  <a:pt x="516" y="224"/>
                </a:cubicBezTo>
                <a:cubicBezTo>
                  <a:pt x="506" y="229"/>
                  <a:pt x="494" y="233"/>
                  <a:pt x="483" y="235"/>
                </a:cubicBezTo>
                <a:cubicBezTo>
                  <a:pt x="446" y="241"/>
                  <a:pt x="408" y="242"/>
                  <a:pt x="371" y="246"/>
                </a:cubicBezTo>
                <a:cubicBezTo>
                  <a:pt x="333" y="259"/>
                  <a:pt x="316" y="280"/>
                  <a:pt x="283" y="302"/>
                </a:cubicBezTo>
                <a:cubicBezTo>
                  <a:pt x="238" y="427"/>
                  <a:pt x="238" y="429"/>
                  <a:pt x="238" y="569"/>
                </a:cubicBezTo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657600" y="1600200"/>
            <a:ext cx="990720" cy="612000"/>
            <a:chOff x="3657600" y="1600200"/>
            <a:chExt cx="990720" cy="612000"/>
          </a:xfrm>
        </p:grpSpPr>
        <p:sp>
          <p:nvSpPr>
            <p:cNvPr id="220" name=""/>
            <p:cNvSpPr/>
            <p:nvPr/>
          </p:nvSpPr>
          <p:spPr>
            <a:xfrm>
              <a:off x="3657600" y="1600200"/>
              <a:ext cx="609480" cy="53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17524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6248520" y="1371600"/>
            <a:ext cx="990000" cy="612000"/>
            <a:chOff x="6248520" y="1371600"/>
            <a:chExt cx="990000" cy="612000"/>
          </a:xfrm>
        </p:grpSpPr>
        <p:sp>
          <p:nvSpPr>
            <p:cNvPr id="223" name=""/>
            <p:cNvSpPr/>
            <p:nvPr/>
          </p:nvSpPr>
          <p:spPr>
            <a:xfrm>
              <a:off x="6248520" y="1371600"/>
              <a:ext cx="609120" cy="53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57640" y="1523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411480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86400" y="2286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14800" y="3352680"/>
            <a:ext cx="0" cy="6858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67080" y="3962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0574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66680" y="464832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00600" y="49528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0" y="4419720"/>
            <a:ext cx="0" cy="914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3124080"/>
            <a:ext cx="609840" cy="3200400"/>
          </a:xfrm>
          <a:custGeom>
            <a:avLst/>
            <a:gdLst/>
            <a:ahLst/>
            <a:rect l="l" t="t" r="r" b="b"/>
            <a:pathLst>
              <a:path w="384" h="2016">
                <a:moveTo>
                  <a:pt x="192" y="0"/>
                </a:moveTo>
                <a:lnTo>
                  <a:pt x="192" y="480"/>
                </a:lnTo>
                <a:lnTo>
                  <a:pt x="288" y="624"/>
                </a:lnTo>
                <a:lnTo>
                  <a:pt x="0" y="672"/>
                </a:lnTo>
                <a:lnTo>
                  <a:pt x="384" y="1248"/>
                </a:lnTo>
                <a:lnTo>
                  <a:pt x="288" y="1344"/>
                </a:lnTo>
                <a:lnTo>
                  <a:pt x="384" y="1488"/>
                </a:lnTo>
                <a:lnTo>
                  <a:pt x="0" y="1632"/>
                </a:lnTo>
                <a:lnTo>
                  <a:pt x="240" y="1632"/>
                </a:lnTo>
                <a:lnTo>
                  <a:pt x="240" y="201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48720" y="3048120"/>
            <a:ext cx="761760" cy="3657600"/>
          </a:xfrm>
          <a:custGeom>
            <a:avLst/>
            <a:gdLst/>
            <a:ahLst/>
            <a:rect l="l" t="t" r="r" b="b"/>
            <a:pathLst>
              <a:path w="480" h="2304">
                <a:moveTo>
                  <a:pt x="288" y="0"/>
                </a:moveTo>
                <a:lnTo>
                  <a:pt x="288" y="576"/>
                </a:lnTo>
                <a:lnTo>
                  <a:pt x="384" y="720"/>
                </a:lnTo>
                <a:lnTo>
                  <a:pt x="96" y="816"/>
                </a:lnTo>
                <a:lnTo>
                  <a:pt x="336" y="1008"/>
                </a:lnTo>
                <a:lnTo>
                  <a:pt x="96" y="1200"/>
                </a:lnTo>
                <a:lnTo>
                  <a:pt x="480" y="1440"/>
                </a:lnTo>
                <a:lnTo>
                  <a:pt x="0" y="1632"/>
                </a:lnTo>
                <a:lnTo>
                  <a:pt x="240" y="1872"/>
                </a:lnTo>
                <a:lnTo>
                  <a:pt x="144" y="1968"/>
                </a:lnTo>
                <a:lnTo>
                  <a:pt x="144" y="23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391520" y="2286000"/>
            <a:ext cx="380880" cy="380880"/>
          </a:xfrm>
          <a:custGeom>
            <a:avLst/>
            <a:gdLst>
              <a:gd name="textAreaLeft" fmla="*/ 127080 w 380880"/>
              <a:gd name="textAreaRight" fmla="*/ 326520 w 38088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00400" y="2743200"/>
            <a:ext cx="76320" cy="762120"/>
          </a:xfrm>
          <a:prstGeom prst="upArrow">
            <a:avLst>
              <a:gd name="adj1" fmla="val 50000"/>
              <a:gd name="adj2" fmla="val 2496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609480" y="2743200"/>
            <a:ext cx="1219320" cy="609480"/>
            <a:chOff x="609480" y="2743200"/>
            <a:chExt cx="1219320" cy="609480"/>
          </a:xfrm>
        </p:grpSpPr>
        <p:sp>
          <p:nvSpPr>
            <p:cNvPr id="238" name=""/>
            <p:cNvSpPr/>
            <p:nvPr/>
          </p:nvSpPr>
          <p:spPr>
            <a:xfrm>
              <a:off x="609480" y="3352680"/>
              <a:ext cx="9907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66680" y="274320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EI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7620120" y="2895480"/>
            <a:ext cx="1523880" cy="533520"/>
            <a:chOff x="7620120" y="2895480"/>
            <a:chExt cx="1523880" cy="533520"/>
          </a:xfrm>
        </p:grpSpPr>
        <p:sp>
          <p:nvSpPr>
            <p:cNvPr id="241" name=""/>
            <p:cNvSpPr/>
            <p:nvPr/>
          </p:nvSpPr>
          <p:spPr>
            <a:xfrm>
              <a:off x="7620120" y="342900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381880" y="289548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EI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3352680" y="2590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467480" y="1905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15000" y="40384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Zona radi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23880" y="5486400"/>
            <a:ext cx="4419720" cy="579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+EI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=In+ET+EI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+P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95280" y="5715000"/>
            <a:ext cx="22860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95280" y="6248520"/>
            <a:ext cx="3657600" cy="579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=P+EI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In-ET-EI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381000">
            <a:off x="5257440" y="624852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172200" y="6172200"/>
            <a:ext cx="1828800" cy="5796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I=P</a:t>
            </a:r>
            <a:r>
              <a:rPr b="1" lang="en-US" sz="2800" spc="-1" strike="noStrike" baseline="-25000">
                <a:solidFill>
                  <a:srgbClr val="ffff66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80880" y="609480"/>
            <a:ext cx="784872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ALANCE HIDROLÓGICO DE UNA REG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06360" y="1371600"/>
            <a:ext cx="5486400" cy="2222640"/>
          </a:xfrm>
          <a:custGeom>
            <a:avLst/>
            <a:gdLst/>
            <a:ahLst/>
            <a:rect l="l" t="t" r="r" b="b"/>
            <a:pathLst>
              <a:path w="3456" h="1400">
                <a:moveTo>
                  <a:pt x="104" y="864"/>
                </a:moveTo>
                <a:cubicBezTo>
                  <a:pt x="56" y="912"/>
                  <a:pt x="8" y="960"/>
                  <a:pt x="8" y="1008"/>
                </a:cubicBezTo>
                <a:cubicBezTo>
                  <a:pt x="8" y="1056"/>
                  <a:pt x="0" y="1104"/>
                  <a:pt x="104" y="1152"/>
                </a:cubicBezTo>
                <a:cubicBezTo>
                  <a:pt x="208" y="1200"/>
                  <a:pt x="424" y="1264"/>
                  <a:pt x="632" y="1296"/>
                </a:cubicBezTo>
                <a:cubicBezTo>
                  <a:pt x="840" y="1328"/>
                  <a:pt x="1120" y="1352"/>
                  <a:pt x="1352" y="1344"/>
                </a:cubicBezTo>
                <a:cubicBezTo>
                  <a:pt x="1584" y="1336"/>
                  <a:pt x="1824" y="1240"/>
                  <a:pt x="2024" y="1248"/>
                </a:cubicBezTo>
                <a:cubicBezTo>
                  <a:pt x="2224" y="1256"/>
                  <a:pt x="2336" y="1384"/>
                  <a:pt x="2552" y="1392"/>
                </a:cubicBezTo>
                <a:cubicBezTo>
                  <a:pt x="2768" y="1400"/>
                  <a:pt x="3184" y="1384"/>
                  <a:pt x="3320" y="1296"/>
                </a:cubicBezTo>
                <a:cubicBezTo>
                  <a:pt x="3456" y="1208"/>
                  <a:pt x="3448" y="984"/>
                  <a:pt x="3368" y="864"/>
                </a:cubicBezTo>
                <a:cubicBezTo>
                  <a:pt x="3288" y="744"/>
                  <a:pt x="3000" y="632"/>
                  <a:pt x="2840" y="576"/>
                </a:cubicBezTo>
                <a:cubicBezTo>
                  <a:pt x="2680" y="520"/>
                  <a:pt x="2608" y="584"/>
                  <a:pt x="2408" y="528"/>
                </a:cubicBezTo>
                <a:cubicBezTo>
                  <a:pt x="2208" y="472"/>
                  <a:pt x="1872" y="328"/>
                  <a:pt x="1640" y="240"/>
                </a:cubicBezTo>
                <a:cubicBezTo>
                  <a:pt x="1408" y="152"/>
                  <a:pt x="1160" y="0"/>
                  <a:pt x="1016" y="0"/>
                </a:cubicBezTo>
                <a:cubicBezTo>
                  <a:pt x="872" y="0"/>
                  <a:pt x="896" y="104"/>
                  <a:pt x="776" y="240"/>
                </a:cubicBezTo>
                <a:cubicBezTo>
                  <a:pt x="656" y="376"/>
                  <a:pt x="412" y="712"/>
                  <a:pt x="296" y="816"/>
                </a:cubicBezTo>
                <a:cubicBezTo>
                  <a:pt x="180" y="920"/>
                  <a:pt x="122" y="850"/>
                  <a:pt x="82" y="866"/>
                </a:cubicBezTo>
                <a:cubicBezTo>
                  <a:pt x="42" y="882"/>
                  <a:pt x="61" y="903"/>
                  <a:pt x="56" y="912"/>
                </a:cubicBezTo>
              </a:path>
            </a:pathLst>
          </a:custGeom>
          <a:solidFill>
            <a:srgbClr val="cc9900"/>
          </a:solidFill>
          <a:ln w="93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19320" y="2971800"/>
            <a:ext cx="5411520" cy="2174760"/>
          </a:xfrm>
          <a:custGeom>
            <a:avLst/>
            <a:gdLst/>
            <a:ahLst/>
            <a:rect l="l" t="t" r="r" b="b"/>
            <a:pathLst>
              <a:path w="3409" h="1370">
                <a:moveTo>
                  <a:pt x="0" y="0"/>
                </a:moveTo>
                <a:lnTo>
                  <a:pt x="0" y="1152"/>
                </a:lnTo>
                <a:cubicBezTo>
                  <a:pt x="16" y="1168"/>
                  <a:pt x="36" y="1181"/>
                  <a:pt x="48" y="1200"/>
                </a:cubicBezTo>
                <a:cubicBezTo>
                  <a:pt x="52" y="1207"/>
                  <a:pt x="39" y="1215"/>
                  <a:pt x="42" y="1222"/>
                </a:cubicBezTo>
                <a:cubicBezTo>
                  <a:pt x="48" y="1234"/>
                  <a:pt x="100" y="1263"/>
                  <a:pt x="113" y="1269"/>
                </a:cubicBezTo>
                <a:cubicBezTo>
                  <a:pt x="137" y="1281"/>
                  <a:pt x="159" y="1296"/>
                  <a:pt x="183" y="1308"/>
                </a:cubicBezTo>
                <a:cubicBezTo>
                  <a:pt x="190" y="1311"/>
                  <a:pt x="233" y="1322"/>
                  <a:pt x="237" y="1323"/>
                </a:cubicBezTo>
                <a:cubicBezTo>
                  <a:pt x="245" y="1325"/>
                  <a:pt x="253" y="1328"/>
                  <a:pt x="261" y="1331"/>
                </a:cubicBezTo>
                <a:cubicBezTo>
                  <a:pt x="272" y="1336"/>
                  <a:pt x="281" y="1343"/>
                  <a:pt x="292" y="1347"/>
                </a:cubicBezTo>
                <a:cubicBezTo>
                  <a:pt x="341" y="1363"/>
                  <a:pt x="405" y="1365"/>
                  <a:pt x="455" y="1370"/>
                </a:cubicBezTo>
                <a:cubicBezTo>
                  <a:pt x="618" y="1365"/>
                  <a:pt x="735" y="1364"/>
                  <a:pt x="884" y="1339"/>
                </a:cubicBezTo>
                <a:cubicBezTo>
                  <a:pt x="954" y="1315"/>
                  <a:pt x="1030" y="1314"/>
                  <a:pt x="1102" y="1300"/>
                </a:cubicBezTo>
                <a:cubicBezTo>
                  <a:pt x="1188" y="1284"/>
                  <a:pt x="1272" y="1271"/>
                  <a:pt x="1359" y="1261"/>
                </a:cubicBezTo>
                <a:cubicBezTo>
                  <a:pt x="1457" y="1228"/>
                  <a:pt x="1569" y="1229"/>
                  <a:pt x="1671" y="1222"/>
                </a:cubicBezTo>
                <a:cubicBezTo>
                  <a:pt x="1784" y="1226"/>
                  <a:pt x="1895" y="1226"/>
                  <a:pt x="2006" y="1245"/>
                </a:cubicBezTo>
                <a:cubicBezTo>
                  <a:pt x="2024" y="1248"/>
                  <a:pt x="2043" y="1250"/>
                  <a:pt x="2061" y="1253"/>
                </a:cubicBezTo>
                <a:cubicBezTo>
                  <a:pt x="2071" y="1255"/>
                  <a:pt x="2081" y="1259"/>
                  <a:pt x="2092" y="1261"/>
                </a:cubicBezTo>
                <a:cubicBezTo>
                  <a:pt x="2126" y="1267"/>
                  <a:pt x="2193" y="1276"/>
                  <a:pt x="2193" y="1276"/>
                </a:cubicBezTo>
                <a:cubicBezTo>
                  <a:pt x="2318" y="1318"/>
                  <a:pt x="2461" y="1310"/>
                  <a:pt x="2591" y="1323"/>
                </a:cubicBezTo>
                <a:cubicBezTo>
                  <a:pt x="2769" y="1318"/>
                  <a:pt x="2918" y="1329"/>
                  <a:pt x="3089" y="1300"/>
                </a:cubicBezTo>
                <a:cubicBezTo>
                  <a:pt x="3097" y="1230"/>
                  <a:pt x="3326" y="1368"/>
                  <a:pt x="3378" y="1175"/>
                </a:cubicBezTo>
                <a:lnTo>
                  <a:pt x="3409" y="12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79640" y="4622760"/>
            <a:ext cx="5562360" cy="507960"/>
          </a:xfrm>
          <a:custGeom>
            <a:avLst/>
            <a:gdLst/>
            <a:ahLst/>
            <a:rect l="l" t="t" r="r" b="b"/>
            <a:pathLst>
              <a:path w="3504" h="320">
                <a:moveTo>
                  <a:pt x="88" y="16"/>
                </a:moveTo>
                <a:cubicBezTo>
                  <a:pt x="0" y="0"/>
                  <a:pt x="80" y="88"/>
                  <a:pt x="88" y="112"/>
                </a:cubicBezTo>
                <a:cubicBezTo>
                  <a:pt x="96" y="136"/>
                  <a:pt x="120" y="144"/>
                  <a:pt x="136" y="160"/>
                </a:cubicBezTo>
                <a:cubicBezTo>
                  <a:pt x="152" y="176"/>
                  <a:pt x="136" y="184"/>
                  <a:pt x="184" y="208"/>
                </a:cubicBezTo>
                <a:cubicBezTo>
                  <a:pt x="232" y="232"/>
                  <a:pt x="312" y="288"/>
                  <a:pt x="424" y="304"/>
                </a:cubicBezTo>
                <a:cubicBezTo>
                  <a:pt x="536" y="320"/>
                  <a:pt x="664" y="320"/>
                  <a:pt x="856" y="304"/>
                </a:cubicBezTo>
                <a:cubicBezTo>
                  <a:pt x="1048" y="288"/>
                  <a:pt x="1423" y="226"/>
                  <a:pt x="1576" y="208"/>
                </a:cubicBezTo>
                <a:cubicBezTo>
                  <a:pt x="1729" y="190"/>
                  <a:pt x="1687" y="197"/>
                  <a:pt x="1775" y="197"/>
                </a:cubicBezTo>
                <a:cubicBezTo>
                  <a:pt x="1863" y="197"/>
                  <a:pt x="1961" y="190"/>
                  <a:pt x="2104" y="208"/>
                </a:cubicBezTo>
                <a:cubicBezTo>
                  <a:pt x="2247" y="226"/>
                  <a:pt x="2456" y="288"/>
                  <a:pt x="2632" y="304"/>
                </a:cubicBezTo>
                <a:cubicBezTo>
                  <a:pt x="2808" y="320"/>
                  <a:pt x="3024" y="312"/>
                  <a:pt x="3160" y="304"/>
                </a:cubicBezTo>
                <a:cubicBezTo>
                  <a:pt x="3296" y="296"/>
                  <a:pt x="3400" y="280"/>
                  <a:pt x="3448" y="256"/>
                </a:cubicBezTo>
                <a:cubicBezTo>
                  <a:pt x="3496" y="232"/>
                  <a:pt x="3504" y="168"/>
                  <a:pt x="3448" y="160"/>
                </a:cubicBezTo>
                <a:cubicBezTo>
                  <a:pt x="3392" y="152"/>
                  <a:pt x="3222" y="201"/>
                  <a:pt x="3112" y="208"/>
                </a:cubicBezTo>
                <a:cubicBezTo>
                  <a:pt x="3002" y="215"/>
                  <a:pt x="2876" y="213"/>
                  <a:pt x="2788" y="205"/>
                </a:cubicBezTo>
                <a:cubicBezTo>
                  <a:pt x="2700" y="197"/>
                  <a:pt x="2738" y="176"/>
                  <a:pt x="2584" y="160"/>
                </a:cubicBezTo>
                <a:cubicBezTo>
                  <a:pt x="2430" y="144"/>
                  <a:pt x="2064" y="120"/>
                  <a:pt x="1864" y="112"/>
                </a:cubicBezTo>
                <a:cubicBezTo>
                  <a:pt x="1664" y="104"/>
                  <a:pt x="1548" y="99"/>
                  <a:pt x="1384" y="112"/>
                </a:cubicBezTo>
                <a:cubicBezTo>
                  <a:pt x="1220" y="125"/>
                  <a:pt x="1026" y="180"/>
                  <a:pt x="879" y="190"/>
                </a:cubicBezTo>
                <a:cubicBezTo>
                  <a:pt x="732" y="200"/>
                  <a:pt x="636" y="203"/>
                  <a:pt x="504" y="174"/>
                </a:cubicBezTo>
                <a:cubicBezTo>
                  <a:pt x="372" y="145"/>
                  <a:pt x="175" y="49"/>
                  <a:pt x="88" y="16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43280" y="1981080"/>
            <a:ext cx="5054400" cy="1219320"/>
          </a:xfrm>
          <a:custGeom>
            <a:avLst/>
            <a:gdLst/>
            <a:ahLst/>
            <a:rect l="l" t="t" r="r" b="b"/>
            <a:pathLst>
              <a:path w="3184" h="768">
                <a:moveTo>
                  <a:pt x="120" y="0"/>
                </a:moveTo>
                <a:cubicBezTo>
                  <a:pt x="160" y="16"/>
                  <a:pt x="200" y="32"/>
                  <a:pt x="264" y="48"/>
                </a:cubicBezTo>
                <a:cubicBezTo>
                  <a:pt x="328" y="64"/>
                  <a:pt x="400" y="72"/>
                  <a:pt x="504" y="96"/>
                </a:cubicBezTo>
                <a:cubicBezTo>
                  <a:pt x="608" y="120"/>
                  <a:pt x="760" y="152"/>
                  <a:pt x="888" y="192"/>
                </a:cubicBezTo>
                <a:cubicBezTo>
                  <a:pt x="1016" y="232"/>
                  <a:pt x="1112" y="280"/>
                  <a:pt x="1272" y="336"/>
                </a:cubicBezTo>
                <a:cubicBezTo>
                  <a:pt x="1432" y="392"/>
                  <a:pt x="1632" y="480"/>
                  <a:pt x="1848" y="528"/>
                </a:cubicBezTo>
                <a:cubicBezTo>
                  <a:pt x="2064" y="576"/>
                  <a:pt x="2360" y="600"/>
                  <a:pt x="2568" y="624"/>
                </a:cubicBezTo>
                <a:cubicBezTo>
                  <a:pt x="2776" y="648"/>
                  <a:pt x="3008" y="656"/>
                  <a:pt x="3096" y="672"/>
                </a:cubicBezTo>
                <a:cubicBezTo>
                  <a:pt x="3184" y="688"/>
                  <a:pt x="3096" y="704"/>
                  <a:pt x="3096" y="720"/>
                </a:cubicBezTo>
                <a:cubicBezTo>
                  <a:pt x="3096" y="736"/>
                  <a:pt x="3144" y="768"/>
                  <a:pt x="3096" y="768"/>
                </a:cubicBezTo>
                <a:cubicBezTo>
                  <a:pt x="3048" y="768"/>
                  <a:pt x="2976" y="736"/>
                  <a:pt x="2808" y="720"/>
                </a:cubicBezTo>
                <a:cubicBezTo>
                  <a:pt x="2640" y="704"/>
                  <a:pt x="2320" y="704"/>
                  <a:pt x="2088" y="672"/>
                </a:cubicBezTo>
                <a:cubicBezTo>
                  <a:pt x="1856" y="640"/>
                  <a:pt x="1640" y="592"/>
                  <a:pt x="1416" y="528"/>
                </a:cubicBezTo>
                <a:cubicBezTo>
                  <a:pt x="1192" y="464"/>
                  <a:pt x="960" y="344"/>
                  <a:pt x="744" y="288"/>
                </a:cubicBezTo>
                <a:cubicBezTo>
                  <a:pt x="528" y="232"/>
                  <a:pt x="240" y="216"/>
                  <a:pt x="120" y="192"/>
                </a:cubicBezTo>
                <a:cubicBezTo>
                  <a:pt x="0" y="168"/>
                  <a:pt x="12" y="156"/>
                  <a:pt x="24" y="144"/>
                </a:cubicBez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5029200" y="1295280"/>
            <a:ext cx="838080" cy="612360"/>
            <a:chOff x="5029200" y="1295280"/>
            <a:chExt cx="838080" cy="612360"/>
          </a:xfrm>
        </p:grpSpPr>
        <p:sp>
          <p:nvSpPr>
            <p:cNvPr id="257" name=""/>
            <p:cNvSpPr/>
            <p:nvPr/>
          </p:nvSpPr>
          <p:spPr>
            <a:xfrm>
              <a:off x="5029200" y="1295280"/>
              <a:ext cx="304920" cy="381240"/>
            </a:xfrm>
            <a:prstGeom prst="downArrow">
              <a:avLst>
                <a:gd name="adj1" fmla="val 50000"/>
                <a:gd name="adj2" fmla="val 3125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562720" y="1447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791320" y="1981080"/>
            <a:ext cx="1523880" cy="685800"/>
            <a:chOff x="5791320" y="1981080"/>
            <a:chExt cx="1523880" cy="685800"/>
          </a:xfrm>
        </p:grpSpPr>
        <p:sp>
          <p:nvSpPr>
            <p:cNvPr id="260" name=""/>
            <p:cNvSpPr/>
            <p:nvPr/>
          </p:nvSpPr>
          <p:spPr>
            <a:xfrm>
              <a:off x="5791320" y="2514600"/>
              <a:ext cx="990360" cy="152280"/>
            </a:xfrm>
            <a:custGeom>
              <a:avLst/>
              <a:gdLst>
                <a:gd name="textAreaLeft" fmla="*/ 173160 w 990360"/>
                <a:gd name="textAreaRight" fmla="*/ 718200 w 99036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400800" y="19810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99"/>
                  </a:solidFill>
                  <a:latin typeface="Times New Roman"/>
                </a:rPr>
                <a:t>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116800" y="1202400"/>
            <a:ext cx="1420560" cy="793080"/>
            <a:chOff x="2116800" y="1202400"/>
            <a:chExt cx="1420560" cy="793080"/>
          </a:xfrm>
        </p:grpSpPr>
        <p:sp>
          <p:nvSpPr>
            <p:cNvPr id="263" name=""/>
            <p:cNvSpPr/>
            <p:nvPr/>
          </p:nvSpPr>
          <p:spPr>
            <a:xfrm rot="1644000">
              <a:off x="2209320" y="1294920"/>
              <a:ext cx="53352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452400">
              <a:off x="2896920" y="14472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685800" y="1676520"/>
            <a:ext cx="1183320" cy="567000"/>
            <a:chOff x="685800" y="1676520"/>
            <a:chExt cx="1183320" cy="567000"/>
          </a:xfrm>
        </p:grpSpPr>
        <p:sp>
          <p:nvSpPr>
            <p:cNvPr id="266" name=""/>
            <p:cNvSpPr/>
            <p:nvPr/>
          </p:nvSpPr>
          <p:spPr>
            <a:xfrm rot="1735800">
              <a:off x="1294920" y="1828440"/>
              <a:ext cx="533520" cy="304920"/>
            </a:xfrm>
            <a:prstGeom prst="rightArrow">
              <a:avLst>
                <a:gd name="adj1" fmla="val 50000"/>
                <a:gd name="adj2" fmla="val 43743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" y="1676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304920" y="3657600"/>
            <a:ext cx="1151640" cy="510120"/>
            <a:chOff x="304920" y="3657600"/>
            <a:chExt cx="1151640" cy="510120"/>
          </a:xfrm>
        </p:grpSpPr>
        <p:sp>
          <p:nvSpPr>
            <p:cNvPr id="269" name=""/>
            <p:cNvSpPr/>
            <p:nvPr/>
          </p:nvSpPr>
          <p:spPr>
            <a:xfrm rot="207000">
              <a:off x="914400" y="3809520"/>
              <a:ext cx="533520" cy="304920"/>
            </a:xfrm>
            <a:prstGeom prst="rightArrow">
              <a:avLst>
                <a:gd name="adj1" fmla="val 50000"/>
                <a:gd name="adj2" fmla="val 43743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04920" y="36576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Z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6894000" y="2938320"/>
            <a:ext cx="1335600" cy="695880"/>
            <a:chOff x="6894000" y="2938320"/>
            <a:chExt cx="1335600" cy="695880"/>
          </a:xfrm>
        </p:grpSpPr>
        <p:sp>
          <p:nvSpPr>
            <p:cNvPr id="272" name=""/>
            <p:cNvSpPr/>
            <p:nvPr/>
          </p:nvSpPr>
          <p:spPr>
            <a:xfrm rot="1735800">
              <a:off x="6933960" y="3048120"/>
              <a:ext cx="533160" cy="304560"/>
            </a:xfrm>
            <a:prstGeom prst="rightArrow">
              <a:avLst>
                <a:gd name="adj1" fmla="val 50000"/>
                <a:gd name="adj2" fmla="val 43765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543800" y="312408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6622560" y="4178880"/>
            <a:ext cx="1302120" cy="598320"/>
            <a:chOff x="6622560" y="4178880"/>
            <a:chExt cx="1302120" cy="598320"/>
          </a:xfrm>
        </p:grpSpPr>
        <p:sp>
          <p:nvSpPr>
            <p:cNvPr id="275" name=""/>
            <p:cNvSpPr/>
            <p:nvPr/>
          </p:nvSpPr>
          <p:spPr>
            <a:xfrm rot="161400">
              <a:off x="6629400" y="4191120"/>
              <a:ext cx="533520" cy="304560"/>
            </a:xfrm>
            <a:prstGeom prst="rightArrow">
              <a:avLst>
                <a:gd name="adj1" fmla="val 50000"/>
                <a:gd name="adj2" fmla="val 43794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38880" y="426708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Z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3581280" y="3276720"/>
            <a:ext cx="1143000" cy="1043280"/>
            <a:chOff x="3581280" y="3276720"/>
            <a:chExt cx="1143000" cy="1043280"/>
          </a:xfrm>
        </p:grpSpPr>
        <p:sp>
          <p:nvSpPr>
            <p:cNvPr id="278" name=""/>
            <p:cNvSpPr/>
            <p:nvPr/>
          </p:nvSpPr>
          <p:spPr>
            <a:xfrm rot="5400000">
              <a:off x="3581280" y="3276360"/>
              <a:ext cx="533160" cy="533520"/>
            </a:xfrm>
            <a:custGeom>
              <a:avLst/>
              <a:gdLst>
                <a:gd name="textAreaLeft" fmla="*/ 66600 w 533160"/>
                <a:gd name="textAreaRight" fmla="*/ 466560 w 53316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3333cc"/>
            </a:solidFill>
            <a:ln w="28440">
              <a:solidFill>
                <a:srgbClr val="66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114800" y="380988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6633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5105520" y="43434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286000" y="3193920"/>
            <a:ext cx="772920" cy="1583280"/>
            <a:chOff x="2286000" y="3193920"/>
            <a:chExt cx="772920" cy="1583280"/>
          </a:xfrm>
        </p:grpSpPr>
        <p:sp>
          <p:nvSpPr>
            <p:cNvPr id="282" name=""/>
            <p:cNvSpPr/>
            <p:nvPr/>
          </p:nvSpPr>
          <p:spPr>
            <a:xfrm rot="16111800">
              <a:off x="2360520" y="3503160"/>
              <a:ext cx="990360" cy="380880"/>
            </a:xfrm>
            <a:custGeom>
              <a:avLst/>
              <a:gdLst>
                <a:gd name="textAreaLeft" fmla="*/ 123840 w 990360"/>
                <a:gd name="textAreaRight" fmla="*/ 866880 w 990360"/>
                <a:gd name="textAreaTop" fmla="*/ 95040 h 380880"/>
                <a:gd name="textAreaBottom" fmla="*/ 2858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3333cc"/>
            </a:solidFill>
            <a:ln w="38160">
              <a:solidFill>
                <a:srgbClr val="66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426708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Times New Roman"/>
                </a:rPr>
                <a:t>D</a:t>
              </a:r>
              <a:r>
                <a:rPr b="1" lang="en-US" sz="2400" spc="-1" strike="noStrike" baseline="-25000">
                  <a:solidFill>
                    <a:srgbClr val="6633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371560" y="1676520"/>
            <a:ext cx="1105560" cy="813600"/>
            <a:chOff x="5371560" y="1676520"/>
            <a:chExt cx="1105560" cy="813600"/>
          </a:xfrm>
        </p:grpSpPr>
        <p:sp>
          <p:nvSpPr>
            <p:cNvPr id="285" name=""/>
            <p:cNvSpPr/>
            <p:nvPr/>
          </p:nvSpPr>
          <p:spPr>
            <a:xfrm rot="19434600">
              <a:off x="5410080" y="2057400"/>
              <a:ext cx="533520" cy="304920"/>
            </a:xfrm>
            <a:custGeom>
              <a:avLst/>
              <a:gdLst>
                <a:gd name="textAreaLeft" fmla="*/ 66600 w 533520"/>
                <a:gd name="textAreaRight" fmla="*/ 466920 w 53352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867280" y="16765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R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2133720" y="5791320"/>
            <a:ext cx="6476760" cy="510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P+Q</a:t>
            </a:r>
            <a:r>
              <a:rPr b="1" lang="en-US" sz="2400" spc="-1" strike="noStrike" baseline="-25000">
                <a:solidFill>
                  <a:srgbClr val="ffff66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+R</a:t>
            </a:r>
            <a:r>
              <a:rPr b="1" lang="en-US" sz="2400" spc="-1" strike="noStrike" baseline="-25000">
                <a:solidFill>
                  <a:srgbClr val="ffff66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+Q</a:t>
            </a:r>
            <a:r>
              <a:rPr b="1" lang="en-US" sz="2400" spc="-1" strike="noStrike" baseline="-25000">
                <a:solidFill>
                  <a:srgbClr val="ffff66"/>
                </a:solidFill>
                <a:latin typeface="Times New Roman"/>
              </a:rPr>
              <a:t>Z1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=R</a:t>
            </a:r>
            <a:r>
              <a:rPr b="1" lang="en-US" sz="2400" spc="-1" strike="noStrike" baseline="-25000">
                <a:solidFill>
                  <a:srgbClr val="ffff66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+ET+Q</a:t>
            </a:r>
            <a:r>
              <a:rPr b="1" lang="en-US" sz="2400" spc="-1" strike="noStrike" baseline="-25000">
                <a:solidFill>
                  <a:srgbClr val="ffff66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+Q</a:t>
            </a:r>
            <a:r>
              <a:rPr b="1" lang="en-US" sz="2400" spc="-1" strike="noStrike" baseline="-25000">
                <a:solidFill>
                  <a:srgbClr val="ffff66"/>
                </a:solidFill>
                <a:latin typeface="Times New Roman"/>
              </a:rPr>
              <a:t>Z2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H+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76520" y="594360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76520" y="647712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09680" y="6400800"/>
            <a:ext cx="6477120" cy="510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ffff66"/>
                </a:solidFill>
                <a:latin typeface="Times New Roman"/>
              </a:rPr>
              <a:t>Z1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+R</a:t>
            </a:r>
            <a:r>
              <a:rPr b="1" lang="en-US" sz="2400" spc="-1" strike="noStrike" baseline="-25000">
                <a:solidFill>
                  <a:srgbClr val="ffff66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=Q</a:t>
            </a:r>
            <a:r>
              <a:rPr b="1" lang="en-US" sz="2400" spc="-1" strike="noStrike" baseline="-25000">
                <a:solidFill>
                  <a:srgbClr val="ffff66"/>
                </a:solidFill>
                <a:latin typeface="Times New Roman"/>
              </a:rPr>
              <a:t>Z2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+D</a:t>
            </a:r>
            <a:r>
              <a:rPr b="1" lang="en-US" sz="2400" spc="-1" strike="noStrike" baseline="-25000">
                <a:solidFill>
                  <a:srgbClr val="ffff66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H+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57200" y="457200"/>
            <a:ext cx="8001000" cy="520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BALANCE HIDROLÓGICO DE UN EMB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73280" y="3587760"/>
            <a:ext cx="7175160" cy="1822320"/>
          </a:xfrm>
          <a:custGeom>
            <a:avLst/>
            <a:gdLst/>
            <a:ahLst/>
            <a:rect l="l" t="t" r="r" b="b"/>
            <a:pathLst>
              <a:path w="4520" h="1148">
                <a:moveTo>
                  <a:pt x="66" y="0"/>
                </a:moveTo>
                <a:cubicBezTo>
                  <a:pt x="98" y="5"/>
                  <a:pt x="118" y="4"/>
                  <a:pt x="144" y="23"/>
                </a:cubicBezTo>
                <a:cubicBezTo>
                  <a:pt x="156" y="32"/>
                  <a:pt x="173" y="58"/>
                  <a:pt x="191" y="62"/>
                </a:cubicBezTo>
                <a:cubicBezTo>
                  <a:pt x="222" y="68"/>
                  <a:pt x="253" y="67"/>
                  <a:pt x="284" y="70"/>
                </a:cubicBezTo>
                <a:cubicBezTo>
                  <a:pt x="292" y="73"/>
                  <a:pt x="300" y="74"/>
                  <a:pt x="308" y="78"/>
                </a:cubicBezTo>
                <a:cubicBezTo>
                  <a:pt x="316" y="82"/>
                  <a:pt x="322" y="90"/>
                  <a:pt x="331" y="94"/>
                </a:cubicBezTo>
                <a:cubicBezTo>
                  <a:pt x="397" y="122"/>
                  <a:pt x="479" y="130"/>
                  <a:pt x="549" y="148"/>
                </a:cubicBezTo>
                <a:cubicBezTo>
                  <a:pt x="566" y="152"/>
                  <a:pt x="579" y="168"/>
                  <a:pt x="596" y="171"/>
                </a:cubicBezTo>
                <a:cubicBezTo>
                  <a:pt x="635" y="177"/>
                  <a:pt x="674" y="176"/>
                  <a:pt x="713" y="179"/>
                </a:cubicBezTo>
                <a:cubicBezTo>
                  <a:pt x="802" y="194"/>
                  <a:pt x="879" y="232"/>
                  <a:pt x="970" y="242"/>
                </a:cubicBezTo>
                <a:cubicBezTo>
                  <a:pt x="997" y="250"/>
                  <a:pt x="1023" y="266"/>
                  <a:pt x="1048" y="273"/>
                </a:cubicBezTo>
                <a:cubicBezTo>
                  <a:pt x="1184" y="312"/>
                  <a:pt x="1330" y="327"/>
                  <a:pt x="1469" y="351"/>
                </a:cubicBezTo>
                <a:cubicBezTo>
                  <a:pt x="1574" y="369"/>
                  <a:pt x="1682" y="359"/>
                  <a:pt x="1788" y="366"/>
                </a:cubicBezTo>
                <a:cubicBezTo>
                  <a:pt x="1829" y="376"/>
                  <a:pt x="1913" y="390"/>
                  <a:pt x="1913" y="390"/>
                </a:cubicBezTo>
                <a:cubicBezTo>
                  <a:pt x="1962" y="409"/>
                  <a:pt x="2002" y="432"/>
                  <a:pt x="2046" y="460"/>
                </a:cubicBezTo>
                <a:cubicBezTo>
                  <a:pt x="2067" y="473"/>
                  <a:pt x="2084" y="496"/>
                  <a:pt x="2108" y="499"/>
                </a:cubicBezTo>
                <a:cubicBezTo>
                  <a:pt x="2175" y="506"/>
                  <a:pt x="2243" y="504"/>
                  <a:pt x="2311" y="507"/>
                </a:cubicBezTo>
                <a:cubicBezTo>
                  <a:pt x="2363" y="518"/>
                  <a:pt x="2414" y="527"/>
                  <a:pt x="2466" y="538"/>
                </a:cubicBezTo>
                <a:cubicBezTo>
                  <a:pt x="2539" y="583"/>
                  <a:pt x="2641" y="589"/>
                  <a:pt x="2724" y="600"/>
                </a:cubicBezTo>
                <a:cubicBezTo>
                  <a:pt x="2785" y="616"/>
                  <a:pt x="2848" y="618"/>
                  <a:pt x="2911" y="623"/>
                </a:cubicBezTo>
                <a:cubicBezTo>
                  <a:pt x="2973" y="639"/>
                  <a:pt x="3037" y="644"/>
                  <a:pt x="3098" y="662"/>
                </a:cubicBezTo>
                <a:cubicBezTo>
                  <a:pt x="3213" y="745"/>
                  <a:pt x="3327" y="730"/>
                  <a:pt x="3472" y="740"/>
                </a:cubicBezTo>
                <a:cubicBezTo>
                  <a:pt x="3558" y="775"/>
                  <a:pt x="3628" y="793"/>
                  <a:pt x="3721" y="803"/>
                </a:cubicBezTo>
                <a:cubicBezTo>
                  <a:pt x="3875" y="852"/>
                  <a:pt x="4030" y="896"/>
                  <a:pt x="4189" y="927"/>
                </a:cubicBezTo>
                <a:cubicBezTo>
                  <a:pt x="4217" y="939"/>
                  <a:pt x="4248" y="943"/>
                  <a:pt x="4274" y="959"/>
                </a:cubicBezTo>
                <a:cubicBezTo>
                  <a:pt x="4316" y="986"/>
                  <a:pt x="4350" y="1000"/>
                  <a:pt x="4399" y="1013"/>
                </a:cubicBezTo>
                <a:cubicBezTo>
                  <a:pt x="4429" y="1034"/>
                  <a:pt x="4458" y="1056"/>
                  <a:pt x="4492" y="1068"/>
                </a:cubicBezTo>
                <a:cubicBezTo>
                  <a:pt x="4520" y="1148"/>
                  <a:pt x="4401" y="1078"/>
                  <a:pt x="4360" y="1068"/>
                </a:cubicBezTo>
                <a:cubicBezTo>
                  <a:pt x="4337" y="1062"/>
                  <a:pt x="4313" y="1063"/>
                  <a:pt x="4290" y="1060"/>
                </a:cubicBezTo>
                <a:cubicBezTo>
                  <a:pt x="4144" y="1010"/>
                  <a:pt x="3999" y="966"/>
                  <a:pt x="3846" y="943"/>
                </a:cubicBezTo>
                <a:cubicBezTo>
                  <a:pt x="3781" y="921"/>
                  <a:pt x="3703" y="912"/>
                  <a:pt x="3635" y="904"/>
                </a:cubicBezTo>
                <a:cubicBezTo>
                  <a:pt x="3574" y="883"/>
                  <a:pt x="3505" y="889"/>
                  <a:pt x="3440" y="881"/>
                </a:cubicBezTo>
                <a:cubicBezTo>
                  <a:pt x="3247" y="831"/>
                  <a:pt x="3055" y="816"/>
                  <a:pt x="2856" y="803"/>
                </a:cubicBezTo>
                <a:cubicBezTo>
                  <a:pt x="2788" y="785"/>
                  <a:pt x="2859" y="807"/>
                  <a:pt x="2801" y="779"/>
                </a:cubicBezTo>
                <a:cubicBezTo>
                  <a:pt x="2791" y="774"/>
                  <a:pt x="2755" y="767"/>
                  <a:pt x="2747" y="764"/>
                </a:cubicBezTo>
                <a:cubicBezTo>
                  <a:pt x="2684" y="740"/>
                  <a:pt x="2638" y="724"/>
                  <a:pt x="2568" y="717"/>
                </a:cubicBezTo>
                <a:cubicBezTo>
                  <a:pt x="2513" y="703"/>
                  <a:pt x="2467" y="676"/>
                  <a:pt x="2412" y="662"/>
                </a:cubicBezTo>
                <a:cubicBezTo>
                  <a:pt x="2346" y="621"/>
                  <a:pt x="2261" y="622"/>
                  <a:pt x="2186" y="616"/>
                </a:cubicBezTo>
                <a:cubicBezTo>
                  <a:pt x="2126" y="596"/>
                  <a:pt x="2062" y="590"/>
                  <a:pt x="1999" y="584"/>
                </a:cubicBezTo>
                <a:cubicBezTo>
                  <a:pt x="1913" y="566"/>
                  <a:pt x="1953" y="573"/>
                  <a:pt x="1882" y="561"/>
                </a:cubicBezTo>
                <a:cubicBezTo>
                  <a:pt x="1840" y="545"/>
                  <a:pt x="1801" y="531"/>
                  <a:pt x="1757" y="522"/>
                </a:cubicBezTo>
                <a:cubicBezTo>
                  <a:pt x="1705" y="497"/>
                  <a:pt x="1657" y="490"/>
                  <a:pt x="1601" y="483"/>
                </a:cubicBezTo>
                <a:cubicBezTo>
                  <a:pt x="1535" y="460"/>
                  <a:pt x="1618" y="486"/>
                  <a:pt x="1461" y="468"/>
                </a:cubicBezTo>
                <a:cubicBezTo>
                  <a:pt x="1435" y="465"/>
                  <a:pt x="1409" y="454"/>
                  <a:pt x="1383" y="452"/>
                </a:cubicBezTo>
                <a:cubicBezTo>
                  <a:pt x="1349" y="449"/>
                  <a:pt x="1316" y="447"/>
                  <a:pt x="1282" y="444"/>
                </a:cubicBezTo>
                <a:cubicBezTo>
                  <a:pt x="1194" y="426"/>
                  <a:pt x="1301" y="446"/>
                  <a:pt x="1157" y="429"/>
                </a:cubicBezTo>
                <a:cubicBezTo>
                  <a:pt x="1120" y="425"/>
                  <a:pt x="1084" y="411"/>
                  <a:pt x="1048" y="405"/>
                </a:cubicBezTo>
                <a:cubicBezTo>
                  <a:pt x="963" y="377"/>
                  <a:pt x="1002" y="386"/>
                  <a:pt x="931" y="374"/>
                </a:cubicBezTo>
                <a:cubicBezTo>
                  <a:pt x="832" y="333"/>
                  <a:pt x="731" y="328"/>
                  <a:pt x="627" y="312"/>
                </a:cubicBezTo>
                <a:cubicBezTo>
                  <a:pt x="552" y="300"/>
                  <a:pt x="475" y="276"/>
                  <a:pt x="401" y="257"/>
                </a:cubicBezTo>
                <a:cubicBezTo>
                  <a:pt x="335" y="240"/>
                  <a:pt x="272" y="213"/>
                  <a:pt x="207" y="195"/>
                </a:cubicBezTo>
                <a:cubicBezTo>
                  <a:pt x="183" y="188"/>
                  <a:pt x="160" y="179"/>
                  <a:pt x="136" y="171"/>
                </a:cubicBezTo>
                <a:cubicBezTo>
                  <a:pt x="128" y="169"/>
                  <a:pt x="113" y="164"/>
                  <a:pt x="113" y="164"/>
                </a:cubicBezTo>
                <a:cubicBezTo>
                  <a:pt x="88" y="147"/>
                  <a:pt x="68" y="126"/>
                  <a:pt x="43" y="109"/>
                </a:cubicBezTo>
                <a:cubicBezTo>
                  <a:pt x="0" y="47"/>
                  <a:pt x="50" y="46"/>
                  <a:pt x="66" y="0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324480" y="3048120"/>
            <a:ext cx="1447920" cy="2286000"/>
          </a:xfrm>
          <a:custGeom>
            <a:avLst/>
            <a:gdLst/>
            <a:ahLst/>
            <a:rect l="l" t="t" r="r" b="b"/>
            <a:pathLst>
              <a:path w="912" h="1392">
                <a:moveTo>
                  <a:pt x="0" y="1056"/>
                </a:moveTo>
                <a:lnTo>
                  <a:pt x="336" y="0"/>
                </a:lnTo>
                <a:lnTo>
                  <a:pt x="624" y="0"/>
                </a:lnTo>
                <a:lnTo>
                  <a:pt x="912" y="1392"/>
                </a:lnTo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00800" y="457200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324480" y="464832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381880" y="49528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696080" y="5029200"/>
            <a:ext cx="60984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4114800"/>
            <a:ext cx="16002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153280" y="39625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78168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315200" y="32004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001000" y="30481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914400" y="3200400"/>
            <a:ext cx="58672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114800" y="3276720"/>
            <a:ext cx="6858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67080" y="3352680"/>
            <a:ext cx="3812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419720" y="3429000"/>
            <a:ext cx="1522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334120" y="2209680"/>
            <a:ext cx="838080" cy="990720"/>
            <a:chOff x="5334120" y="2209680"/>
            <a:chExt cx="838080" cy="990720"/>
          </a:xfrm>
        </p:grpSpPr>
        <p:sp>
          <p:nvSpPr>
            <p:cNvPr id="308" name=""/>
            <p:cNvSpPr/>
            <p:nvPr/>
          </p:nvSpPr>
          <p:spPr>
            <a:xfrm>
              <a:off x="5334120" y="2666880"/>
              <a:ext cx="304560" cy="533520"/>
            </a:xfrm>
            <a:prstGeom prst="upArrow">
              <a:avLst>
                <a:gd name="adj1" fmla="val 50000"/>
                <a:gd name="adj2" fmla="val 4379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34120" y="22096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99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048120" y="1676520"/>
            <a:ext cx="1295280" cy="976320"/>
            <a:chOff x="3048120" y="1676520"/>
            <a:chExt cx="1295280" cy="976320"/>
          </a:xfrm>
        </p:grpSpPr>
        <p:sp>
          <p:nvSpPr>
            <p:cNvPr id="311" name=""/>
            <p:cNvSpPr/>
            <p:nvPr/>
          </p:nvSpPr>
          <p:spPr>
            <a:xfrm>
              <a:off x="3048120" y="1676520"/>
              <a:ext cx="485640" cy="976320"/>
            </a:xfrm>
            <a:prstGeom prst="downArrow">
              <a:avLst>
                <a:gd name="adj1" fmla="val 50000"/>
                <a:gd name="adj2" fmla="val 50259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657600" y="2133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480060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495680" y="4114800"/>
            <a:ext cx="152640" cy="1143000"/>
          </a:xfrm>
          <a:prstGeom prst="downArrow">
            <a:avLst>
              <a:gd name="adj1" fmla="val 50000"/>
              <a:gd name="adj2" fmla="val 18720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533520" y="1981080"/>
            <a:ext cx="1218960" cy="1143000"/>
            <a:chOff x="533520" y="1981080"/>
            <a:chExt cx="1218960" cy="1143000"/>
          </a:xfrm>
        </p:grpSpPr>
        <p:sp>
          <p:nvSpPr>
            <p:cNvPr id="316" name=""/>
            <p:cNvSpPr/>
            <p:nvPr/>
          </p:nvSpPr>
          <p:spPr>
            <a:xfrm>
              <a:off x="533520" y="2819520"/>
              <a:ext cx="685800" cy="304560"/>
            </a:xfrm>
            <a:prstGeom prst="rightArrow">
              <a:avLst>
                <a:gd name="adj1" fmla="val 50000"/>
                <a:gd name="adj2" fmla="val 56294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66680" y="198108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s-ES_tradnl" sz="2400" spc="-1" strike="noStrike" baseline="-25000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523880" y="5486400"/>
            <a:ext cx="4648320" cy="579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Times New Roman"/>
              </a:rPr>
              <a:t>Qa+P=Q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Times New Roman"/>
              </a:rPr>
              <a:t>V</a:t>
            </a:r>
            <a:r>
              <a:rPr b="1" lang="es-ES_tradnl" sz="2800" spc="-1" strike="noStrike">
                <a:solidFill>
                  <a:srgbClr val="ff3300"/>
                </a:solidFill>
                <a:latin typeface="Times New Roman"/>
              </a:rPr>
              <a:t>+Q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es-ES_tradnl" sz="2800" spc="-1" strike="noStrike">
                <a:solidFill>
                  <a:srgbClr val="ff3300"/>
                </a:solidFill>
                <a:latin typeface="Times New Roman"/>
              </a:rPr>
              <a:t>+I+I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es-ES_tradnl" sz="2800" spc="-1" strike="noStrike">
                <a:solidFill>
                  <a:srgbClr val="ff3300"/>
                </a:solidFill>
                <a:latin typeface="Times New Roman"/>
              </a:rPr>
              <a:t>+E+</a:t>
            </a:r>
            <a:r>
              <a:rPr b="1" lang="es-ES_tradnl" sz="28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ff33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38080" y="5638680"/>
            <a:ext cx="3049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71500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914400" y="5335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ble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3520" y="1676520"/>
            <a:ext cx="8305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un lago como el que se esquematiza en la figura caen 150 mm de precipitación en un año, se evaporan 250 mm y el caudal afluente promedio anual es de 20 m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/s. ¿cuánto varía su nive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0" y="3886200"/>
            <a:ext cx="5029200" cy="609480"/>
          </a:xfrm>
          <a:custGeom>
            <a:avLst/>
            <a:gdLst/>
            <a:ahLst/>
            <a:rect l="l" t="t" r="r" b="b"/>
            <a:pathLst>
              <a:path w="3168" h="384">
                <a:moveTo>
                  <a:pt x="826" y="8"/>
                </a:moveTo>
                <a:lnTo>
                  <a:pt x="0" y="384"/>
                </a:lnTo>
                <a:lnTo>
                  <a:pt x="2448" y="384"/>
                </a:lnTo>
                <a:lnTo>
                  <a:pt x="3168" y="0"/>
                </a:lnTo>
                <a:lnTo>
                  <a:pt x="81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286000" y="5546880"/>
            <a:ext cx="2671920" cy="625320"/>
          </a:xfrm>
          <a:custGeom>
            <a:avLst/>
            <a:gdLst/>
            <a:ahLst/>
            <a:rect l="l" t="t" r="r" b="b"/>
            <a:pathLst>
              <a:path w="1683" h="394">
                <a:moveTo>
                  <a:pt x="950" y="394"/>
                </a:moveTo>
                <a:lnTo>
                  <a:pt x="1683" y="0"/>
                </a:lnTo>
                <a:lnTo>
                  <a:pt x="819" y="0"/>
                </a:lnTo>
                <a:lnTo>
                  <a:pt x="0" y="394"/>
                </a:lnTo>
                <a:lnTo>
                  <a:pt x="971" y="39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581280" y="38862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86000" y="44956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952880" y="3885840"/>
            <a:ext cx="236232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3809880" y="4495320"/>
            <a:ext cx="236232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76920" y="6172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Área basal 100hectá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76720" y="6095880"/>
            <a:ext cx="1612800" cy="533520"/>
          </a:xfrm>
          <a:custGeom>
            <a:avLst/>
            <a:gdLst/>
            <a:ahLst/>
            <a:rect l="l" t="t" r="r" b="b"/>
            <a:pathLst>
              <a:path w="1016" h="336">
                <a:moveTo>
                  <a:pt x="960" y="288"/>
                </a:moveTo>
                <a:cubicBezTo>
                  <a:pt x="988" y="288"/>
                  <a:pt x="1016" y="288"/>
                  <a:pt x="912" y="288"/>
                </a:cubicBezTo>
                <a:cubicBezTo>
                  <a:pt x="808" y="288"/>
                  <a:pt x="488" y="336"/>
                  <a:pt x="336" y="288"/>
                </a:cubicBezTo>
                <a:cubicBezTo>
                  <a:pt x="184" y="240"/>
                  <a:pt x="92" y="12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34290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"/>
              </a:rPr>
              <a:t>Área superficial máxima 5000 hectá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0" y="39625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04920" y="4648320"/>
            <a:ext cx="1752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"/>
              </a:rPr>
              <a:t>Hmáx: 5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"/>
              </a:rPr>
              <a:t>Hinicial:3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2286000" y="4800240"/>
            <a:ext cx="1295280" cy="6094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5410080"/>
            <a:ext cx="259092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581280" y="4800600"/>
            <a:ext cx="243864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876560" y="4800600"/>
            <a:ext cx="1143000" cy="6094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6T21:22:32Z</dcterms:created>
  <dc:creator>Ximena Vargas</dc:creator>
  <dc:description/>
  <dc:language>en-US</dc:language>
  <cp:lastModifiedBy>xv</cp:lastModifiedBy>
  <dcterms:modified xsi:type="dcterms:W3CDTF">2005-07-26T16:05:10Z</dcterms:modified>
  <cp:revision>17</cp:revision>
  <dc:subject/>
  <dc:title>Sin título de diapositiva</dc:title>
</cp:coreProperties>
</file>