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2D9-813B-4E76-ACE5-5E4E2BCE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3D9-9B1F-4F48-80F8-BD636BA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6EB-66C1-4C38-8166-68E5DA7D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583-0361-4F72-9B4A-245C49D3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FC1-6843-4929-A217-34161984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F1B-B53B-4D80-A05E-BC890E8D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EF1-015B-4407-9C82-30C00D86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62E-FCAE-44A5-92C3-CDD9D3DD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63C-92C3-4C0B-89D7-6D50EA72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197-4EC7-4651-979B-67D2EB9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F38-3FFE-4F32-82DF-41A4ED08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C15-D5FB-469F-92D9-58FFC28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3B5A-2A31-4B43-8DB8-14CD88BF65A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28800"/>
            <a:ext cx="7010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l agua es uno de los recursos naturales mas preciados por el homb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ital para la existencia de vida en l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segura desarrollo social y económico   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 los pueb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46483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umento de la dema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ayor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ejor calidad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8640" y="152280"/>
            <a:ext cx="2295360" cy="34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150-BE4E-4C7D-863A-95928ECEA931}" type="slidenum">
              <a:t>1</a:t>
            </a:fld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1066680"/>
            <a:ext cx="8534520" cy="4117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Cuáles son los recursos hídricos de una hoya hidrográfica o región; son ellos adecuados en cuanto a su distribución espacial, temporal y grado de probabilidad de ocurrencia, para permitir el desarrollo agrícola, urbano e industrial de la zo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Cuáles son los factores y características hidrológicas de una región que determinan y posibilitan la evaluación económica, el diseño, construcción, operación y mantención de obras de aprovechamiento, control y evacuación de los recursos de agu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05D-F093-439F-B090-52889903787E}" type="slidenum">
              <a:t>10</a:t>
            </a:fld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762120"/>
            <a:ext cx="8736120" cy="50392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Cuáles son los efectos físicos, económicos, legales y de calidad de ciertos cambios en el uso de la tierra (re o deforestación, obras de riego y drenaje, urbanización, explotación intensiva de acuíferos) y sus efectos en la circulación y disponibilidad de agua en la región considera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Qué tipos de obras hidráulicas y qué características deben tener, para aprovechar los recursos de agua económicamente disponibles y para satisfacer demandas competitivas en el tiempo y en el espacio y en cantidad y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727-C728-4C41-B660-9CCB0CD9EA5F}" type="slidenum">
              <a:t>11</a:t>
            </a:fld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6858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CAMPOS Y METODO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        </a:t>
            </a: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ESTUDIO E INVESTIGACION HIDR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743200"/>
            <a:ext cx="7467480" cy="247896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iclo hidrológico: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idealización del movimiento, distribución y circulación del agua en la Tierra, entre la atmósfera-litósfera-hidrósfera y nuevamente a la atmósf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AF5-9D59-44D9-A3EF-33BEF92083C9}" type="slidenum">
              <a:t>12</a:t>
            </a:fld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89040" y="609480"/>
            <a:ext cx="3494160" cy="99072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UDIO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5040"/>
            <a:ext cx="3639960" cy="1216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HIDROLOGÍA FÍSICA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Fenómenos Componentes del ciclo hidrológico y sus interrel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72080" y="2975040"/>
            <a:ext cx="3786120" cy="21304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INVESTIGACIÓN DE SISTEMAS HIDROLÓGICOS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Determinación de las relaciones de "entrada y salida" de los sistemas hidrológicos para la reconstitución y predicción de series y procesos hidro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90656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6560" y="2147760"/>
            <a:ext cx="465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6604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32C-69AF-4837-85FE-E04C21143834}" type="slidenum">
              <a:t>13</a:t>
            </a:fld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2480" y="2881440"/>
            <a:ext cx="2011320" cy="1736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Meteor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Climat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Transferencias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nerg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Física de Sue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Agronom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Bio-Sistem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c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Hidráulica de Cuen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48120" y="2259000"/>
            <a:ext cx="1554120" cy="6397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ARAMÉTRICA O DETERMIN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9720" y="2982960"/>
            <a:ext cx="1646280" cy="458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ROBABIL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52480" y="152280"/>
            <a:ext cx="4938840" cy="1729080"/>
            <a:chOff x="1752480" y="152280"/>
            <a:chExt cx="4938840" cy="1729080"/>
          </a:xfrm>
        </p:grpSpPr>
        <p:sp>
          <p:nvSpPr>
            <p:cNvPr id="87" name=""/>
            <p:cNvSpPr/>
            <p:nvPr/>
          </p:nvSpPr>
          <p:spPr>
            <a:xfrm>
              <a:off x="3216240" y="152280"/>
              <a:ext cx="1919160" cy="54936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ESTUDIO DEL CICLO  HIDROLÓGI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1149480"/>
              <a:ext cx="1828800" cy="3664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HIDROLOGÍA FÍS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78200" y="1149480"/>
              <a:ext cx="2013120" cy="731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Verdana"/>
                </a:rPr>
                <a:t>INVESTIGACIÓN DE SISTEMAS HIDROLÓG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30640" y="692280"/>
              <a:ext cx="0" cy="274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968400"/>
              <a:ext cx="2925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9260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59040" y="1533600"/>
            <a:ext cx="0" cy="13604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760" y="1895400"/>
            <a:ext cx="0" cy="182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78200" y="2074680"/>
            <a:ext cx="0" cy="183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78200" y="2077920"/>
            <a:ext cx="1463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41960" y="207792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801960" y="4857840"/>
            <a:ext cx="914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5040" y="5315040"/>
            <a:ext cx="2103480" cy="100476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ANALISIS DE REGRE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SINTESIS GRAL.SIST. SINTESIS PARCIAL CON ANALISIS LINEAL ANALISIS NO LIN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83200" y="5315040"/>
            <a:ext cx="228600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FRECUENCIA ANALISIS ESPEC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ETODOS DE MONTE CAR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ODELOS AR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INCERTIDUMB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TEORIA DE DECI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80120" y="3486240"/>
            <a:ext cx="0" cy="1828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1960" y="48578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936880"/>
            <a:ext cx="0" cy="1920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571500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257800"/>
            <a:ext cx="1828800" cy="9169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Reconstruir o predecir series hidrolo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09800">
            <a:off x="7238880" y="487656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3886200"/>
            <a:ext cx="205740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decir y simular comportamiento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DC5-3C61-4CD2-A0C3-480C45FB969E}" type="slidenum">
              <a:t>14</a:t>
            </a:fld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990720"/>
            <a:ext cx="7772400" cy="50392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Los diferentes enfoques y métodos hidrológicos tienen claras diferencias entre sí, pero todos ellos comparten dos importantes 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u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ependencia de los dato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y los registros históricos de los valores de los parámetros y variables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b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e basan en la hipótesis de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nvarianci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n el tiempo de los sistemas hidr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133-48D5-48B4-9FCE-B33DBF40D278}" type="slidenum">
              <a:t>15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mpetencia entre los diversos sectores productivos por el uso del re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97180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xpansión urb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ntensificación del aprovechamiento de fuent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roblemas de dre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us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194760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5C0-9380-4153-A125-B87E5809EBF1}" type="slidenum">
              <a:t>2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DROLOGIA participa en la solución de estos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21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Búsqueda de nuevos y mejores conocimientos sobre la distribución, existencia y comportamiento del agua en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7091400">
            <a:off x="4190760" y="2514240"/>
            <a:ext cx="990360" cy="6858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352680"/>
            <a:ext cx="59436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ALUACION Y UTILIZACION EFICIENTE DEL RE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4648320"/>
            <a:ext cx="7010640" cy="1557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orte de antecedentes para el diseño óptimo y seguro de las obras hidráulicas necesarias para un aprovechamiento del recurso acorde a necesidades actuales y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71A-D4E3-4B31-8AD6-9ED00744B3B1}" type="slidenum">
              <a:t>3</a:t>
            </a:fld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533520"/>
            <a:ext cx="7696080" cy="48639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1965 Decenio Hidrológico Internacional (DHI) 1975 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rograma 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drológico 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nternacional (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PHI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Programas internacionales patrocinados por UNESCO y otros organismos de las Nacione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Propósito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: promover y coordinar programas a largo plazo de cooperación e intercambio internacional, con el objeto de desarrollar nuevos conocimientos científicos en el campo de la Hidrología, que permitan elaborar tecnologías nuevas para hacer frente a la demanda actual y futura de recursos hidr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3E0-85C1-4A2F-B762-FD03CE5BA604}" type="slidenum">
              <a:t>4</a:t>
            </a:fld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7543800" cy="24789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idrologí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s la ciencia que tiene relación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AH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Asociación Internacional de Ciencias Hidrológicas : Ciencia de la Tierra y parte de la Geografía Física, por cuanto trata principalmente con el agua en la cortez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81280"/>
            <a:ext cx="8610480" cy="228852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Mead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04): "la ciencia del agua que constituye la base de todos los problemas de ingeniería hidráulica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orto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31): "como una ciencia pura, la Hidrología trata de la existencia, distribución y circulación del agua dentro y sobre las capas superficiales de la corteza terrestr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CE6-1618-4910-B0C8-D22981743AD5}" type="slidenum">
              <a:t>5</a:t>
            </a:fld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609480"/>
            <a:ext cx="8153280" cy="5214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icc. Merriam-Webster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1): "Hidrología es la ciencia que trata de las propiedades, distribución, existencia y circulación del agua; específicamente, el estudio del agua en la superficie de la tierra, en el suelo, estratos rocosos y en la atmósfera, particularmente en relación con los procesos de evaporación y precipitación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Consejo Federal para la Ciencia y la Tecnología de E.E.U.U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2) "La Hidrología es la ciencia que trata de las aguas de la Tierra, su existencia, circulación y distribución, sus propiedades físicas, químicas y sus reacciones con el medio ambiente, incluyendo su relación con los organismos vivo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8EE-868C-4578-BCA3-6D1700E64A55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914400"/>
            <a:ext cx="716292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Meteorología, Climatología, Geografía Física, Geología, Geomorfología, Oceanografía, Limnologí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ciencias de la tier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648320"/>
            <a:ext cx="716292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gronomía, Mecánica y Física de Suelos, Hidráulica y Mecánica de Fluidos, Estadística Matemática, Análisis Matemático, Análisis de Sistemas y la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505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discipli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2872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53D-B054-4893-BBBA-18576539467F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nundacion%201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176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0"/>
            <a:ext cx="731520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principal aplicación de la Hidrología es a la Ingeniería en general y a la Ingeniería Hidráulica e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124080"/>
            <a:ext cx="8305920" cy="33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nálisis y estudios hidrológicos relacionados por ejemplo con: caudales medios disponibles (diarios, mensuales, anuales), magnitud y distribución en el tiempo y el espacio de las crecidas, previsión de caudales a corto y mediano plazo, estimación y métodos de control de la evaporación y evapotranspiración, determinación de caudales subterráneos e identificación de zonas de recarga de agua subterránea y su respectiva magnitud, etc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57200"/>
            <a:ext cx="457200" cy="2514600"/>
          </a:xfrm>
          <a:custGeom>
            <a:avLst/>
            <a:gdLst>
              <a:gd name="textAreaLeft" fmla="*/ 61200 w 457200"/>
              <a:gd name="textAreaRight" fmla="*/ 396000 w 45720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E2E-03ED-48E6-BD4C-03D97D2717CE}" type="slidenum">
              <a:t>8</a:t>
            </a:fld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724280"/>
            <a:ext cx="88390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iseño y dimensionamiento de obras hidráulicas (o de obras civiles afectadas por el agua como caminos, puentes, puertos, algunos edificios, etc.) establecer sus condiciones de construcción, operación y explotación, y conocer y elegir la seguridad hidrológica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xb_small%20embalse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267440" cy="2814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504960" cy="25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977-9C92-4B28-87CE-01429DC94AA3}" type="slidenum">
              <a:t>9</a:t>
            </a:fld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16:09:08Z</dcterms:created>
  <dc:creator>Ximena Vargas</dc:creator>
  <dc:description/>
  <dc:language>en-US</dc:language>
  <cp:lastModifiedBy>xv</cp:lastModifiedBy>
  <dcterms:modified xsi:type="dcterms:W3CDTF">2005-07-26T16:08:59Z</dcterms:modified>
  <cp:revision>11</cp:revision>
  <dc:subject/>
  <dc:title>Sin título de diapositiva</dc:title>
</cp:coreProperties>
</file>