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8F05-B54B-4463-AF2A-24A01B46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8B9E-6FDD-4FA9-9AD0-C231AC39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9D1-E784-4B3F-80D0-46CF6CBE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E807-6F63-41FC-92DF-CDB28A9B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28B-09AC-445E-82C8-17A7C35C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74F-722B-4AB3-AE3B-A926B669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F32-08A7-4344-949C-1429558F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23A-6CEC-4446-B26D-8A4C8C95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2DF-0BEA-4990-9A1A-ADEF525B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6FD-6B67-4CD0-8884-40A81379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6265-F5C3-419E-A4C8-B4E88AB4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FC4-A550-4F2B-977F-4490BF80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F2E8-14DE-4932-92BF-D4E088F0D82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380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erdana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828800"/>
            <a:ext cx="7010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l agua es uno de los recursos naturales mas preciados por el homb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vital para la existencia de vida en l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segura desarrollo social y económico       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e los pueb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181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4648320"/>
            <a:ext cx="4800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umento de la dema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mayor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mejor calidad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8640" y="152280"/>
            <a:ext cx="2295360" cy="34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932-88AD-4110-9116-24C460EAB4AB}" type="slidenum">
              <a:t>1</a:t>
            </a:fld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1066680"/>
            <a:ext cx="8534520" cy="41173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Cuáles son los recursos hídricos de una hoya hidrográfica o región; son ellos adecuados en cuanto a su distribución espacial, temporal y grado de probabilidad de ocurrencia, para permitir el desarrollo agrícola, urbano e industrial de la zo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Cuáles son los factores y características hidrológicas de una región que determinan y posibilitan la evaluación económica, el diseño, construcción, operación y mantención de obras de aprovechamiento, control y evacuación de los recursos de agua de l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B273-6249-41F2-9B44-F1B933E2800D}" type="slidenum">
              <a:t>10</a:t>
            </a:fld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762120"/>
            <a:ext cx="8736120" cy="50392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Cuáles son los efectos físicos, económicos, legales y de calidad de ciertos cambios en el uso de la tierra (re o deforestación, obras de riego y drenaje, urbanización, explotación intensiva de acuíferos) y sus efectos en la circulación y disponibilidad de agua en la región considerad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Qué tipos de obras hidráulicas y qué características deben tener, para aprovechar los recursos de agua económicamente disponibles y para satisfacer demandas competitivas en el tiempo y en el espacio y en cantidad y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2097-72A2-4875-B10E-8E35697FCD82}" type="slidenum">
              <a:t>11</a:t>
            </a:fld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68580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Verdana"/>
              </a:rPr>
              <a:t>CAMPOS Y METODOS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Verdana"/>
              </a:rPr>
              <a:t>        </a:t>
            </a:r>
            <a:r>
              <a:rPr b="1" lang="es-CL" sz="2400" spc="-1" strike="noStrike" u="sng">
                <a:solidFill>
                  <a:srgbClr val="000066"/>
                </a:solidFill>
                <a:uFillTx/>
                <a:latin typeface="Verdana"/>
              </a:rPr>
              <a:t>ESTUDIO E INVESTIGACION HIDROLO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743200"/>
            <a:ext cx="7467480" cy="247896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Ciclo hidrológico: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idealización del movimiento, distribución y circulación del agua en la Tierra, entre la atmósfera-litósfera-hidrósfera y nuevamente a la atmósf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2C41-9D55-44D1-9D7D-3B74F06E66A3}" type="slidenum">
              <a:t>12</a:t>
            </a:fld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89040" y="609480"/>
            <a:ext cx="3494160" cy="99072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STUDIO DEL CICLO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5040"/>
            <a:ext cx="3639960" cy="12160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Tahoma"/>
              </a:rPr>
              <a:t>HIDROLOGÍA FÍSICA</a:t>
            </a: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Fenómenos Componentes del ciclo hidrológico y sus interrel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72080" y="2975040"/>
            <a:ext cx="3786120" cy="21304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Tahoma"/>
              </a:rPr>
              <a:t>INVESTIGACIÓN DE SISTEMAS HIDROLÓGICOS</a:t>
            </a: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Determinación de las relaciones de "entrada y salida" de los sistemas hidrológicos para la reconstitución y predicción de series y procesos hidrológ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906560" y="2147760"/>
            <a:ext cx="144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6560" y="2147760"/>
            <a:ext cx="4659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66040" y="2147760"/>
            <a:ext cx="144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8E67-F190-4173-B4FB-8679D6EED3C3}" type="slidenum">
              <a:t>13</a:t>
            </a:fld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52480" y="2881440"/>
            <a:ext cx="2011320" cy="173664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Meteorolog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Climatolog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Transferencias d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Energí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Física de Suel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Agronomí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Bio-Sistem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Ecolog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Hidráulica de Cuenc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48120" y="2259000"/>
            <a:ext cx="1554120" cy="63972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HIDROLOGÍA PARAMÉTRICA O DETERMINÍS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19720" y="2982960"/>
            <a:ext cx="1646280" cy="45864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HIDROLOGÍA PROBABILÍS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752480" y="152280"/>
            <a:ext cx="4938840" cy="1729080"/>
            <a:chOff x="1752480" y="152280"/>
            <a:chExt cx="4938840" cy="1729080"/>
          </a:xfrm>
        </p:grpSpPr>
        <p:sp>
          <p:nvSpPr>
            <p:cNvPr id="87" name=""/>
            <p:cNvSpPr/>
            <p:nvPr/>
          </p:nvSpPr>
          <p:spPr>
            <a:xfrm>
              <a:off x="3216240" y="152280"/>
              <a:ext cx="1919160" cy="54936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66"/>
                  </a:solidFill>
                  <a:latin typeface="Tahoma"/>
                </a:rPr>
                <a:t>ESTUDIO DEL CICLO  HIDROLÓGIC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52480" y="1149480"/>
              <a:ext cx="1828800" cy="3664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66"/>
                  </a:solidFill>
                  <a:latin typeface="Tahoma"/>
                </a:rPr>
                <a:t>HIDROLOGÍA FÍSIC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78200" y="1149480"/>
              <a:ext cx="2013120" cy="7318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66"/>
                  </a:solidFill>
                  <a:latin typeface="Verdana"/>
                </a:rPr>
                <a:t>INVESTIGACIÓN DE SISTEMAS HIDROLÓGIC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30640" y="692280"/>
              <a:ext cx="0" cy="274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66880" y="968400"/>
              <a:ext cx="2925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6880" y="968400"/>
              <a:ext cx="0" cy="182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92600" y="968400"/>
              <a:ext cx="0" cy="182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59040" y="1533600"/>
            <a:ext cx="0" cy="136044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760" y="1895400"/>
            <a:ext cx="0" cy="1825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678200" y="2074680"/>
            <a:ext cx="0" cy="1839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78200" y="2077920"/>
            <a:ext cx="14637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41960" y="2077920"/>
            <a:ext cx="0" cy="9144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801960" y="4857840"/>
            <a:ext cx="9144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05040" y="5315040"/>
            <a:ext cx="2103480" cy="100476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Verdana"/>
              </a:rPr>
              <a:t>ANALISIS DE REGRE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Verdana"/>
              </a:rPr>
              <a:t>SINTESIS GRAL.SIST. SINTESIS PARCIAL CON ANALISIS LINEAL ANALISIS NO LINE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83200" y="5315040"/>
            <a:ext cx="228600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ANALISIS DE FRECUENCIA ANALISIS ESPEC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METODOS DE MONTE CARL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MODELOS AR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ANALISIS DE INCERTIDUMB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TEORIA DE DECIS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80120" y="3486240"/>
            <a:ext cx="0" cy="1828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1960" y="485784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2936880"/>
            <a:ext cx="0" cy="19209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571500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5257800"/>
            <a:ext cx="1828800" cy="91692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Reconstruir o predecir series hidrolog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909800">
            <a:off x="7238880" y="487656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3886200"/>
            <a:ext cx="2057400" cy="119124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redecir y simular comportamiento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2F0-5ADF-4292-B875-6A2576C9100A}" type="slidenum">
              <a:t>14</a:t>
            </a:fld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990720"/>
            <a:ext cx="7772400" cy="50392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Los diferentes enfoques y métodos hidrológicos tienen claras diferencias entre sí, pero todos ellos comparten dos importantes 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a)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Su 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dependencia de los datos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y los registros históricos de los valores de los parámetros y variables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b)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Se basan en la hipótesis de 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invariancia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en el tiempo de los sistemas hidrológ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56A-0300-469D-9117-E8EF8C2F7D23}" type="slidenum">
              <a:t>15</a:t>
            </a:fld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762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14479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mpetencia entre los diversos sectores productivos por el uso del recur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97180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xpansión urba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intensificación del aprovechamiento de fuent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problemas de dren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nta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reuso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562720" y="4038480"/>
            <a:ext cx="1947600" cy="259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F90D-CD47-4D51-B652-2140EA47F7DD}" type="slidenum">
              <a:t>2</a:t>
            </a:fld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IDROLOGIA participa en la solución de estos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1219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Búsqueda de nuevos y mejores conocimientos sobre la distribución, existencia y comportamiento del agua en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7091400">
            <a:off x="4190760" y="2514240"/>
            <a:ext cx="990360" cy="685800"/>
          </a:xfrm>
          <a:custGeom>
            <a:avLst/>
            <a:gdLst>
              <a:gd name="textAreaLeft" fmla="*/ 154800 w 990360"/>
              <a:gd name="textAreaRight" fmla="*/ 866880 w 9903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3352680"/>
            <a:ext cx="5943600" cy="82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ALUACION Y UTILIZACION EFICIENTE DEL RE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4648320"/>
            <a:ext cx="7010640" cy="1557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orte de antecedentes para el diseño óptimo y seguro de las obras hidráulicas necesarias para un aprovechamiento del recurso acorde a necesidades actuales y FU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151-EB59-4594-8A8C-F17152B1821E}" type="slidenum">
              <a:t>3</a:t>
            </a:fld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533520"/>
            <a:ext cx="7696080" cy="48639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1965 Decenio Hidrológico Internacional (DHI) 1975 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rograma 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H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idrológico 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nternacional (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PHI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Programas internacionales patrocinados por UNESCO y otros organismos de las Naciones Un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Propósito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: promover y coordinar programas a largo plazo de cooperación e intercambio internacional, con el objeto de desarrollar nuevos conocimientos científicos en el campo de la Hidrología, que permitan elaborar tecnologías nuevas para hacer frente a la demanda actual y futura de recursos hidrológ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77E-5239-435F-B248-7D374C64D04D}" type="slidenum">
              <a:t>4</a:t>
            </a:fld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457200"/>
            <a:ext cx="7543800" cy="247896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Hidrología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es la ciencia que tiene relación con e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IAHS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Asociación Internacional de Ciencias Hidrológicas : Ciencia de la Tierra y parte de la Geografía Física, por cuanto trata principalmente con el agua en la corteza 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581280"/>
            <a:ext cx="8610480" cy="228852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Mead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04): "la ciencia del agua que constituye la base de todos los problemas de ingeniería hidráulica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Horton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31): "como una ciencia pura, la Hidrología trata de la existencia, distribución y circulación del agua dentro y sobre las capas superficiales de la corteza terrestre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A1AB-38D1-465C-B797-E33065C75B66}" type="slidenum">
              <a:t>5</a:t>
            </a:fld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609480"/>
            <a:ext cx="8153280" cy="52146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Dicc. Merriam-Webster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61): "Hidrología es la ciencia que trata de las propiedades, distribución, existencia y circulación del agua; específicamente, el estudio del agua en la superficie de la tierra, en el suelo, estratos rocosos y en la atmósfera, particularmente en relación con los procesos de evaporación y precipitación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Consejo Federal para la Ciencia y la Tecnología de E.E.U.U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62) "La Hidrología es la ciencia que trata de las aguas de la Tierra, su existencia, circulación y distribución, sus propiedades físicas, químicas y sus reacciones con el medio ambiente, incluyendo su relación con los organismos vivos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13AB-7EED-4364-8501-8F2697473D3B}" type="slidenum">
              <a:t>6</a:t>
            </a:fld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66680" y="914400"/>
            <a:ext cx="716292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Meteorología, Climatología, Geografía Física, Geología, Geomorfología, Oceanografía, Limnología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04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Relacionada con ciencias de la tier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648320"/>
            <a:ext cx="7162920" cy="1557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Agronomía, Mecánica y Física de Suelos, Hidráulica y Mecánica de Fluidos, Estadística Matemática, Análisis Matemático, Análisis de Sistemas y la Ingenierí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3505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Relacionada con disciplin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62872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5285-D067-41AF-87A2-4A012DD18CAE}" type="slidenum">
              <a:t>7</a:t>
            </a:fld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nundacion%201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6019560" cy="1765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2120" y="0"/>
            <a:ext cx="731520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principal aplicación de la Hidrología es a la Ingeniería en general y a la Ingeniería Hidráulica en part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3124080"/>
            <a:ext cx="8305920" cy="33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Análisis y estudios hidrológicos relacionados por ejemplo con: caudales medios disponibles (diarios, mensuales, anuales), magnitud y distribución en el tiempo y el espacio de las crecidas, previsión de caudales a corto y mediano plazo, estimación y métodos de control de la evaporación y evapotranspiración, determinación de caudales subterráneos e identificación de zonas de recarga de agua subterránea y su respectiva magnitud, etc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457200"/>
            <a:ext cx="457200" cy="2514600"/>
          </a:xfrm>
          <a:custGeom>
            <a:avLst/>
            <a:gdLst>
              <a:gd name="textAreaLeft" fmla="*/ 61200 w 457200"/>
              <a:gd name="textAreaRight" fmla="*/ 396000 w 45720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24680" y="6553080"/>
            <a:ext cx="1219320" cy="304920"/>
          </a:xfrm>
          <a:custGeom>
            <a:avLst/>
            <a:gdLst>
              <a:gd name="textAreaLeft" fmla="*/ 152280 w 1219320"/>
              <a:gd name="textAreaRight" fmla="*/ 1067040 w 12193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4C9-9490-4B4E-9F89-AEBC32F013C6}" type="slidenum">
              <a:t>8</a:t>
            </a:fld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4724280"/>
            <a:ext cx="883908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iseño y dimensionamiento de obras hidráulicas (o de obras civiles afectadas por el agua como caminos, puentes, puertos, algunos edificios, etc.) establecer sus condiciones de construcción, operación y explotación, y conocer y elegir la seguridad hidrológica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oxb_small%20embalse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4267440" cy="2814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3504960" cy="250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686-B074-45B0-A30C-86AE54BC1037}" type="slidenum">
              <a:t>9</a:t>
            </a:fld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4T16:09:08Z</dcterms:created>
  <dc:creator>Ximena Vargas</dc:creator>
  <dc:description/>
  <dc:language>en-US</dc:language>
  <cp:lastModifiedBy>xv</cp:lastModifiedBy>
  <dcterms:modified xsi:type="dcterms:W3CDTF">2005-07-26T16:08:59Z</dcterms:modified>
  <cp:revision>11</cp:revision>
  <dc:subject/>
  <dc:title>Sin título de diapositiva</dc:title>
</cp:coreProperties>
</file>