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751-312D-4FDB-BA67-A3DDCCD7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143-4522-4794-9DA4-DB29ADDB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DBDB-29BF-45A9-A93D-6DA0B5BC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0CA-21EE-4B1E-A3A4-883B7435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30E-30C0-4AF6-B85E-F6134629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F9E-0101-4DE1-B2E7-9D998BD3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2F4-F048-47A9-903E-189BBCAC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816-1683-4D00-9593-4F806E12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CBA-0FFE-4FD8-969F-E1339CA4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EFD-D566-475E-87CB-51451B6F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67E-CA31-4D5A-91EE-D017F2A1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926-3F50-4A3E-8BE5-BCE178EF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531D-848F-4765-84C4-0B7B3CD58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6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9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43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6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9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54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8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60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64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9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76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77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82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308400" y="1876320"/>
            <a:ext cx="11160" cy="3819600"/>
            <a:chOff x="3308400" y="1876320"/>
            <a:chExt cx="11160" cy="3819600"/>
          </a:xfrm>
        </p:grpSpPr>
        <p:sp>
          <p:nvSpPr>
            <p:cNvPr id="1003" name=""/>
            <p:cNvSpPr/>
            <p:nvPr/>
          </p:nvSpPr>
          <p:spPr>
            <a:xfrm flipH="1">
              <a:off x="3317400" y="18763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3317400" y="204480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7760" y="22129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17760" y="2381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16320" y="2549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316320" y="2719440"/>
              <a:ext cx="1440" cy="1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3316320" y="28861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314880" y="3056040"/>
              <a:ext cx="144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14880" y="33926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312720" y="3728880"/>
              <a:ext cx="180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3312720" y="389736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13080" y="4235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1640" y="457200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3311640" y="4740120"/>
              <a:ext cx="144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3309480" y="49086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309480" y="507852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09840" y="524664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09840" y="54151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08400" y="55832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371600" y="3736800"/>
            <a:ext cx="4029120" cy="106560"/>
            <a:chOff x="1371600" y="3736800"/>
            <a:chExt cx="4029120" cy="106560"/>
          </a:xfrm>
        </p:grpSpPr>
        <p:sp>
          <p:nvSpPr>
            <p:cNvPr id="1027" name=""/>
            <p:cNvSpPr/>
            <p:nvPr/>
          </p:nvSpPr>
          <p:spPr>
            <a:xfrm>
              <a:off x="3841920" y="3736800"/>
              <a:ext cx="90360" cy="106560"/>
            </a:xfrm>
            <a:custGeom>
              <a:avLst/>
              <a:gdLst/>
              <a:ahLst/>
              <a:rect l="l" t="t" r="r" b="b"/>
              <a:pathLst>
                <a:path w="229" h="269">
                  <a:moveTo>
                    <a:pt x="229" y="269"/>
                  </a:moveTo>
                  <a:lnTo>
                    <a:pt x="70" y="7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71600" y="3786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79680" y="3787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49600" y="378936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17720" y="3790800"/>
              <a:ext cx="11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8584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5432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22440" y="379404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90920" y="37958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59040" y="37972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28960" y="379728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097080" y="37987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5560" y="38005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602160" y="38037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108320" y="380700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76800" y="38084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44920" y="380988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13400" y="38116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50000" y="3813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9560" y="3814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8040" y="38163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50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55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61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882800" y="2238480"/>
            <a:ext cx="2887560" cy="3046320"/>
            <a:chOff x="1882800" y="2238480"/>
            <a:chExt cx="2887560" cy="3046320"/>
          </a:xfrm>
        </p:grpSpPr>
        <p:sp>
          <p:nvSpPr>
            <p:cNvPr id="1065" name=""/>
            <p:cNvSpPr/>
            <p:nvPr/>
          </p:nvSpPr>
          <p:spPr>
            <a:xfrm>
              <a:off x="4756320" y="5137200"/>
              <a:ext cx="14040" cy="147600"/>
            </a:xfrm>
            <a:custGeom>
              <a:avLst/>
              <a:gdLst/>
              <a:ahLst/>
              <a:rect l="l" t="t" r="r" b="b"/>
              <a:pathLst>
                <a:path w="36" h="374">
                  <a:moveTo>
                    <a:pt x="0" y="374"/>
                  </a:moveTo>
                  <a:lnTo>
                    <a:pt x="36" y="157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1882800" y="2238480"/>
              <a:ext cx="2859120" cy="2829960"/>
              <a:chOff x="1882800" y="2238480"/>
              <a:chExt cx="2859120" cy="2829960"/>
            </a:xfrm>
          </p:grpSpPr>
          <p:sp>
            <p:nvSpPr>
              <p:cNvPr id="1067" name=""/>
              <p:cNvSpPr/>
              <p:nvPr/>
            </p:nvSpPr>
            <p:spPr>
              <a:xfrm flipH="1" flipV="1">
                <a:off x="4111560" y="4060440"/>
                <a:ext cx="85680" cy="111240"/>
              </a:xfrm>
              <a:prstGeom prst="line">
                <a:avLst/>
              </a:prstGeom>
              <a:ln w="0">
                <a:solidFill>
                  <a:srgbClr val="ff6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1882800" y="2238480"/>
                <a:ext cx="2859120" cy="2829960"/>
                <a:chOff x="1882800" y="2238480"/>
                <a:chExt cx="2859120" cy="2829960"/>
              </a:xfrm>
            </p:grpSpPr>
            <p:sp>
              <p:nvSpPr>
                <p:cNvPr id="1069" name=""/>
                <p:cNvSpPr/>
                <p:nvPr/>
              </p:nvSpPr>
              <p:spPr>
                <a:xfrm flipH="1" flipV="1">
                  <a:off x="4592160" y="4751280"/>
                  <a:ext cx="65160" cy="123840"/>
                </a:xfrm>
                <a:prstGeom prst="line">
                  <a:avLst/>
                </a:prstGeom>
                <a:ln w="0">
                  <a:solidFill>
                    <a:srgbClr val="ff66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0" name=""/>
                <p:cNvGrpSpPr/>
                <p:nvPr/>
              </p:nvGrpSpPr>
              <p:grpSpPr>
                <a:xfrm>
                  <a:off x="1882800" y="2238480"/>
                  <a:ext cx="2859120" cy="2829960"/>
                  <a:chOff x="1882800" y="2238480"/>
                  <a:chExt cx="2859120" cy="282996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 flipH="1" flipV="1">
                    <a:off x="4689360" y="4938480"/>
                    <a:ext cx="52560" cy="1299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 flipV="1">
                    <a:off x="4481280" y="4571640"/>
                    <a:ext cx="75960" cy="1191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363920" y="4397400"/>
                    <a:ext cx="810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289">
                        <a:moveTo>
                          <a:pt x="202" y="289"/>
                        </a:moveTo>
                        <a:lnTo>
                          <a:pt x="196" y="27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240080" y="4227480"/>
                    <a:ext cx="828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87">
                        <a:moveTo>
                          <a:pt x="209" y="287"/>
                        </a:moveTo>
                        <a:lnTo>
                          <a:pt x="88" y="1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>
                    <a:off x="3978000" y="3897360"/>
                    <a:ext cx="88920" cy="1080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557520" y="3425760"/>
                    <a:ext cx="968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55">
                        <a:moveTo>
                          <a:pt x="244" y="255"/>
                        </a:moveTo>
                        <a:lnTo>
                          <a:pt x="209" y="2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flipV="1">
                    <a:off x="3260520" y="3126960"/>
                    <a:ext cx="99720" cy="9684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108240" y="2982960"/>
                    <a:ext cx="101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241">
                        <a:moveTo>
                          <a:pt x="258" y="241"/>
                        </a:moveTo>
                        <a:lnTo>
                          <a:pt x="140" y="1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 flipV="1">
                    <a:off x="2950920" y="2839680"/>
                    <a:ext cx="104760" cy="954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flipV="1">
                    <a:off x="2790720" y="2704680"/>
                    <a:ext cx="108000" cy="8892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625840" y="2575080"/>
                    <a:ext cx="110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16">
                        <a:moveTo>
                          <a:pt x="280" y="216"/>
                        </a:moveTo>
                        <a:lnTo>
                          <a:pt x="196" y="14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454120" y="2451240"/>
                    <a:ext cx="114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05">
                        <a:moveTo>
                          <a:pt x="287" y="205"/>
                        </a:moveTo>
                        <a:lnTo>
                          <a:pt x="102" y="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274840" y="2340000"/>
                    <a:ext cx="1206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184">
                        <a:moveTo>
                          <a:pt x="303" y="184"/>
                        </a:moveTo>
                        <a:lnTo>
                          <a:pt x="87" y="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082960" y="2255760"/>
                    <a:ext cx="1299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33">
                        <a:moveTo>
                          <a:pt x="326" y="133"/>
                        </a:moveTo>
                        <a:lnTo>
                          <a:pt x="173" y="5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882800" y="2238480"/>
                    <a:ext cx="1332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20">
                        <a:moveTo>
                          <a:pt x="337" y="0"/>
                        </a:moveTo>
                        <a:lnTo>
                          <a:pt x="134" y="6"/>
                        </a:lnTo>
                        <a:lnTo>
                          <a:pt x="0" y="12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40200" y="3805200"/>
                    <a:ext cx="98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429000" y="3352680"/>
                    <a:ext cx="193680" cy="14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88" name=""/>
          <p:cNvGrpSpPr/>
          <p:nvPr/>
        </p:nvGrpSpPr>
        <p:grpSpPr>
          <a:xfrm>
            <a:off x="1409760" y="3365640"/>
            <a:ext cx="3867120" cy="285480"/>
            <a:chOff x="1409760" y="3365640"/>
            <a:chExt cx="3867120" cy="285480"/>
          </a:xfrm>
        </p:grpSpPr>
        <p:sp>
          <p:nvSpPr>
            <p:cNvPr id="1089" name=""/>
            <p:cNvSpPr/>
            <p:nvPr/>
          </p:nvSpPr>
          <p:spPr>
            <a:xfrm>
              <a:off x="1409760" y="3594240"/>
              <a:ext cx="128520" cy="56880"/>
            </a:xfrm>
            <a:custGeom>
              <a:avLst/>
              <a:gdLst/>
              <a:ahLst/>
              <a:rect l="l" t="t" r="r" b="b"/>
              <a:pathLst>
                <a:path w="323" h="143">
                  <a:moveTo>
                    <a:pt x="0" y="143"/>
                  </a:moveTo>
                  <a:lnTo>
                    <a:pt x="256" y="19"/>
                  </a:lnTo>
                  <a:lnTo>
                    <a:pt x="3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1604880" y="3534840"/>
              <a:ext cx="1350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1808280" y="3492000"/>
              <a:ext cx="13788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14560" y="3454560"/>
              <a:ext cx="138240" cy="25200"/>
            </a:xfrm>
            <a:custGeom>
              <a:avLst/>
              <a:gdLst/>
              <a:ahLst/>
              <a:rect l="l" t="t" r="r" b="b"/>
              <a:pathLst>
                <a:path w="348" h="63">
                  <a:moveTo>
                    <a:pt x="0" y="63"/>
                  </a:moveTo>
                  <a:lnTo>
                    <a:pt x="310" y="4"/>
                  </a:lnTo>
                  <a:lnTo>
                    <a:pt x="3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222640" y="3429000"/>
              <a:ext cx="1396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32160" y="3403440"/>
              <a:ext cx="139680" cy="16200"/>
            </a:xfrm>
            <a:custGeom>
              <a:avLst/>
              <a:gdLst/>
              <a:ahLst/>
              <a:rect l="l" t="t" r="r" b="b"/>
              <a:pathLst>
                <a:path w="350" h="40">
                  <a:moveTo>
                    <a:pt x="0" y="40"/>
                  </a:moveTo>
                  <a:lnTo>
                    <a:pt x="297" y="4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641680" y="3389400"/>
              <a:ext cx="1396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2851200" y="3374640"/>
              <a:ext cx="1396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3062160" y="3370320"/>
              <a:ext cx="13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271680" y="3365640"/>
              <a:ext cx="1414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93960" y="3368520"/>
              <a:ext cx="13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903840" y="3373560"/>
              <a:ext cx="141120" cy="9360"/>
            </a:xfrm>
            <a:custGeom>
              <a:avLst/>
              <a:gdLst/>
              <a:ahLst/>
              <a:rect l="l" t="t" r="r" b="b"/>
              <a:pathLst>
                <a:path w="354" h="23">
                  <a:moveTo>
                    <a:pt x="0" y="0"/>
                  </a:moveTo>
                  <a:lnTo>
                    <a:pt x="49" y="2"/>
                  </a:lnTo>
                  <a:lnTo>
                    <a:pt x="35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114800" y="3387600"/>
              <a:ext cx="1396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324320" y="3403440"/>
              <a:ext cx="139680" cy="17640"/>
            </a:xfrm>
            <a:custGeom>
              <a:avLst/>
              <a:gdLst/>
              <a:ahLst/>
              <a:rect l="l" t="t" r="r" b="b"/>
              <a:pathLst>
                <a:path w="350" h="42">
                  <a:moveTo>
                    <a:pt x="0" y="0"/>
                  </a:moveTo>
                  <a:lnTo>
                    <a:pt x="69" y="5"/>
                  </a:lnTo>
                  <a:lnTo>
                    <a:pt x="35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33840" y="3429000"/>
              <a:ext cx="1382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41920" y="3459240"/>
              <a:ext cx="136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48200" y="3503520"/>
              <a:ext cx="135000" cy="36720"/>
            </a:xfrm>
            <a:custGeom>
              <a:avLst/>
              <a:gdLst/>
              <a:ahLst/>
              <a:rect l="l" t="t" r="r" b="b"/>
              <a:pathLst>
                <a:path w="340" h="92">
                  <a:moveTo>
                    <a:pt x="0" y="0"/>
                  </a:moveTo>
                  <a:lnTo>
                    <a:pt x="217" y="47"/>
                  </a:lnTo>
                  <a:lnTo>
                    <a:pt x="340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49800" y="3564000"/>
              <a:ext cx="127080" cy="55440"/>
            </a:xfrm>
            <a:custGeom>
              <a:avLst/>
              <a:gdLst/>
              <a:ahLst/>
              <a:rect l="l" t="t" r="r" b="b"/>
              <a:pathLst>
                <a:path w="323" h="139">
                  <a:moveTo>
                    <a:pt x="0" y="0"/>
                  </a:moveTo>
                  <a:lnTo>
                    <a:pt x="263" y="95"/>
                  </a:lnTo>
                  <a:lnTo>
                    <a:pt x="323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110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32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70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1484280" y="1933560"/>
            <a:ext cx="2989440" cy="3154320"/>
            <a:chOff x="1484280" y="1933560"/>
            <a:chExt cx="2989440" cy="3154320"/>
          </a:xfrm>
        </p:grpSpPr>
        <p:sp>
          <p:nvSpPr>
            <p:cNvPr id="1275" name=""/>
            <p:cNvSpPr/>
            <p:nvPr/>
          </p:nvSpPr>
          <p:spPr>
            <a:xfrm>
              <a:off x="4459320" y="4933800"/>
              <a:ext cx="14400" cy="154080"/>
            </a:xfrm>
            <a:custGeom>
              <a:avLst/>
              <a:gdLst/>
              <a:ahLst/>
              <a:rect l="l" t="t" r="r" b="b"/>
              <a:pathLst>
                <a:path w="37" h="388">
                  <a:moveTo>
                    <a:pt x="0" y="388"/>
                  </a:moveTo>
                  <a:lnTo>
                    <a:pt x="37" y="19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389480" y="4729320"/>
              <a:ext cx="52200" cy="136440"/>
            </a:xfrm>
            <a:custGeom>
              <a:avLst/>
              <a:gdLst/>
              <a:ahLst/>
              <a:rect l="l" t="t" r="r" b="b"/>
              <a:pathLst>
                <a:path w="133" h="341">
                  <a:moveTo>
                    <a:pt x="133" y="341"/>
                  </a:moveTo>
                  <a:lnTo>
                    <a:pt x="33" y="6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89400" y="4537080"/>
              <a:ext cx="68400" cy="127080"/>
            </a:xfrm>
            <a:custGeom>
              <a:avLst/>
              <a:gdLst/>
              <a:ahLst/>
              <a:rect l="l" t="t" r="r" b="b"/>
              <a:pathLst>
                <a:path w="173" h="322">
                  <a:moveTo>
                    <a:pt x="173" y="322"/>
                  </a:moveTo>
                  <a:lnTo>
                    <a:pt x="76" y="1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75280" y="4349880"/>
              <a:ext cx="75960" cy="12384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193" y="310"/>
                  </a:moveTo>
                  <a:lnTo>
                    <a:pt x="75" y="1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54320" y="4168800"/>
              <a:ext cx="81000" cy="122040"/>
            </a:xfrm>
            <a:custGeom>
              <a:avLst/>
              <a:gdLst/>
              <a:ahLst/>
              <a:rect l="l" t="t" r="r" b="b"/>
              <a:pathLst>
                <a:path w="206" h="304">
                  <a:moveTo>
                    <a:pt x="206" y="304"/>
                  </a:moveTo>
                  <a:lnTo>
                    <a:pt x="25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3924360" y="3994200"/>
              <a:ext cx="8712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3790800" y="3822480"/>
              <a:ext cx="9072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2920" y="3652920"/>
              <a:ext cx="93600" cy="112680"/>
            </a:xfrm>
            <a:custGeom>
              <a:avLst/>
              <a:gdLst/>
              <a:ahLst/>
              <a:rect l="l" t="t" r="r" b="b"/>
              <a:pathLst>
                <a:path w="232" h="283">
                  <a:moveTo>
                    <a:pt x="232" y="283"/>
                  </a:moveTo>
                  <a:lnTo>
                    <a:pt x="144" y="1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3513240" y="3486240"/>
              <a:ext cx="936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18040" y="3165480"/>
              <a:ext cx="99720" cy="104760"/>
            </a:xfrm>
            <a:custGeom>
              <a:avLst/>
              <a:gdLst/>
              <a:ahLst/>
              <a:rect l="l" t="t" r="r" b="b"/>
              <a:pathLst>
                <a:path w="251" h="265">
                  <a:moveTo>
                    <a:pt x="251" y="265"/>
                  </a:moveTo>
                  <a:lnTo>
                    <a:pt x="188" y="19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2910960" y="285444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592360" y="2558880"/>
              <a:ext cx="108000" cy="96840"/>
            </a:xfrm>
            <a:custGeom>
              <a:avLst/>
              <a:gdLst/>
              <a:ahLst/>
              <a:rect l="l" t="t" r="r" b="b"/>
              <a:pathLst>
                <a:path w="272" h="244">
                  <a:moveTo>
                    <a:pt x="272" y="244"/>
                  </a:moveTo>
                  <a:lnTo>
                    <a:pt x="82" y="7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flipV="1">
              <a:off x="2425320" y="2417760"/>
              <a:ext cx="11124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2253960" y="2282400"/>
              <a:ext cx="1141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2076120" y="2155680"/>
              <a:ext cx="11916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693800" y="1952640"/>
              <a:ext cx="13356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339" y="139"/>
                  </a:moveTo>
                  <a:lnTo>
                    <a:pt x="76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484280" y="1933560"/>
              <a:ext cx="138240" cy="52560"/>
            </a:xfrm>
            <a:custGeom>
              <a:avLst/>
              <a:gdLst/>
              <a:ahLst/>
              <a:rect l="l" t="t" r="r" b="b"/>
              <a:pathLst>
                <a:path w="348" h="133">
                  <a:moveTo>
                    <a:pt x="348" y="6"/>
                  </a:moveTo>
                  <a:lnTo>
                    <a:pt x="323" y="0"/>
                  </a:lnTo>
                  <a:lnTo>
                    <a:pt x="121" y="21"/>
                  </a:lnTo>
                  <a:lnTo>
                    <a:pt x="0" y="1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962440" y="1560600"/>
            <a:ext cx="9360" cy="3952800"/>
            <a:chOff x="2962440" y="1560600"/>
            <a:chExt cx="9360" cy="3952800"/>
          </a:xfrm>
        </p:grpSpPr>
        <p:sp>
          <p:nvSpPr>
            <p:cNvPr id="1312" name=""/>
            <p:cNvSpPr/>
            <p:nvPr/>
          </p:nvSpPr>
          <p:spPr>
            <a:xfrm>
              <a:off x="2970360" y="156060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2970360" y="17352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2970360" y="19098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968200" y="20844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968560" y="22590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68560" y="24336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68560" y="260676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968200" y="278136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967120" y="29559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967120" y="31305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67120" y="33051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65320" y="365292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2964960" y="38275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2964960" y="40021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2963880" y="41767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963880" y="4351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963880" y="45259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63880" y="469908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2962440" y="48736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962440" y="50482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2962440" y="52228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62440" y="53974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996840" y="3538440"/>
            <a:ext cx="4129200" cy="31680"/>
            <a:chOff x="996840" y="3538440"/>
            <a:chExt cx="4129200" cy="31680"/>
          </a:xfrm>
        </p:grpSpPr>
        <p:sp>
          <p:nvSpPr>
            <p:cNvPr id="1337" name=""/>
            <p:cNvSpPr/>
            <p:nvPr/>
          </p:nvSpPr>
          <p:spPr>
            <a:xfrm>
              <a:off x="5010120" y="356868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96840" y="353844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71440" y="354024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210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6956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70200" y="354492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44800" y="354636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17600" y="354636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92200" y="354816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567160" y="3549600"/>
              <a:ext cx="11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1760" y="35514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16360" y="35528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909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2655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40160" y="3556080"/>
              <a:ext cx="982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13320" y="3557520"/>
              <a:ext cx="11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787920" y="3559320"/>
              <a:ext cx="11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625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371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11720" y="356220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486320" y="35640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660920" y="356544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35520" y="35672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838080" y="3102120"/>
            <a:ext cx="4178520" cy="434880"/>
            <a:chOff x="838080" y="3102120"/>
            <a:chExt cx="4178520" cy="434880"/>
          </a:xfrm>
        </p:grpSpPr>
        <p:sp>
          <p:nvSpPr>
            <p:cNvPr id="1406" name=""/>
            <p:cNvSpPr/>
            <p:nvPr/>
          </p:nvSpPr>
          <p:spPr>
            <a:xfrm>
              <a:off x="838080" y="3429000"/>
              <a:ext cx="109800" cy="108000"/>
            </a:xfrm>
            <a:custGeom>
              <a:avLst/>
              <a:gdLst/>
              <a:ahLst/>
              <a:rect l="l" t="t" r="r" b="b"/>
              <a:pathLst>
                <a:path w="275" h="273">
                  <a:moveTo>
                    <a:pt x="0" y="273"/>
                  </a:moveTo>
                  <a:lnTo>
                    <a:pt x="117" y="108"/>
                  </a:lnTo>
                  <a:lnTo>
                    <a:pt x="27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11240" y="3338640"/>
              <a:ext cx="13320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0" y="139"/>
                  </a:moveTo>
                  <a:lnTo>
                    <a:pt x="267" y="22"/>
                  </a:lnTo>
                  <a:lnTo>
                    <a:pt x="3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214280" y="3278160"/>
              <a:ext cx="139680" cy="38160"/>
            </a:xfrm>
            <a:custGeom>
              <a:avLst/>
              <a:gdLst/>
              <a:ahLst/>
              <a:rect l="l" t="t" r="r" b="b"/>
              <a:pathLst>
                <a:path w="352" h="98">
                  <a:moveTo>
                    <a:pt x="0" y="98"/>
                  </a:moveTo>
                  <a:lnTo>
                    <a:pt x="208" y="33"/>
                  </a:lnTo>
                  <a:lnTo>
                    <a:pt x="3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425600" y="3230640"/>
              <a:ext cx="141120" cy="30240"/>
            </a:xfrm>
            <a:custGeom>
              <a:avLst/>
              <a:gdLst/>
              <a:ahLst/>
              <a:rect l="l" t="t" r="r" b="b"/>
              <a:pathLst>
                <a:path w="358" h="75">
                  <a:moveTo>
                    <a:pt x="0" y="75"/>
                  </a:moveTo>
                  <a:lnTo>
                    <a:pt x="226" y="22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8360" y="3193920"/>
              <a:ext cx="142920" cy="24120"/>
            </a:xfrm>
            <a:custGeom>
              <a:avLst/>
              <a:gdLst/>
              <a:ahLst/>
              <a:rect l="l" t="t" r="r" b="b"/>
              <a:pathLst>
                <a:path w="361" h="63">
                  <a:moveTo>
                    <a:pt x="0" y="63"/>
                  </a:moveTo>
                  <a:lnTo>
                    <a:pt x="321" y="6"/>
                  </a:lnTo>
                  <a:lnTo>
                    <a:pt x="3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1854360" y="3165120"/>
              <a:ext cx="1443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070000" y="3143160"/>
              <a:ext cx="14472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87440" y="3124080"/>
              <a:ext cx="144720" cy="11160"/>
            </a:xfrm>
            <a:custGeom>
              <a:avLst/>
              <a:gdLst/>
              <a:ahLst/>
              <a:rect l="l" t="t" r="r" b="b"/>
              <a:pathLst>
                <a:path w="365" h="28">
                  <a:moveTo>
                    <a:pt x="0" y="28"/>
                  </a:moveTo>
                  <a:lnTo>
                    <a:pt x="142" y="14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2505240" y="3111120"/>
              <a:ext cx="1443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2722680" y="3104640"/>
              <a:ext cx="144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4012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5" h="3">
                  <a:moveTo>
                    <a:pt x="0" y="3"/>
                  </a:moveTo>
                  <a:lnTo>
                    <a:pt x="94" y="0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15756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7" h="0">
                  <a:moveTo>
                    <a:pt x="0" y="0"/>
                  </a:moveTo>
                  <a:lnTo>
                    <a:pt x="355" y="0"/>
                  </a:lnTo>
                  <a:lnTo>
                    <a:pt x="3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76440" y="3103560"/>
              <a:ext cx="1447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94240" y="3110040"/>
              <a:ext cx="145800" cy="9360"/>
            </a:xfrm>
            <a:custGeom>
              <a:avLst/>
              <a:gdLst/>
              <a:ahLst/>
              <a:rect l="l" t="t" r="r" b="b"/>
              <a:pathLst>
                <a:path w="365" h="22">
                  <a:moveTo>
                    <a:pt x="0" y="0"/>
                  </a:moveTo>
                  <a:lnTo>
                    <a:pt x="48" y="1"/>
                  </a:lnTo>
                  <a:lnTo>
                    <a:pt x="365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11680" y="3124080"/>
              <a:ext cx="144360" cy="11160"/>
            </a:xfrm>
            <a:custGeom>
              <a:avLst/>
              <a:gdLst/>
              <a:ahLst/>
              <a:rect l="l" t="t" r="r" b="b"/>
              <a:pathLst>
                <a:path w="366" h="28">
                  <a:moveTo>
                    <a:pt x="0" y="0"/>
                  </a:moveTo>
                  <a:lnTo>
                    <a:pt x="258" y="17"/>
                  </a:lnTo>
                  <a:lnTo>
                    <a:pt x="366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29120" y="3141720"/>
              <a:ext cx="14436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60760" y="3198960"/>
              <a:ext cx="14292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675320" y="3241800"/>
              <a:ext cx="1396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83040" y="3305160"/>
              <a:ext cx="133560" cy="58680"/>
            </a:xfrm>
            <a:custGeom>
              <a:avLst/>
              <a:gdLst/>
              <a:ahLst/>
              <a:rect l="l" t="t" r="r" b="b"/>
              <a:pathLst>
                <a:path w="333" h="149">
                  <a:moveTo>
                    <a:pt x="0" y="0"/>
                  </a:moveTo>
                  <a:lnTo>
                    <a:pt x="268" y="106"/>
                  </a:lnTo>
                  <a:lnTo>
                    <a:pt x="333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 flipH="1">
            <a:off x="451008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35520" y="3429000"/>
            <a:ext cx="1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936800" y="3836880"/>
            <a:ext cx="4011480" cy="31680"/>
            <a:chOff x="1936800" y="3836880"/>
            <a:chExt cx="4011480" cy="31680"/>
          </a:xfrm>
        </p:grpSpPr>
        <p:sp>
          <p:nvSpPr>
            <p:cNvPr id="826" name=""/>
            <p:cNvSpPr/>
            <p:nvPr/>
          </p:nvSpPr>
          <p:spPr>
            <a:xfrm>
              <a:off x="3075120" y="3846600"/>
              <a:ext cx="10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1936800" y="3836880"/>
              <a:ext cx="4011480" cy="31680"/>
              <a:chOff x="1936800" y="3836880"/>
              <a:chExt cx="4011480" cy="31680"/>
            </a:xfrm>
          </p:grpSpPr>
          <p:sp>
            <p:nvSpPr>
              <p:cNvPr id="828" name=""/>
              <p:cNvSpPr/>
              <p:nvPr/>
            </p:nvSpPr>
            <p:spPr>
              <a:xfrm>
                <a:off x="1936800" y="383688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00240" y="3838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62240" y="384012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424240" y="38419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587680" y="384336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749680" y="38433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13120" y="384480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238560" y="38466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562200" y="384984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26000" y="3851280"/>
                <a:ext cx="10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887640" y="385128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051440" y="385272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13080" y="385452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6880" y="385596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538520" y="385596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00520" y="38577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63960" y="38592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25960" y="386064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89400" y="386244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34120" y="3862440"/>
                <a:ext cx="12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13400" y="386388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76840" y="3865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38840" y="38671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1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53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58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64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65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894120" y="1995480"/>
            <a:ext cx="136440" cy="3684600"/>
            <a:chOff x="3894120" y="1995480"/>
            <a:chExt cx="136440" cy="3684600"/>
          </a:xfrm>
        </p:grpSpPr>
        <p:sp>
          <p:nvSpPr>
            <p:cNvPr id="870" name=""/>
            <p:cNvSpPr/>
            <p:nvPr/>
          </p:nvSpPr>
          <p:spPr>
            <a:xfrm flipH="1">
              <a:off x="3938760" y="1995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938760" y="2157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38760" y="2320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38760" y="2482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36960" y="26449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936600" y="28083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936600" y="297036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935520" y="31338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935520" y="3621240"/>
              <a:ext cx="144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935520" y="37828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933360" y="394668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933360" y="410832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33720" y="42721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33720" y="44337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2280" y="459576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932280" y="4759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32280" y="4921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930120" y="5084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30480" y="5246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30480" y="5408640"/>
              <a:ext cx="180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30480" y="557208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894120" y="3432240"/>
              <a:ext cx="13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936800" y="3435480"/>
            <a:ext cx="3892680" cy="401400"/>
            <a:chOff x="1936800" y="3435480"/>
            <a:chExt cx="3892680" cy="401400"/>
          </a:xfrm>
        </p:grpSpPr>
        <p:grpSp>
          <p:nvGrpSpPr>
            <p:cNvPr id="894" name=""/>
            <p:cNvGrpSpPr/>
            <p:nvPr/>
          </p:nvGrpSpPr>
          <p:grpSpPr>
            <a:xfrm>
              <a:off x="1936800" y="3435480"/>
              <a:ext cx="3892680" cy="401400"/>
              <a:chOff x="1936800" y="3435480"/>
              <a:chExt cx="3892680" cy="401400"/>
            </a:xfrm>
          </p:grpSpPr>
          <p:sp>
            <p:nvSpPr>
              <p:cNvPr id="895" name=""/>
              <p:cNvSpPr/>
              <p:nvPr/>
            </p:nvSpPr>
            <p:spPr>
              <a:xfrm>
                <a:off x="1936800" y="373860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254" h="252">
                    <a:moveTo>
                      <a:pt x="0" y="252"/>
                    </a:moveTo>
                    <a:lnTo>
                      <a:pt x="206" y="22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97000" y="3652920"/>
                <a:ext cx="123840" cy="55440"/>
              </a:xfrm>
              <a:custGeom>
                <a:avLst/>
                <a:gdLst/>
                <a:ahLst/>
                <a:rect l="l" t="t" r="r" b="b"/>
                <a:pathLst>
                  <a:path w="311" h="139">
                    <a:moveTo>
                      <a:pt x="0" y="139"/>
                    </a:moveTo>
                    <a:lnTo>
                      <a:pt x="246" y="19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2286000" y="3597120"/>
                <a:ext cx="130320" cy="3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2481120" y="3553920"/>
                <a:ext cx="13356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681280" y="3517920"/>
                <a:ext cx="133200" cy="23760"/>
              </a:xfrm>
              <a:custGeom>
                <a:avLst/>
                <a:gdLst/>
                <a:ahLst/>
                <a:rect l="l" t="t" r="r" b="b"/>
                <a:pathLst>
                  <a:path w="335" h="61">
                    <a:moveTo>
                      <a:pt x="0" y="61"/>
                    </a:moveTo>
                    <a:lnTo>
                      <a:pt x="299" y="4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2881440" y="3492000"/>
                <a:ext cx="134640" cy="1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084480" y="3468600"/>
                <a:ext cx="133560" cy="15840"/>
              </a:xfrm>
              <a:custGeom>
                <a:avLst/>
                <a:gdLst/>
                <a:ahLst/>
                <a:rect l="l" t="t" r="r" b="b"/>
                <a:pathLst>
                  <a:path w="338" h="38">
                    <a:moveTo>
                      <a:pt x="0" y="38"/>
                    </a:moveTo>
                    <a:lnTo>
                      <a:pt x="286" y="3"/>
                    </a:lnTo>
                    <a:lnTo>
                      <a:pt x="3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28608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3489480" y="3440160"/>
                <a:ext cx="1346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369252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0200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0700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10040" y="3468600"/>
                <a:ext cx="135000" cy="15840"/>
              </a:xfrm>
              <a:custGeom>
                <a:avLst/>
                <a:gdLst/>
                <a:ahLst/>
                <a:rect l="l" t="t" r="r" b="b"/>
                <a:pathLst>
                  <a:path w="338" h="41">
                    <a:moveTo>
                      <a:pt x="0" y="0"/>
                    </a:moveTo>
                    <a:lnTo>
                      <a:pt x="67" y="5"/>
                    </a:lnTo>
                    <a:lnTo>
                      <a:pt x="338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11640" y="3494160"/>
                <a:ext cx="1350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313240" y="3522600"/>
                <a:ext cx="13176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11960" y="3565440"/>
                <a:ext cx="129960" cy="34920"/>
              </a:xfrm>
              <a:custGeom>
                <a:avLst/>
                <a:gdLst/>
                <a:ahLst/>
                <a:rect l="l" t="t" r="r" b="b"/>
                <a:pathLst>
                  <a:path w="329" h="89">
                    <a:moveTo>
                      <a:pt x="0" y="0"/>
                    </a:moveTo>
                    <a:lnTo>
                      <a:pt x="210" y="46"/>
                    </a:lnTo>
                    <a:lnTo>
                      <a:pt x="329" y="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5640" y="3624120"/>
                <a:ext cx="123840" cy="52560"/>
              </a:xfrm>
              <a:custGeom>
                <a:avLst/>
                <a:gdLst/>
                <a:ahLst/>
                <a:rect l="l" t="t" r="r" b="b"/>
                <a:pathLst>
                  <a:path w="311" h="134">
                    <a:moveTo>
                      <a:pt x="0" y="0"/>
                    </a:moveTo>
                    <a:lnTo>
                      <a:pt x="254" y="92"/>
                    </a:lnTo>
                    <a:lnTo>
                      <a:pt x="31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4505400" y="3440160"/>
              <a:ext cx="135000" cy="7920"/>
            </a:xfrm>
            <a:custGeom>
              <a:avLst/>
              <a:gdLst/>
              <a:ahLst/>
              <a:rect l="l" t="t" r="r" b="b"/>
              <a:pathLst>
                <a:path w="341" h="23">
                  <a:moveTo>
                    <a:pt x="0" y="0"/>
                  </a:moveTo>
                  <a:lnTo>
                    <a:pt x="47" y="2"/>
                  </a:lnTo>
                  <a:lnTo>
                    <a:pt x="341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6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7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8T21:45:17Z</dcterms:modified>
  <cp:revision>285</cp:revision>
  <dc:subject/>
  <dc:title>Sin título de diapositiva</dc:title>
</cp:coreProperties>
</file>