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2B8-080F-40DF-8475-BDD25F66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2EA-F4B1-4316-B6EB-B412C5E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F13-A9DC-4F82-A932-B1E8B5FE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850-422D-4F0A-B067-A782D2B2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2BA6-6D28-4899-A957-346A79CE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4F59-7D2B-4257-9949-50D6424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36D1-69AD-42D9-B660-7A55CE5A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9879-7CC3-474C-80C3-A1EF5985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9E3A-AA3B-4192-9284-19A5557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F13-C6C0-404F-BE91-C26E0DA9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8F2-DE6D-463F-98E6-7426540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5C4-4008-4C81-8ABA-38FFCD69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0636-25A0-44F7-800A-C0B2070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18E5-C544-4586-9816-39DF1E6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6D5-89E0-4882-8022-813FA8F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53BD-2196-43BC-97F9-F4CAE5DB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5D0B-7A7C-4CB7-B0CF-554141F8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955-BD6C-4342-8924-95BEB54A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960-0A03-4D31-A38F-3E73174E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00B-4157-49E1-A0C1-9AB88EC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778-410E-4102-AA7D-7ADBEC7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4C7-EC01-4A8B-AECF-503CC8D6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B3C-A12C-4379-A769-604BCDD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478-02EA-4DFF-9761-FBBE9B9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E5FE-732D-40EB-A90C-2EFC0A6C4D3D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A36-5951-4C0F-9571-836C4A17771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gramacion.com/blogs/14_refactoring/archive/237_eliminar_flag_de_control_remove_control_flag.html" TargetMode="External"/><Relationship Id="rId2" Type="http://schemas.openxmlformats.org/officeDocument/2006/relationships/hyperlink" Target="http://refactoring.blog-city.com/" TargetMode="External"/><Relationship Id="rId3" Type="http://schemas.openxmlformats.org/officeDocument/2006/relationships/hyperlink" Target="http://elvex.ugr.es/decsai/java/pdf/8B-Refactoring.pdf" TargetMode="External"/><Relationship Id="rId4" Type="http://schemas.openxmlformats.org/officeDocument/2006/relationships/hyperlink" Target="http://elvex.ugr.es/decsai/java/pdf/8B-Refactoring.solution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80880" y="6248520"/>
            <a:ext cx="7391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66"/>
                </a:solidFill>
                <a:latin typeface="Times New Roman"/>
              </a:rPr>
              <a:t>CC62V- Metodologías ágiles de desarrollo de softwar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648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Felipe Saaved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Esteban Navar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de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si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variab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Méto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ambio en el tipo de una variable intern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a variab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compleja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 méto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raer una interfa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liminar una serie de if usando polimorfism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nombr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aque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El código se vuelve auto-explicativ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v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administra la complejidad de los paquetes y de las clases permite administrar la funcionalidad del desarroll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ull up / Pull dow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la complejidad al nivel de herencia que correspond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x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Código a méto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 a interfaces o superclas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ejorar la mantenibilidad del códig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y mejorar la eficiencia del código y las métricas de O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Práct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programacion.com/blogs/14_refactoring/archive/237_eliminar_flag_de_control_remove_control_flag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refactoring.blog-city.com/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elvex.ugr.es/decsai/java/pdf/8B-Refactoring.pdf</a:t>
            </a: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tp://elvex.ugr.es/decsai/java/pdf/8B-Refactoring.solution.pd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“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inalmente terminamos el programa, hemos cumplido nuestras metas y los test han sido pasados…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…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or fín hemos terminado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iseñar para hoy (POP) v/s Diseñar para e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ódigo difícil de manten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mbios en el progra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uevos requisi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antención y Sopo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acilidades presentadas por paradigma O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Orígenes de la Refactorización (2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Lograr OAOO (once and only once) una y solo una vez, que es una de las grandes máximas de la refactorización.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ada funcionalidad del código debe estar en una sola parte implementada, si esta duplicada externalizar como un méto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factorización: 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Definición y Objetiv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Qué es Refactorización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Técnica disciplinada para efectuar cambios en la estructura interna de un código sin cambiar su comportamiento extern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qué refactorizar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mejorar su diseñ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ncontrar err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programar más rápi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uando se debe refactoriza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está escribiendo un nuevo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simplificar la implementación de las nuevas funcional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corrige un err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revisa el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Importancia de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dad del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l corregir errores, añadir funcionalidades o al revisar el código, el valor del software entregado aumenta. Asimismo el realizar mantenciones por estas u otras razones, en cortos períodos de tiemp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Algunos síntomas para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l código es difícil de enten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or variables con nombres ambigu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ógica condicional muy complej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loques de código muy extens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aja cohesión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lto acoplamiento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n OO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lases mal defini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Métodos mal defin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Como llevar a cabo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roceso por separado y unit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pruebas unitarias constant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comprobaciones rápid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Utilizar patrones conocidos de refactor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53:22Z</dcterms:created>
  <dc:creator>Esteban Navarro</dc:creator>
  <dc:description/>
  <dc:language>en-US</dc:language>
  <cp:lastModifiedBy>Microsystem</cp:lastModifiedBy>
  <dcterms:modified xsi:type="dcterms:W3CDTF">2005-08-17T13:59:40Z</dcterms:modified>
  <cp:revision>9</cp:revision>
  <dc:subject/>
  <dc:title>Como llevar a cabo la refactor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