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B3B4-3C1F-4951-834C-84C579E6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2D2A-1B5E-4302-88C7-5BED5C61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7B7A-9E72-4307-B272-7FEAEDD9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8F61-468E-426A-B272-C69CFCCD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049D-A3C6-4FC7-A863-2017E734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2580-EAD1-4228-9A4F-D98F88AC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CB23-BE8D-44EB-A987-A8E3C258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B3C8-DA87-4EDC-8806-519AEAF0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44D8-39D3-410E-AE24-20C2BB72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5649-C01D-4D27-8223-E7AFFAB9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E71A-D69B-4E3E-8A1D-196B6748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FF0A-CC46-49D8-B3B8-4031D41E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2DD3-E980-43BA-B991-B7ED5D46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6B24-4546-43EB-9AFC-A91E2FB4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249D-CE50-40D9-988B-35B56FB9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CBE2-D850-4AAD-BAF0-434341A8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AA61-BCA3-40DE-8F93-48607D8D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22EF-427B-4042-953B-BFBC9B82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D9F1-9E83-4BD0-AED7-902989D1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088F-23CD-48FD-B118-E58A43B3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58C0-7A3A-4F27-8985-172852FA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D2D2-3A5D-414A-99A0-2F1DCFE1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9C3A-86D3-4F4D-B482-712DD912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B8FC-E306-4E8D-9C4C-D8BA4EA5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3D2E-C5CF-4AEB-B974-9736477A1E60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3375-726B-4F79-9454-2C5AAAB31038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rogramacion.com/blogs/14_refactoring/archive/237_eliminar_flag_de_control_remove_control_flag.html" TargetMode="External"/><Relationship Id="rId2" Type="http://schemas.openxmlformats.org/officeDocument/2006/relationships/hyperlink" Target="http://refactoring.blog-city.com/" TargetMode="External"/><Relationship Id="rId3" Type="http://schemas.openxmlformats.org/officeDocument/2006/relationships/hyperlink" Target="http://elvex.ugr.es/decsai/java/pdf/8B-Refactoring.pdf" TargetMode="External"/><Relationship Id="rId4" Type="http://schemas.openxmlformats.org/officeDocument/2006/relationships/hyperlink" Target="http://elvex.ugr.es/decsai/java/pdf/8B-Refactoring.solution.pdf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3366"/>
                </a:solidFill>
                <a:latin typeface="Times New Roman"/>
              </a:rPr>
              <a:t>Refactor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380880" y="6248520"/>
            <a:ext cx="7391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3366"/>
                </a:solidFill>
                <a:latin typeface="Times New Roman"/>
              </a:rPr>
              <a:t>CC62V- Metodologías ágiles de desarrollo de software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9200" y="4648320"/>
            <a:ext cx="2971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Verdana"/>
              </a:rPr>
              <a:t>Felipe Saaved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Verdana"/>
              </a:rPr>
              <a:t>Esteban Navar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Ejemplos de refactoriz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Refactorización simpl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Renombre de variabl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Renombre de Métod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Cambio en el tipo de una variable intern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Externalizar una variabl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Refactorización compleja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Externalizar un métod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Extraer una interfac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Eliminar una serie de if usando polimorfism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Renombra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Paquete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Clase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Método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Variable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Tips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+ Se puede comprobar coherencia en tiempo de compilación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+ El código se vuelve auto-explicativo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- Si se genera una librería a partir de las clases refactorizadas, puede haber problemas de compatibilidad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Mov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Cla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Variabl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Métod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Tips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+ Se puede comprobar coherencia en tiempo de compilación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+ Se administra la complejidad de los paquetes y de las clases permite administrar la funcionalidad del desarrollo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- Si se genera una librería a partir de las clases refactorizadas, puede haber problemas de compatibilidad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Pull up / Pull dow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Métod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Tip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+ Permite mantener la complejidad al nivel de herencia que corresponde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Extrac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Código a método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Métodos a interfaces o superclas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Tip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+ Permite mejorar la mantenibilidad del códig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+ Permite mantener y mejorar la eficiencia del código y las métricas de O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Ejemplos Práctic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programacion.com/blogs/14_refactoring/archive/237_eliminar_flag_de_control_remove_control_flag.html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http://refactoring.blog-city.com/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http://elvex.ugr.es/decsai/java/pdf/8B-Refactoring.pdf</a:t>
            </a:r>
            <a:r>
              <a:rPr b="0" lang="es-CL" sz="1400" spc="-1" strike="noStrike">
                <a:solidFill>
                  <a:srgbClr val="003366"/>
                </a:solidFill>
                <a:latin typeface="Times New Roman"/>
              </a:rPr>
              <a:t> y </a:t>
            </a:r>
            <a:r>
              <a:rPr b="0" lang="es-CL" sz="14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http://elvex.ugr.es/decsai/java/pdf/8B-Refactoring.solution.pdf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Refactoriz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 “</a:t>
            </a: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Finalmente terminamos el programa, hemos cumplido nuestras metas y los test han sido pasados…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    …</a:t>
            </a: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Por fín hemos terminado”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Orígenes de la Refactoriz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Diseñar para hoy (POP) v/s Diseñar para el camb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ódigo difícil de manten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ambios en el progra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Nuevos requisit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Mantención y Sopor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Facilidades presentadas por paradigma OO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Orígenes de la Refactorización (2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Lograr OAOO (once and only once) una y solo una vez, que es una de las grandes máximas de la refactorización. 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Times New Roman"/>
              </a:rPr>
              <a:t>Cada funcionalidad del código debe estar en una sola parte implementada, si esta duplicada externalizar como un métod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Refactorización: </a:t>
            </a:r>
            <a:br>
              <a:rPr sz="4000"/>
            </a:b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Definición y Objetiv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Qué es Refactorización?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Técnica disciplinada para efectuar cambios en la estructura interna de un código sin cambiar su comportamiento externo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or qué refactorizar?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ara mejorar su diseñ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ara hacerlo más entendi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ara encontrar err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ara programar más rápid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Cuando se debe refactorizar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uando se está escribiendo un nuevo códig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ara hacerlo más entendib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ara simplificar la implementación de las nuevas funcionalidad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uando se corrige un err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uando se revisa el códig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Importancia de la Refactor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alidad del Softw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l corregir errores, añadir funcionalidades o al revisar el código, el valor del software entregado aumenta. Asimismo el realizar mantenciones por estas u otras razones, en cortos períodos de tiemp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Algunos síntomas para la refactor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El código es difícil de entend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Por variables con nombres ambigu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Lógica condicional muy complej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Bloques de código muy extens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Baja cohesión de módul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Alto acoplamiento de módul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En OOP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Clases mal definid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74600" indent="-22608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Métodos mal definid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3366"/>
                </a:solidFill>
                <a:latin typeface="Times New Roman"/>
              </a:rPr>
              <a:t>Como llevar a cabo la refactor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Proceso por separado y unitario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Realizar pruebas unitarias constantes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Realizar comprobaciones rápida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Utilizar patrones conocidos de refactorizació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00:53:22Z</dcterms:created>
  <dc:creator>Esteban Navarro</dc:creator>
  <dc:description/>
  <dc:language>en-US</dc:language>
  <cp:lastModifiedBy>Microsystem</cp:lastModifiedBy>
  <dcterms:modified xsi:type="dcterms:W3CDTF">2005-08-17T13:59:40Z</dcterms:modified>
  <cp:revision>9</cp:revision>
  <dc:subject/>
  <dc:title>Como llevar a cabo la refactoriz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