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85C-696E-45B7-8DA6-D587C23C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3BC-941D-423C-82AB-34D585E5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B21-C0B6-44D4-9B31-F72C9245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3DB-B0CB-4467-B370-9A82443E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1774-13F0-4299-98ED-9DB04019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DDE8-628C-4077-8620-3CB84BB3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EDC9-99CD-44C2-9D4C-50E34FB1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B536-1C14-4E42-80F8-41BE59C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4879-34AC-45D1-BCD2-BCEF949F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C487-2751-4663-91B7-69693143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9877-D6AF-4117-BAD9-E0AC38F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B88-65F7-4F4E-B02D-8EE07DCD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E28A-54FA-400D-A755-CF588A2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6ACA-316C-4CCD-9704-0698421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E13E-2B1A-428C-8750-C450A8A0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636D-17FF-42A2-8513-2D454E8B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82CC-F5DD-4D36-B8C2-83B78CE4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87B-9D4D-4B2C-8D78-14F7F039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9D8-0078-4647-B29C-2AA1E18C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1D9-EF84-4E2F-A589-F533F88D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A4B-95D4-40B3-ABEA-74A233FD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827-A0FB-4F5B-B2D6-F458C5E7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7BC-9D68-4EEF-BD2D-8CAF0D7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E30-A086-4FFB-8E61-3D40BAF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8BC-D561-45B7-8E17-E62AA7422B0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DD70-DB64-4270-A02D-C2832592E34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Test Driven Develop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Bernd Biederman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Tomás Henriqu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con TD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cribir un t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Falla por que el codigo aun no exist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cribir un esqueleto vacio para que el test comp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Deberia fallar, o el test no esta bien diseñ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plementar el codigo que pasa el te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Deberia pasar. Si no lo hace, revisar el codig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menzar de nuevo con otro test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Diagrama de Integr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47760" y="1928880"/>
            <a:ext cx="4848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s prueban más de una cl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Mock Objects aíslan las clases para las prueb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Obtención de 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áciles de hac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Fáciles de insta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ápid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termin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ticos (producen resultados predecible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ermiten una fácil verificación de que se hicieron las llamas correctas en el orden correc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Mock Objects en la Arquitec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848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Un Primer MockObj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[Test]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public void MiTest ()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Declaracion del Obj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reacion de una instancia del M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        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Inicializar el objeto como MockObject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Declarar lo que se espero que p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    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lamar el Metodo;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Verific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 con NMo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ara declarar un Mock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DynamicMock MiMock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new DynamicMock (typeof (Interface));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Verificar la llam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eclaramos un obje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Objeto miObjeto = new Objeto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Lo llamamos con el MockObje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lase.Metodo ((Interface) MiMock.MockInstanc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eclaramos lo que esperamos que pa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MiMock.Expect (“MetodoEsperado",valor esperado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llamada al meto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Verificac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MiMock.Verify ();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os Ga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interface ICat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string Name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    get; set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Eat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Sleep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Meow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imera Cl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class CatSitter 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ArrayList _cats = new ArrayList ();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ublic void TakeCareOf(ICat cat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_cats.Add (cat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ublic virtual void DoWork (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foreach (ICat cat in _cats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    FeedCat (cat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}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rivate void FeedCat (ICat cat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cat.Eat (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odificación Clás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Se programa y se prue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xceso de errores y falta de ti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DD (Test Driven Developmen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rogramar prueb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dificar para la prue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Segunda Cl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class LazyCatSitter : CatSitter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public override void DoWork()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        // no hace nada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imer T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[Test]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public void LazyCatSitterTest ()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 lazyCatSitter = new LazyCatSitter();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DynamicMock funnyBunny = new DynamicMock (typeof (ICat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         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DynamicMock baerchen = new DynamicMock (typeof (ICat));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TakeCareOf ((ICat) funnyBunny.MockInstance);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TakeCareOf ((ICat) baerchen.MockInstance);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funnyBunny.Expect ("Eat", null); // esperamos que sea invocado 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baerchen.Expect ("Eat", null);    // el metodo Eat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DoWork ();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funnyBunny.Verify (); // Verificamos que se haya llamado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baerchen.Verify ();    // el meto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 son las Test Uni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as para probar cl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on pruebas de requerimiento o aceptaci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Kent Beck, Chrysler C3 Project, Smalltal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ortado a Java, JUnit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Test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Version para 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Introduce los </a:t>
            </a: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Utililiza Attributes para encontrar tests dentro del códi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Test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491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Fix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Setup &amp; Tear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ExpectedExe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br>
              <a:rPr sz="4400"/>
            </a:b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namespace UnitTestingExamp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NUnit.Framewor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Fixture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class SomeT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Ignore(“Nos saltamos esta.")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void TestOne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// Aquí ponemos codigo de prueb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ssertion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lase para hacer </a:t>
            </a: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Asse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ontiene un set de funciones para usar en los t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ssertion Class</a:t>
            </a:r>
            <a:br>
              <a:rPr sz="4400"/>
            </a:b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namespace UnitTestingExamp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NUnit.Framewor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Fixture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class SomeT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void TestOne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int i = 4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Assertion.AssertEquals( 4, i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21:39:51Z</dcterms:created>
  <dc:creator>Bernd</dc:creator>
  <dc:description/>
  <dc:language>en-US</dc:language>
  <cp:lastModifiedBy>Bernd</cp:lastModifiedBy>
  <dcterms:modified xsi:type="dcterms:W3CDTF">2005-09-12T21:36:46Z</dcterms:modified>
  <cp:revision>8</cp:revision>
  <dc:subject/>
  <dc:title>Test Driven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