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56F-DFFD-4B82-AD8A-E7E1784C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A2F-1E8A-4536-91F3-D8DA7F67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B17-EDF8-4538-B53D-9CA217AC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412-55B4-4C3E-A945-603B137A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823F-5858-4059-A978-0CDEA985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C1DF-74BE-4EFE-BF71-C2D8C39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64B3-1207-4F8B-B656-71B6391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9D7C-0CAF-41B8-8F7E-764A38ED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A362-9F07-4A81-9141-935023D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46A1-472A-4B6E-8531-1728A40B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A189-B2CF-475D-B70F-E02F7C2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2A3-48E4-4FC8-98A0-075F602E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2479-1DE9-43DF-B410-D823557D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659A-22DD-4CF1-A443-677477F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6F27-1E60-425F-AB86-7A893A6D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F2B-B7C1-4615-AFEE-620A1433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60F-01A5-4942-B120-2CB01A9E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C74-FC4C-4932-8DD9-8D7B0A1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348-2DE3-4566-9C33-628C6CE3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02E-365E-4134-85E8-5DF1F42A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92B-2696-4AD5-ADE4-8660F6DD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F52-EB4C-4D9B-98F2-C9EE2806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E2A-6B1B-430F-AA7D-4696D06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0D24-54F3-46C0-B2D3-0B70DDA8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194-1FFB-443C-A74E-890F0350548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F5C-9BE8-49A7-9C9F-D696DF5B0FC3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Comic Sans MS"/>
              </a:rPr>
              <a:t>Test Driven Develop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Bernd Biederman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Tomás Henriqu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con TD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te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Falla por que el codigo aun no exist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Escribir un esqueleto vacio para que el test comp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fallar, o el test no esta bien diseña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Implementar el codigo que pasa el te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rrer el test. Deberia pasar. Si no lo hace, revisar el codig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</a:rPr>
              <a:t>Comenzar de nuevo con otro test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Diagrama de Integració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47760" y="1928880"/>
            <a:ext cx="48484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s prueban más de una cl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Mock Objects aíslan las clases para las prueb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Obtención de 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Fáciles de hac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Fáciles de insta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ápido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termin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ticos (producen resultados predecibles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ermiten una fácil verificación de que se hicieron las llamas correctas en el orden correct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mic Sans MS"/>
              </a:rPr>
              <a:t>Mock Objects en la Arquitec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848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Un Primer MockObj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[Test]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public void MiTest ()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cion del Obje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Creacion de una instancia del M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        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Inicializar el objeto como MockObject</a:t>
            </a: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Declarar lo que se espero que p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    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lamar el Metodo;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   Verific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Mock Object con NMo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ara declarar un Mock Ob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DynamicMock MiMock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cc"/>
                </a:solidFill>
                <a:latin typeface="Arial"/>
              </a:rPr>
              <a:t>new DynamicMock (typeof (Interface));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    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Verificar la llama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un obje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Objeto miObjeto = new Objeto(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Lo llamamos con el MockObjec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clase.Metodo ((Interface) MiMock.MockInstanc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Declaramos lo que esperamos que pa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Expect (“MetodoEsperado",valor esperado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llamada al meto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Verificac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Arial"/>
              </a:rPr>
              <a:t>MiMock.Verify ();</a:t>
            </a: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Los Gat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    </a:t>
            </a: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interface ICat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string Name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    get; set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2000"/>
            </a:b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Eat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Sleep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    void Meow ();</a:t>
            </a:r>
            <a:br>
              <a:rPr sz="2000"/>
            </a:br>
            <a:r>
              <a:rPr b="0" lang="es-CL" sz="2000" spc="-1" strike="noStrike">
                <a:solidFill>
                  <a:srgbClr val="0000cc"/>
                </a:solidFill>
                <a:latin typeface="Comic Sans MS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   </a:t>
            </a: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class CatSitter 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ArrayList _cats = new ArrayList ();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oid TakeCareOf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_cats.Add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ublic virtual void DoWork (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foreach (ICat cat in _cats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    FeedCat (cat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private void FeedCat (ICat cat)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    cat.Eat ();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1600"/>
            </a:br>
            <a:r>
              <a:rPr b="1" lang="es-CL" sz="16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dificación Clás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Se programa y se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Exceso de errores y falta de tiem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DD (Test Driven Developmen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Programar prueb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mic Sans MS"/>
              </a:rPr>
              <a:t>Codificar para la prue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Segunda Cl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class LazyCatSitter : CatSitter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public override void DoWork()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{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        // no hace nada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    }</a:t>
            </a:r>
            <a:br>
              <a:rPr sz="3200"/>
            </a:br>
            <a:r>
              <a:rPr b="0" lang="es-CL" sz="3200" spc="-1" strike="noStrike">
                <a:solidFill>
                  <a:srgbClr val="0000cc"/>
                </a:solidFill>
                <a:latin typeface="Comic Sans MS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Primer 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[Test]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public void LazyCatSitterTest ()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{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 lazyCatSitter = new LazyCatSitter();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DynamicMock funnyBunny = new DynamicMock (typeof (ICat)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         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DynamicMock baerchen = new DynamicMock (typeof (ICat)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funnyBunny.MockInstance);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TakeCareOf ((ICat) baerchen.MockInstance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Expect ("Eat", null); // esperamos que sea invocado 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Expect ("Eat", null);    // el metodo Eat.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lazyCatSitter.DoWork ();</a:t>
            </a:r>
            <a:br>
              <a:rPr sz="1800"/>
            </a:b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funnyBunny.Verify (); // Verificamos que se haya llamado </a:t>
            </a:r>
            <a:br>
              <a:rPr sz="1800"/>
            </a:b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    baerchen.Verify ();    // el meto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s-CL" sz="1800" spc="-1" strike="noStrike">
                <a:solidFill>
                  <a:srgbClr val="0000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 son las Test Unit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amas para probar cla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on pruebas de requerimiento o aceptaci</a:t>
            </a: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Kent Beck, Chrysler C3 Project, Smalltal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Portado a Java, JUni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Version para 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ntroduce los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Utililiza Attributes para encontrar tests dentro del códi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NUnit Test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5491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Fix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Setup &amp; Tear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ExpectedExe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ttribute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Ignore(“Nos saltamos esta.")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// Aquí ponemos codigo de prueb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lase para hacer </a:t>
            </a:r>
            <a:r>
              <a:rPr b="0" i="1" lang="es-CL" sz="3200" spc="-1" strike="noStrike">
                <a:solidFill>
                  <a:srgbClr val="000000"/>
                </a:solidFill>
                <a:latin typeface="Comic Sans MS"/>
              </a:rPr>
              <a:t>Asser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mic Sans MS"/>
              </a:rPr>
              <a:t>Contiene un set de funciones para usar en los te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mic Sans MS"/>
              </a:rPr>
              <a:t>Assertion Class</a:t>
            </a:r>
            <a:br>
              <a:rPr sz="4400"/>
            </a:br>
            <a:r>
              <a:rPr b="0" lang="es-CL" sz="36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namespace UnitTestingExampl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using NUnit.Framework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Fixture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class SomeTest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[Test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public void TestOne(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int i = 4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Assertion.AssertEquals( 4, i )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21:39:51Z</dcterms:created>
  <dc:creator>Bernd</dc:creator>
  <dc:description/>
  <dc:language>en-US</dc:language>
  <cp:lastModifiedBy>Bernd</cp:lastModifiedBy>
  <dcterms:modified xsi:type="dcterms:W3CDTF">2005-09-12T21:36:46Z</dcterms:modified>
  <cp:revision>8</cp:revision>
  <dc:subject/>
  <dc:title>Test Driven Develop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