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FA2-BBF2-4DB9-A6CB-D1C16F3E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8AA-9484-4131-B117-2E5D82A7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089-714B-4E52-860D-A4B350BF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C3D6-D440-4844-BD36-757DB81E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6F90-DE7C-4B50-A720-F8CB768A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72C5-B5FC-40D6-956A-04CFED0E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E38E-9877-4D81-9CF1-4A414F71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7D20-ACAE-4029-A89D-987DA4BE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4F59-8B51-4BF9-80A9-E92D57AA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9C6D-A8B8-4AC3-A660-CE4AFD22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5C31-ABCC-4B46-9CAE-67E4D0E6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932-E7E6-4EA9-9DCD-4F0964C9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0EB5-02BB-4BB7-BF4F-8DEEB519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B8D7-01B6-4079-8F95-027DA781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D666-EE26-4B82-A5D5-77097058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1C21-0C5C-44F3-BBD7-4795C6E8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5C2A-1ED4-430C-A02F-CCD3BF50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F3B-A0A7-40F0-8AF1-0E3DF684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1118-6A68-47A2-8D59-1E7B7F65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CA3-B11D-4323-A0ED-F84584C2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4AE-8AE8-4106-B271-85995BF6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A77-2952-47D2-9C02-312518EF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A23-2D64-40FB-BD7C-84EE3359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58B-C0E5-4520-A830-CE48EA9D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05DE-6343-4D82-95BF-0C48AE51C637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40C4-3044-4CA9-9621-38DF9B48253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Test Driven Developmen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Bernd Biederman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Tomás Henriqu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NUnit con TD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cribir un t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rrer el test. Falla por que el codigo aun no exist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cribir un esqueleto vacio para que el test compi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rrer el Test. Deberia fallar, o el test no esta bien diseña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mplementar el codigo que pasa el te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rrer el test. Deberia pasar. Si no lo hace, revisar el codig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menzar de nuevo con otro test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mic Sans MS"/>
              </a:rPr>
              <a:t>Diagrama de Integraci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47760" y="1928880"/>
            <a:ext cx="4848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ck Obj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ests prueban más de una cl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Mock Objects aíslan las clases para las prueb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Obtención de feed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ck Obj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áciles de hac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Fáciles de insta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Rápid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termin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í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ticos (producen resultados predecible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ermiten una fácil verificación de que se hicieron las llamas correctas en el orden correc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Mock Objects en la Arquitec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848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Un Primer MockObj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[Test]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public void MiTest ()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Declaracion del Obj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reacion de una instancia del M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        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Inicializar el objeto como MockObject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Declarar lo que se espero que p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    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lamar el Metodo;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Verific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ck Object con NMo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ara declarar un Mock Ob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DynamicMock MiMock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new DynamicMock (typeof (Interface));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Verificar la llama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eclaramos un obje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Objeto miObjeto = new Objeto(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Lo llamamos con el MockObjec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lase.Metodo ((Interface) MiMock.MockInstance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eclaramos lo que esperamos que pa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MiMock.Expect (“MetodoEsperado",valor esperado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llamada al meto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Verificac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MiMock.Verify ();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os Ga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interface ICat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string Name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    get; set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void Eat ()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void Sleep ()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void Meow ()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rimera Cl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class CatSitter 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ArrayList _cats = new ArrayList ();</a:t>
            </a:r>
            <a:br>
              <a:rPr sz="1600"/>
            </a:b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public void TakeCareOf(ICat cat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_cats.Add (cat);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1600"/>
            </a:b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public virtual void DoWork (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foreach (ICat cat in _cats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    FeedCat (cat);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}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1600"/>
            </a:b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private void FeedCat (ICat cat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cat.Eat ();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odificación Clás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Se programa y se prueb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xceso de errores y falta de ti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DD (Test Driven Developmen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rogramar prueb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odificar para la prueb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Segunda Cl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class LazyCatSitter : CatSitter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public override void DoWork()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        // no hace nada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rimer T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[Test]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public void LazyCatSitterTest ()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 lazyCatSitter = new LazyCatSitter();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DynamicMock funnyBunny = new DynamicMock (typeof (ICat)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         </a:t>
            </a: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DynamicMock baerchen = new DynamicMock (typeof (ICat)); 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.TakeCareOf ((ICat) funnyBunny.MockInstance); 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.TakeCareOf ((ICat) baerchen.MockInstance);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funnyBunny.Expect ("Eat", null); // esperamos que sea invocado 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baerchen.Expect ("Eat", null);    // el metodo Eat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.DoWork ();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funnyBunny.Verify (); // Verificamos que se haya llamado 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baerchen.Verify ();    // el meto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 son las Test Unit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as para probar cl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on pruebas de requerimiento o aceptaci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Kent Beck, Chrysler C3 Project, Smalltal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ortado a Java, JUnit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NUnit Test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Version para .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Introduce los </a:t>
            </a:r>
            <a:r>
              <a:rPr b="0" i="1" lang="es-CL" sz="32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Utililiza Attributes para encontrar tests dentro del códi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NUnit Test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491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estFix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Setup &amp; Tear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ExpectedExe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Ign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br>
              <a:rPr sz="4400"/>
            </a:br>
            <a:r>
              <a:rPr b="0" lang="es-CL" sz="36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namespace UnitTestingExampl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NUnit.Framework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Fixture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class SomeTes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Ignore(“Nos saltamos esta.")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void TestOne(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// Aquí ponemos codigo de prueb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ssertion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lase para hacer </a:t>
            </a:r>
            <a:r>
              <a:rPr b="0" i="1" lang="es-CL" sz="3200" spc="-1" strike="noStrike">
                <a:solidFill>
                  <a:srgbClr val="000000"/>
                </a:solidFill>
                <a:latin typeface="Comic Sans MS"/>
              </a:rPr>
              <a:t>Asse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ontiene un set de funciones para usar en los te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ssertion Class</a:t>
            </a:r>
            <a:br>
              <a:rPr sz="4400"/>
            </a:br>
            <a:r>
              <a:rPr b="0" lang="es-CL" sz="36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namespace UnitTestingExampl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NUnit.Framework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Fixture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class SomeTes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void TestOne(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int i = 4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Assertion.AssertEquals( 4, i 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21:39:51Z</dcterms:created>
  <dc:creator>Bernd</dc:creator>
  <dc:description/>
  <dc:language>en-US</dc:language>
  <cp:lastModifiedBy>Bernd</cp:lastModifiedBy>
  <dcterms:modified xsi:type="dcterms:W3CDTF">2005-09-12T21:36:46Z</dcterms:modified>
  <cp:revision>8</cp:revision>
  <dc:subject/>
  <dc:title>Test Driven Develop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