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6FC-EC10-4E29-9787-E645F727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D83-6D12-4D19-97A4-31A9CDE8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9E3-098A-4E9B-A3D0-2E77048E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141-76B0-44D0-971F-764DFDD6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3387-9063-44B0-8DC8-9FD2A787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7ED9-A824-4DF9-804E-CD1A8C06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116C-4B12-49DD-B4C3-29AB8121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8428-6956-4178-9119-48C64804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2945-CC45-42A5-992B-18B135D1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9185-AE5E-47B4-85AF-73577E4A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3ED3-AF41-4691-95F1-A542DAA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341-A884-4380-BDEE-E978601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F922-5FEB-4B52-A975-BA47F8F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BA96-77D6-4DE2-8ECB-6ACA83A6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AF77-B816-4473-8C6C-1ED36318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2B94-5777-42CA-894C-9508D650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4294-54F0-40D9-8976-05D2734A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559-4C75-4598-8206-95F1214A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6B6-2F84-4F33-BAD3-28620CAC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5C4-EE2C-4151-9861-7BA91B4B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98D-834B-418D-AD98-F5CECA52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051-998B-4E7F-9DAA-3D6AC20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A2D-684E-4F7C-A00B-207FE4B0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F85-0102-4663-BE0F-5CD2D9A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FA7E-016B-4022-829C-4248CAEEBC6E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2E52-EB0C-4EDA-9E91-1E0161CBFD31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rogramacion.com/blogs/14_refactoring/archive/237_eliminar_flag_de_control_remove_control_flag.html" TargetMode="External"/><Relationship Id="rId2" Type="http://schemas.openxmlformats.org/officeDocument/2006/relationships/hyperlink" Target="http://refactoring.blog-city.com/" TargetMode="External"/><Relationship Id="rId3" Type="http://schemas.openxmlformats.org/officeDocument/2006/relationships/hyperlink" Target="http://elvex.ugr.es/decsai/java/pdf/8B-Refactoring.pdf" TargetMode="External"/><Relationship Id="rId4" Type="http://schemas.openxmlformats.org/officeDocument/2006/relationships/hyperlink" Target="http://elvex.ugr.es/decsai/java/pdf/8B-Refactoring.solution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80880" y="6248520"/>
            <a:ext cx="7391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66"/>
                </a:solidFill>
                <a:latin typeface="Times New Roman"/>
              </a:rPr>
              <a:t>CC62V- Metodologías ágiles de desarrollo de software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4648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Felipe Saaved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Esteban Navar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de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simpl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variab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Méto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ambio en el tipo de una variable intern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a variab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compleja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 méto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raer una interfac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liminar una serie de if usando polimorfism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Renombr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aquet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El código se vuelve auto-explicativ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v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administra la complejidad de los paquetes y de las clases permite administrar la funcionalidad del desarroll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Pull up / Pull dow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la complejidad al nivel de herencia que correspond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x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Código a méto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 a interfaces o superclas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ejorar la mantenibilidad del códig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y mejorar la eficiencia del código y las métricas de O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Práct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programacion.com/blogs/14_refactoring/archive/237_eliminar_flag_de_control_remove_control_flag.htm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refactoring.blog-city.com/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elvex.ugr.es/decsai/java/pdf/8B-Refactoring.pdf</a:t>
            </a: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 y </a:t>
            </a: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http://elvex.ugr.es/decsai/java/pdf/8B-Refactoring.solution.pd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“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inalmente terminamos el programa, hemos cumplido nuestras metas y los test han sido pasados…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…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Por fín hemos terminado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Orígenes de la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Diseñar para hoy (POP) v/s Diseñar para el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ódigo difícil de manten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mbios en el progra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Nuevos requisi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Mantención y Sopor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acilidades presentadas por paradigma O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Orígenes de la Refactorización (2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Lograr OAOO (once and only once) una y solo una vez, que es una de las grandes máximas de la refactorización.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ada funcionalidad del código debe estar en una sola parte implementada, si esta duplicada externalizar como un méto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Refactorización: </a:t>
            </a:r>
            <a:br>
              <a:rPr sz="4000"/>
            </a:b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Definición y Objetiv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Qué es Refactorización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Técnica disciplinada para efectuar cambios en la estructura interna de un código sin cambiar su comportamiento extern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qué refactorizar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mejorar su diseñ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encontrar err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programar más rápi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uando se debe refactorizar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está escribiendo un nuevo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simplificar la implementación de las nuevas funcional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corrige un err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revisa el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Importancia de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lidad del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l corregir errores, añadir funcionalidades o al revisar el código, el valor del software entregado aumenta. Asimismo el realizar mantenciones por estas u otras razones, en cortos períodos de tiemp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Algunos síntomas para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l código es difícil de enten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or variables con nombres ambigu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Lógica condicional muy complej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loques de código muy extens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aja cohesión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lto acoplamiento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n OO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lases mal definid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Métodos mal defini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Como llevar a cabo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Proceso por separado y unitari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pruebas unitarias constante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comprobaciones rápida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Utilizar patrones conocidos de refactor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53:22Z</dcterms:created>
  <dc:creator>Esteban Navarro</dc:creator>
  <dc:description/>
  <dc:language>en-US</dc:language>
  <cp:lastModifiedBy>Microsystem</cp:lastModifiedBy>
  <dcterms:modified xsi:type="dcterms:W3CDTF">2005-08-17T13:59:40Z</dcterms:modified>
  <cp:revision>9</cp:revision>
  <dc:subject/>
  <dc:title>Como llevar a cabo la refactoriz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