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16C-7A1B-4883-8D9F-49040F3F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C17-841E-4D42-A9D4-38FB169A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60D-78D4-4B4C-8BF1-F407FDC9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EFF-B0F9-4605-9278-D047C13F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C130-0366-490F-B1FD-8C6F3B51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B18E-F51D-4824-A4B6-B82C6BF2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FEB3-5ED0-4F85-BD7F-E6B03708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CBD4-11D0-4004-987D-75CCDCE8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0A8C-286A-4337-8C31-85F4D0DC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592E-388B-4D00-8CDE-5F624F63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D294-85C3-4650-8621-AFE6839E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788-F72D-423F-B874-5995B013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5D4E-D39F-4EFB-9295-C6C34F08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C8AC-5B79-40F7-9100-0B3DE021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EFDD-F182-4F10-BB29-05DD1B51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207D-F220-46D8-9995-BB63F3E5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647A-9647-4DD9-BE0E-E9FF725C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9DB0-9B64-4CA7-930F-1E2942A0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DA7D-4BCB-4900-944C-A3121EE8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649E-4658-45F6-B0A1-56663603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B38-3C69-4425-BDDF-4734211B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C36-48A5-4F48-B583-7183830B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FDF-64A1-45CB-BF0F-BE0F3ED6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ED78-0756-4E85-8C1E-4EFC34E7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F853-CF18-4000-9E60-4ACC1F3594A3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2CBA-22F1-472B-8974-3D149FB816B5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rogramacion.com/blogs/14_refactoring/archive/237_eliminar_flag_de_control_remove_control_flag.html" TargetMode="External"/><Relationship Id="rId2" Type="http://schemas.openxmlformats.org/officeDocument/2006/relationships/hyperlink" Target="http://refactoring.blog-city.com/" TargetMode="External"/><Relationship Id="rId3" Type="http://schemas.openxmlformats.org/officeDocument/2006/relationships/hyperlink" Target="http://elvex.ugr.es/decsai/java/pdf/8B-Refactoring.pdf" TargetMode="External"/><Relationship Id="rId4" Type="http://schemas.openxmlformats.org/officeDocument/2006/relationships/hyperlink" Target="http://elvex.ugr.es/decsai/java/pdf/8B-Refactoring.solution.pdf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66"/>
                </a:solidFill>
                <a:latin typeface="Times New Roman"/>
              </a:rPr>
              <a:t>Refactor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80880" y="6248520"/>
            <a:ext cx="7391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3366"/>
                </a:solidFill>
                <a:latin typeface="Times New Roman"/>
              </a:rPr>
              <a:t>CC62V- Metodologías ágiles de desarrollo de software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4648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Verdana"/>
              </a:rPr>
              <a:t>Felipe Saaved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Verdana"/>
              </a:rPr>
              <a:t>Esteban Navar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Ejemplos de refactor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Refactorización simpl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Renombre de variabl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Renombre de Méto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ambio en el tipo de una variable intern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Externalizar una variabl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Refactorización compleja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Externalizar un méto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Extraer una interfac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Eliminar una serie de if usando polimorfism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Renombr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Paquet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Clas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Método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Variabl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Tips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+ Se puede comprobar coherencia en tiempo de compilació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+ El código se vuelve auto-explicativo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- Si se genera una librería a partir de las clases refactorizadas, puede haber problemas de compatibilidad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Mov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Cla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Variabl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Métod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Tips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+ Se puede comprobar coherencia en tiempo de compilació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+ Se administra la complejidad de los paquetes y de las clases permite administrar la funcionalidad del desarrollo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- Si se genera una librería a partir de las clases refactorizadas, puede haber problemas de compatibilidad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Pull up / Pull dow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Méto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Tip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+ Permite mantener la complejidad al nivel de herencia que correspond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Extra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Código a métod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Métodos a interfaces o superclas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Tip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+ Permite mejorar la mantenibilidad del códig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+ Permite mantener y mejorar la eficiencia del código y las métricas de O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Ejemplos Práctic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programacion.com/blogs/14_refactoring/archive/237_eliminar_flag_de_control_remove_control_flag.html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http://refactoring.blog-city.com/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http://elvex.ugr.es/decsai/java/pdf/8B-Refactoring.pdf</a:t>
            </a:r>
            <a:r>
              <a:rPr b="0" lang="es-CL" sz="1400" spc="-1" strike="noStrike">
                <a:solidFill>
                  <a:srgbClr val="003366"/>
                </a:solidFill>
                <a:latin typeface="Times New Roman"/>
              </a:rPr>
              <a:t> y </a:t>
            </a:r>
            <a:r>
              <a:rPr b="0" lang="es-CL" sz="1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http://elvex.ugr.es/decsai/java/pdf/8B-Refactoring.solution.pdf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Refactor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 “</a:t>
            </a: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Finalmente terminamos el programa, hemos cumplido nuestras metas y los test han sido pasados…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    …</a:t>
            </a: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Por fín hemos terminado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Orígenes de la Refactor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Diseñar para hoy (POP) v/s Diseñar para el camb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ódigo difícil de manten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ambios en el progra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Nuevos requisi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Mantención y Sopor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Facilidades presentadas por paradigma OO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Orígenes de la Refactorización (2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Lograr OAOO (once and only once) una y solo una vez, que es una de las grandes máximas de la refactorización. 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Cada funcionalidad del código debe estar en una sola parte implementada, si esta duplicada externalizar como un métod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Refactorización: </a:t>
            </a:r>
            <a:br>
              <a:rPr sz="4000"/>
            </a:b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Definición y Objetiv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Qué es Refactorización?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Técnica disciplinada para efectuar cambios en la estructura interna de un código sin cambiar su comportamiento extern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or qué refactorizar?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ara mejorar su diseñ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ara hacerlo más entendi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ara encontrar err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ara programar más rápi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Cuando se debe refactorizar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uando se está escribiendo un nuevo códi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ra hacerlo más entendib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ra simplificar la implementación de las nuevas funcionalidad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uando se corrige un err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uando se revisa el códi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Importancia de la Refactor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alidad del Softw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l corregir errores, añadir funcionalidades o al revisar el código, el valor del software entregado aumenta. Asimismo el realizar mantenciones por estas u otras razones, en cortos períodos de tiemp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Algunos síntomas para la refactor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El código es difícil de entend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or variables con nombres ambigu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Lógica condicional muy complej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Bloques de código muy extens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Baja cohesión de módul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Alto acoplamiento de módul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En OOP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Clases mal definid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Métodos mal defini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66"/>
                </a:solidFill>
                <a:latin typeface="Times New Roman"/>
              </a:rPr>
              <a:t>Como llevar a cabo la refactor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Proceso por separado y unitari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Realizar pruebas unitarias constantes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Realizar comprobaciones rápida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Utilizar patrones conocidos de refactorizació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00:53:22Z</dcterms:created>
  <dc:creator>Esteban Navarro</dc:creator>
  <dc:description/>
  <dc:language>en-US</dc:language>
  <cp:lastModifiedBy>Microsystem</cp:lastModifiedBy>
  <dcterms:modified xsi:type="dcterms:W3CDTF">2005-08-17T13:59:40Z</dcterms:modified>
  <cp:revision>9</cp:revision>
  <dc:subject/>
  <dc:title>Como llevar a cabo la refactoriz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