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050B-097F-441E-9559-FAA645DF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D52-F2E3-4EB5-BB43-0121A0FD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D45D-AF21-488D-8C5D-DB7B432E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7C7-D5E3-4EF3-AC5D-26998394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A52C-692E-48B4-8947-B22B77FD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E89D-F92F-4418-B0D5-8EDE277F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1463-2F46-480A-82E5-0EDCB164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8CAA-7411-43DE-B3F5-65A41DF9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B11A-EE0C-4BFC-B827-93537551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91C6-6D34-4154-A052-91129092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26C9-2A65-4051-AF0E-6C17AD6A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F02-D09F-4B08-AEBE-113A48DE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5612-6F7E-4C74-BF5E-58ED263C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1DFC-6203-437D-AD21-22F3C74A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BB91-264F-436A-9FA5-78F84E21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8AAA-FA65-4077-A4FF-CD10907C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2F16-E633-4599-BB7B-0A3B30D7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F99-A1F4-46C3-98FB-64D6D8F2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69A-8034-4768-BC89-5C3378B5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037-A17D-49DA-96A2-82BD8288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59E-4FD9-488B-AD33-545A19B7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3F07-8427-48D4-8AF9-95BCC60F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128-BB91-492B-B61E-140EF332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D05-35D2-407C-87AB-921B40AA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3A7E-28D8-4EA3-86A3-494DFFCB116F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1470-E5D4-4CDB-8695-E3C7F25C56B3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rogramacion.com/blogs/14_refactoring/archive/237_eliminar_flag_de_control_remove_control_flag.html" TargetMode="External"/><Relationship Id="rId2" Type="http://schemas.openxmlformats.org/officeDocument/2006/relationships/hyperlink" Target="http://refactoring.blog-city.com/" TargetMode="External"/><Relationship Id="rId3" Type="http://schemas.openxmlformats.org/officeDocument/2006/relationships/hyperlink" Target="http://elvex.ugr.es/decsai/java/pdf/8B-Refactoring.pdf" TargetMode="External"/><Relationship Id="rId4" Type="http://schemas.openxmlformats.org/officeDocument/2006/relationships/hyperlink" Target="http://elvex.ugr.es/decsai/java/pdf/8B-Refactoring.solution.pdf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66"/>
                </a:solidFill>
                <a:latin typeface="Times New Roman"/>
              </a:rPr>
              <a:t>Refactor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80880" y="6248520"/>
            <a:ext cx="7391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3366"/>
                </a:solidFill>
                <a:latin typeface="Times New Roman"/>
              </a:rPr>
              <a:t>CC62V- Metodologías ágiles de desarrollo de software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4648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Verdana"/>
              </a:rPr>
              <a:t>Felipe Saaved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Verdana"/>
              </a:rPr>
              <a:t>Esteban Navar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Ejemplos de refactor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Refactorización simpl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Renombre de variabl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Renombre de Méto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ambio en el tipo de una variable intern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Externalizar una variabl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Refactorización compleja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Externalizar un méto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Extraer una interfac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Eliminar una serie de if usando polimorfism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Renombr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Paquet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Clas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Método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Variabl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Tips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+ Se puede comprobar coherencia en tiempo de compilació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+ El código se vuelve auto-explicativo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- Si se genera una librería a partir de las clases refactorizadas, puede haber problemas de compatibilidad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Mov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Cla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Variabl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Métod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Tips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+ Se puede comprobar coherencia en tiempo de compilació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+ Se administra la complejidad de los paquetes y de las clases permite administrar la funcionalidad del desarrollo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- Si se genera una librería a partir de las clases refactorizadas, puede haber problemas de compatibilidad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Pull up / Pull dow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Méto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Tip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+ Permite mantener la complejidad al nivel de herencia que correspond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Extra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Código a métod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Métodos a interfaces o superclas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Tip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+ Permite mejorar la mantenibilidad del códig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+ Permite mantener y mejorar la eficiencia del código y las métricas de O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Ejemplos Práctic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programacion.com/blogs/14_refactoring/archive/237_eliminar_flag_de_control_remove_control_flag.html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http://refactoring.blog-city.com/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http://elvex.ugr.es/decsai/java/pdf/8B-Refactoring.pdf</a:t>
            </a:r>
            <a:r>
              <a:rPr b="0" lang="es-CL" sz="1400" spc="-1" strike="noStrike">
                <a:solidFill>
                  <a:srgbClr val="003366"/>
                </a:solidFill>
                <a:latin typeface="Times New Roman"/>
              </a:rPr>
              <a:t> y </a:t>
            </a:r>
            <a:r>
              <a:rPr b="0" lang="es-CL" sz="1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http://elvex.ugr.es/decsai/java/pdf/8B-Refactoring.solution.pdf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Refactor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 “</a:t>
            </a: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Finalmente terminamos el programa, hemos cumplido nuestras metas y los test han sido pasados…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    …</a:t>
            </a: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Por fín hemos terminado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Orígenes de la Refactor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Diseñar para hoy (POP) v/s Diseñar para el camb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ódigo difícil de manten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ambios en el progra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Nuevos requisi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Mantención y Sopor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Facilidades presentadas por paradigma OO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Orígenes de la Refactorización (2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Lograr OAOO (once and only once) una y solo una vez, que es una de las grandes máximas de la refactorización. 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Cada funcionalidad del código debe estar en una sola parte implementada, si esta duplicada externalizar como un métod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Refactorización: </a:t>
            </a:r>
            <a:br>
              <a:rPr sz="4000"/>
            </a:b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Definición y Objetiv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Qué es Refactorización?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Técnica disciplinada para efectuar cambios en la estructura interna de un código sin cambiar su comportamiento extern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or qué refactorizar?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ara mejorar su diseñ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ara hacerlo más entendi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ara encontrar err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ara programar más rápi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Cuando se debe refactorizar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uando se está escribiendo un nuevo códi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ra hacerlo más entendib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ra simplificar la implementación de las nuevas funcionalidad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uando se corrige un err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uando se revisa el códi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Importancia de la Refactor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alidad del Softw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l corregir errores, añadir funcionalidades o al revisar el código, el valor del software entregado aumenta. Asimismo el realizar mantenciones por estas u otras razones, en cortos períodos de tiemp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Algunos síntomas para la refactor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El código es difícil de entend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or variables con nombres ambigu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Lógica condicional muy complej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Bloques de código muy extens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Baja cohesión de módul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Alto acoplamiento de módul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En OOP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Clases mal definid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Métodos mal defini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66"/>
                </a:solidFill>
                <a:latin typeface="Times New Roman"/>
              </a:rPr>
              <a:t>Como llevar a cabo la refactor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Proceso por separado y unitari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Realizar pruebas unitarias constantes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Realizar comprobaciones rápida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Utilizar patrones conocidos de refactorizació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00:53:22Z</dcterms:created>
  <dc:creator>Esteban Navarro</dc:creator>
  <dc:description/>
  <dc:language>en-US</dc:language>
  <cp:lastModifiedBy>Microsystem</cp:lastModifiedBy>
  <dcterms:modified xsi:type="dcterms:W3CDTF">2005-08-17T13:59:40Z</dcterms:modified>
  <cp:revision>9</cp:revision>
  <dc:subject/>
  <dc:title>Como llevar a cabo la refactoriz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