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DE225-9D84-4DEA-9C22-E15171859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F9020-8A04-4E97-93AF-8C4086C4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65214-20B0-464E-A2EC-57AD6D272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27195-C429-4989-8EC8-33A029D04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67B2E-370E-48E7-A974-CBA91CD33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7676-D202-40B8-9E63-D998FEF7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B98E-46D0-41E2-B2FB-5D54D259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00D1-D087-46DB-BCEF-9D7AD574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75323-B2A4-4763-A90B-57D4C80B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1A77E-DBBD-4B44-B8E8-10975CB6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02B6-84D8-4804-8B93-97730E4E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41D0C-43CE-44F0-98BF-6C833EB6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7017-DD1A-4902-9F18-211360A2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9154-6EB0-4BAA-84FD-FD8CA95C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AEA6-7110-48A6-BC78-C0F08CF1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1F93-0AA3-4FAE-BFA5-F742168DC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55A6-191F-4860-ACC5-EA195EDAF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F2AB7-8F0D-418C-8E9C-B34B7C61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B240D-5E67-436F-A390-68CB3991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2C2B6-D338-4302-A73A-21581DC3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42684-60F5-4E26-921A-7E143616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C583C-83F3-443F-BEBE-0236BFF7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031A6-61BD-4308-84A8-E242D014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74819-9151-47A1-BAFA-E85DA113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6348-1132-4D63-81F7-147B61FC8D14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A83B-DBB5-487F-BE4E-B3BB3E46DE90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920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CC62V: Metodologías ágiles de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esarrollo de softwa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19280" y="2204640"/>
            <a:ext cx="60199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em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s Costos y Beneficios de 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ogramación de a P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40360" y="5084640"/>
            <a:ext cx="460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echa: 05/08/200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xpositores: Manuel Villarroel Rom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laudio Trujillo Muño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fesor: Agustín Vill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alidad del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estimonios y experiencias dicen que ésta práctica lleva a mejores dise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os cabezas piensan más que una” : Los pares consideran más soluciones posibles y rápidamente convergen a la mejor para implement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u constante retroalimentación, debate, e intercambio de ideas disminuye la probabilidad de un mal dise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ientras uno va escribiendo el diseño, el otro lo va revisando al mismo tiempo.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alidad del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dicador de la calidad del diseño: Lineas de códi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476360" y="2997360"/>
            <a:ext cx="633744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evisiones Continu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specciones detectan y remueven defectos del software en forma efectiva. Pero a muchos programadores no les gust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u aporte se aprecia al considerar la curva de costo de cambio. Estudios muestran que es diez veces mas caro remover un defecto por cada paso en el proceso de desarrol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evisiones Continu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 la programación en pares, la revisión e identificación de problemas ocurre minuto a minu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revision continua en la programacion colaborativa, incentivan un aprendizaje constante: Se aprende del lenguaje, de técnicas de diseño, de dominios de aplicació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entaja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rrores se detectan apenas aparecen, entregando el beneficio económico de la pronta identificacion y corre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siguen los estándares de codificación debido a la “presión” del compañero para hacer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iembros del equipo aprender a conversar y a trabajar ju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14716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  <a:ea typeface="Arial"/>
              </a:rPr>
              <a:t>Resolución de Problema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9152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Que tipo de proble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Experiencia de programad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Compartir conocimiento, su mejor habi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Frase Programador experto: Luego de trabajar en pares, si vuelvo a trabajar solo es como si parte de mi mente se fuera, me encuentro confundido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prendiza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ínea de vista” de aprendizaje novato-exper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fícil de implementar en actual forma de desarroll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perimento de Pair Programming de desarrollo web en Universidad de Ut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umnos no tenían mayor conocimiento de herramientas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minaron, al final del semestre, distintas herramientas como JavaScript, VBScript, Access/SQL, ActiveX, y ot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prendizaje con un mínimo de consultas al equipo docente a car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74% señaló que era capaz de calcular lo que fuera con su partn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84% señaló su aprendizaje fue muy rápido por estar trabajando en pare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onstrucción de Equipo y Comunicación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gente aprende a trabajar en conjunto (Univ. Uta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eniendo que trabajar en equipo, la gente aprende a trabajar en equi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comparte tanto problemas como soluciones más rápida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bajar juntos, implica mayor flujo de comunicación,  de manera más fácil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ésta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luye dentro del equi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quipo y Administración de Proyectos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s habilidades de los miembros del equipo aument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isminuye el riesgo de perdida de miembros del equip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conocimiento disperso por el equipo hace un proyecto más segu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rrores se identifican al aparecer en el código en vez de en las inspec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cantidad final de errores es estadísticamente men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s diseños son mejores y los códigos son más cor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quipo resuelve problemas más rap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aprende significativamente más acerca del sistema y del acerca del desarrollo de software(aprendizaje por linea de vis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proyecto termina con muchas personas entiendiendo cada pieza del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personas aprenden a trabajar juntas y a conversar mas seguido, dándole mas dinamismo al equipo y mejorando el flujo de i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personas disfrutan más su tra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Ítems Present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43280" y="2133720"/>
            <a:ext cx="3529080" cy="29653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Áreas Investigación de Programación de P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conó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tisf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lidad del Dis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visiones Continu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solución de Probl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prendiz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trucción de Equipo y Comun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quipo y Administración de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pairprogramming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he cost and benefits of pair programming”, Alistair Cockburn and Laurie Willi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trengthening the Case for Pair-Programming” , Laurie Williams, Robert Kessler, Ward Cunningham and Ron Jeff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é es Pair Programm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otación de las pare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tintas visiones en un princip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puest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dministradores reacios a invert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gramación pensada como 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gramadores señalan el código como pers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 fav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ilo preferido de progra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ás del doble de ráp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joras en el diseño, código más co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vatos aportan a exper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667200" y="3924000"/>
            <a:ext cx="360" cy="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conomí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actibilidad económica es un punto clave. Si es mucho mas caro, los gerentes simplemente no la aceptará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tros aspectos, como la calidad y mantenimiento deben ser considerados. Ej: IBM reportó gastos de alrededor de US$ 250 millones reparando e instalando parches a 30000 problemas reportados por clientes. Eso equivale aproximadamente a US$ 8000 por cada defe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Econom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xperimento (1999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iversidad de Utah, curso de ingeniería de Software para casi egres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/3 programó solo, 2/3 de a p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midió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iempo de program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fectos en el cód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atisfacción program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lidad de dis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Econom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pares tardan un 15% más en el desarrollo que los individu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788000" y="1413000"/>
            <a:ext cx="3529080" cy="2149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68360" y="4221000"/>
            <a:ext cx="395604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resultado tiene un 15% menos de defectos. (Casos de prueba pasad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859280" y="4076640"/>
            <a:ext cx="36720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Economí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15% de aumento en el costo (tiempo)del desarrollo se recupera con la reducción de def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ograma de 50.000 lín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upuesto: A 50 líneas por h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upuesto: A 100 defectos por cada 1000 líneas </a:t>
            </a:r>
            <a:r>
              <a:rPr b="0" lang="es-ES_trad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5000 err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000 horas en 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os pares se demoraran 15% más en horas (1150 horas de a par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n general, se estima que al final se puede arreglar sólo el 70% de los err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Queda 30% de errores </a:t>
            </a:r>
            <a:r>
              <a:rPr b="0" lang="es-ES_trad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1500 erro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laborativamente se tienen 15% menos de defe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25 defectos me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Usando 10 horas para resolver 1 defecto (tasas van entre 4 y 16 horas por defec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250 horas extras!!! En corregir los defectos que no se detectaron por el desarrollador individ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Economí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el desarrollo se enviara directamente a un cliente, la práctica es incluso más favor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atos muestran que toma entre 33 y 88 horas corregir un defecto encontrado en produc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0 hrs/ defecto 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9000 hrs de tiempo ext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40*2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Satisfac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sultados estadísticos muestran que los programadores disfrutaron más su tra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.y que estaban más confiados en sus progra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(encuesta realizada a profesionales y estudiantes en la Univ. de Uta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estimonios: “…puedo estar seguro que he hecho un buen trabajo si alguien en quien confío ha estado mirando y aproband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 agradable festejar con alguien cuando algo funcion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es no quisieron volver a trabajar individual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17:07:43Z</dcterms:created>
  <dc:creator>Trujillo Muñoz</dc:creator>
  <dc:description/>
  <dc:language>en-US</dc:language>
  <cp:lastModifiedBy>Trujillo Muñoz</cp:lastModifiedBy>
  <dcterms:modified xsi:type="dcterms:W3CDTF">2005-08-16T03:48:09Z</dcterms:modified>
  <cp:revision>86</cp:revision>
  <dc:subject/>
  <dc:title>CC72P:Algoritmos de Aproximació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