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48B9F-987D-41E7-92C0-55F821AF7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B425F-7ACA-4F1E-90F5-ECFF2B27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E8C1B-8652-46F4-BD34-3D9E017A5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21E23-DB6C-43AA-8286-7AC10473A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F2D7-E091-458A-BDEF-0B38DABCF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9741-60F3-486B-AA3F-18AB91AB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029D4-1A63-4A47-B36C-7B2554FB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6232-0134-436A-A6BD-53F08DE2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A1210-80FB-49C9-A517-5EB579D3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3526-1BDD-4663-8533-28E47138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245C1-C085-4362-BCED-53FA8FEE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D891A-9632-45FD-A9B8-23C0555C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30E8-0A49-4140-8CB3-95235CC6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5338-141E-43AB-8075-83827FAB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F232-F0CE-486F-A9F3-E927B106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9ACA-6D6D-4EF1-B16A-A2F5FEEA4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A4E5-A9A0-4677-8A56-15509CAAA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3701B-6E0F-4517-BB9F-EAE98F05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20D6D-FC64-4128-87AC-54EE20E8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5BD88-59BD-4677-BE96-1C03FB78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1CFFA-5D77-4B69-B95B-493C0678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F2820-E99D-47F0-9BB1-3DD1E16C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6355F-9009-4994-8ED2-3110FDD8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CE300-EE30-4BD5-B157-E3900026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ABAF-76CF-4EBB-A969-371873696DAD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9492-5C5C-4157-9DD2-E9AA21BB3D78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920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CC62V: Metodologías ágiles de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esarrollo de softwa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19280" y="2204640"/>
            <a:ext cx="60199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em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s Costos y Beneficios de 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ogramación de a P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40360" y="5084640"/>
            <a:ext cx="460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echa: 05/08/200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xpositores: Manuel Villarroel Rom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laudio Trujillo Muño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fesor: Agustín Vill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alidad del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estimonios y experiencias dicen que ésta práctica lleva a mejores dise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os cabezas piensan más que una” : Los pares consideran más soluciones posibles y rápidamente convergen a la mejor para implement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u constante retroalimentación, debate, e intercambio de ideas disminuye la probabilidad de un mal dise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ientras uno va escribiendo el diseño, el otro lo va revisando al mismo tiempo.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alidad del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dicador de la calidad del diseño: Lineas de códi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476360" y="2997360"/>
            <a:ext cx="633744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evisiones Continu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specciones detectan y remueven defectos del software en forma efectiva. Pero a muchos programadores no les gust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u aporte se aprecia al considerar la curva de costo de cambio. Estudios muestran que es diez veces mas caro remover un defecto por cada paso en el proceso de desarrol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evisiones Continu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 la programación en pares, la revisión e identificación de problemas ocurre minuto a minu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revision continua en la programacion colaborativa, incentivan un aprendizaje constante: Se aprende del lenguaje, de técnicas de diseño, de dominios de aplicació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entaja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rrores se detectan apenas aparecen, entregando el beneficio económico de la pronta identificacion y corre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siguen los estándares de codificación debido a la “presión” del compañero para hacer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iembros del equipo aprender a conversar y a trabajar ju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14716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  <a:ea typeface="Arial"/>
              </a:rPr>
              <a:t>Resolución de Problema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9152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Que tipo de proble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Experiencia de programad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Compartir conocimiento, su mejor habi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Frase Programador experto: Luego de trabajar en pares, si vuelvo a trabajar solo es como si parte de mi mente se fuera, me encuentro confundido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prendiza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ínea de vista” de aprendizaje novato-exper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fícil de implementar en actual forma de desarroll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perimento de Pair Programming de desarrollo web en Universidad de Ut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umnos no tenían mayor conocimiento de herramientas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minaron, al final del semestre, distintas herramientas como JavaScript, VBScript, Access/SQL, ActiveX, y ot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prendizaje con un mínimo de consultas al equipo docente a car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74% señaló que era capaz de calcular lo que fuera con su partn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84% señaló su aprendizaje fue muy rápido por estar trabajando en pare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onstrucción de Equipo y Comunicación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gente aprende a trabajar en conjunto (Univ. Uta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eniendo que trabajar en equipo, la gente aprende a trabajar en equi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comparte tanto problemas como soluciones más rápida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bajar juntos, implica mayor flujo de comunicación,  de manera más fácil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ésta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luye dentro del equi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quipo y Administración de Proyectos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s habilidades de los miembros del equipo aument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isminuye el riesgo de perdida de miembros del equip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conocimiento disperso por el equipo hace un proyecto más segu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rrores se identifican al aparecer en el código en vez de en las inspec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cantidad final de errores es estadísticamente men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s diseños son mejores y los códigos son más cor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quipo resuelve problemas más rap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aprende significativamente más acerca del sistema y del acerca del desarrollo de software(aprendizaje por linea de vis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proyecto termina con muchas personas entiendiendo cada pieza del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personas aprenden a trabajar juntas y a conversar mas seguido, dándole mas dinamismo al equipo y mejorando el flujo de i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personas disfrutan más su tra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Ítems Present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43280" y="2133720"/>
            <a:ext cx="3529080" cy="29653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Áreas Investigación de Programación de P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conó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tisf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lidad del Dis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visiones Continu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solución de Probl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prendiz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trucción de Equipo y Comun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quipo y Administración de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pairprogramming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he cost and benefits of pair programming”, Alistair Cockburn and Laurie Willi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trengthening the Case for Pair-Programming” , Laurie Williams, Robert Kessler, Ward Cunningham and Ron Jeff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é es Pair Programm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otación de las pare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tintas visiones en un princip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puest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dministradores reacios a invert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gramación pensada como 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gramadores señalan el código como pers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 fav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ilo preferido de progra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ás del doble de ráp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joras en el diseño, código más co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vatos aportan a exper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667200" y="3924000"/>
            <a:ext cx="360" cy="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conomí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actibilidad económica es un punto clave. Si es mucho mas caro, los gerentes simplemente no la aceptará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tros aspectos, como la calidad y mantenimiento deben ser considerados. Ej: IBM reportó gastos de alrededor de US$ 250 millones reparando e instalando parches a 30000 problemas reportados por clientes. Eso equivale aproximadamente a US$ 8000 por cada defe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Econom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xperimento (1999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iversidad de Utah, curso de ingeniería de Software para casi egres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/3 programó solo, 2/3 de a p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midió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iempo de program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fectos en el cód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atisfacción program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lidad de dis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Econom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pares tardan un 15% más en el desarrollo que los individu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788000" y="1413000"/>
            <a:ext cx="3529080" cy="2149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68360" y="4221000"/>
            <a:ext cx="395604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resultado tiene un 15% menos de defectos. (Casos de prueba pasad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859280" y="4076640"/>
            <a:ext cx="36720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Economí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15% de aumento en el costo (tiempo)del desarrollo se recupera con la reducción de def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ograma de 50.000 lín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upuesto: A 50 líneas por h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upuesto: A 100 defectos por cada 1000 líneas </a:t>
            </a:r>
            <a:r>
              <a:rPr b="0" lang="es-ES_trad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5000 err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000 horas en 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os pares se demoraran 15% más en horas (1150 horas de a par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n general, se estima que al final se puede arreglar sólo el 70% de los err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Queda 30% de errores </a:t>
            </a:r>
            <a:r>
              <a:rPr b="0" lang="es-ES_trad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1500 erro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laborativamente se tienen 15% menos de defe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25 defectos me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Usando 10 horas para resolver 1 defecto (tasas van entre 4 y 16 horas por defec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250 horas extras!!! En corregir los defectos que no se detectaron por el desarrollador individ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Economí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el desarrollo se enviara directamente a un cliente, la práctica es incluso más favor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atos muestran que toma entre 33 y 88 horas corregir un defecto encontrado en produc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0 hrs/ defecto 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9000 hrs de tiempo ext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40*2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Satisfac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sultados estadísticos muestran que los programadores disfrutaron más su tra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.y que estaban más confiados en sus progra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(encuesta realizada a profesionales y estudiantes en la Univ. de Uta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estimonios: “…puedo estar seguro que he hecho un buen trabajo si alguien en quien confío ha estado mirando y aproband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 agradable festejar con alguien cuando algo funcion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es no quisieron volver a trabajar individual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17:07:43Z</dcterms:created>
  <dc:creator>Trujillo Muñoz</dc:creator>
  <dc:description/>
  <dc:language>en-US</dc:language>
  <cp:lastModifiedBy>Trujillo Muñoz</cp:lastModifiedBy>
  <dcterms:modified xsi:type="dcterms:W3CDTF">2005-08-16T03:48:09Z</dcterms:modified>
  <cp:revision>86</cp:revision>
  <dc:subject/>
  <dc:title>CC72P:Algoritmos de Aproximació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