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82B41-2558-4557-97D2-BC27BBF9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C72FD-46F0-47AE-8046-55CFB432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546D7-6B47-46F8-923A-901E3C80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58653-7A45-476A-B08E-97355475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5F3A-26E6-4292-BA4C-1671D370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CE98-A7AC-4A32-BB3B-56A9D6EA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E2D1-0736-4FCC-AAFB-7C5958A1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DEBE-A172-4D93-B677-7D65E86C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EA0A-939C-4FBE-BD4A-1BD95C20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20C7-25D4-4BD0-895A-CF88432E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92A1-5D7A-4386-8192-C97FEE4E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E1507-E8FF-4B3A-90B5-C7B60575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2EA0-D5A3-4FE9-B558-5FCD4798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FBA3-208C-4AF1-B76F-1E12289B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52F2-A899-4F2F-8DF2-ABFDFF6D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9D74-1C0D-4975-AC69-FAD7BCAF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2FFF-A227-494B-BC5C-2129D6C5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A8672-99E6-4B69-81FB-3AACF91C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EE730-CCA3-4C17-BF3D-89348203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62729-E90D-4B4E-B614-D887FA54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4A1D1-87A8-487A-940B-0A91E968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01A74-4D61-41D4-B4D6-3BE8188C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4B7AC-5E26-48CA-80DF-30AA9761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CBDC3-B27A-4194-AB4C-D2C56011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0215-49DA-4936-A80D-9627FE610416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3D24-47D9-429A-9FFA-F69C41C4D9D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920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C62V: Metodologías ágiles de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sarrollo de softwa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19280" y="2204640"/>
            <a:ext cx="60199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em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Costos y Beneficios de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gramación de a P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40360" y="5084640"/>
            <a:ext cx="46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echa: 05/08/200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positores: Manuel Villarroel Rom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laudio Trujillo Muño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fesor: Agustín Vill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lidad d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estimonios y experiencias dicen que ésta práctica lleva a mejores dise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os cabezas piensan más que una” : Los pares consideran más soluciones posibles y rápidamente convergen a la mejor para implemen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 constante retroalimentación, debate, e intercambio de ideas disminuye la probabilidad de un mal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ientras uno va escribiendo el diseño, el otro lo va revisando al mismo tiempo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lidad d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dicador de la calidad del diseño: Lineas de códi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76360" y="2997360"/>
            <a:ext cx="633744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visiones Continu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specciones detectan y remueven defectos del software en forma efectiva. Pero a muchos programadores no les gust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 aporte se aprecia al considerar la curva de costo de cambio. Estudios muestran que es diez veces mas caro remover un defecto por cada paso en el proceso de desarrol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visiones Continu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 la programación en pares, la revisión e identificación de problemas ocurre minuto a minu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revision continua en la programacion colaborativa, incentivan un aprendizaje constante: Se aprende del lenguaje, de técnicas de diseño, de dominios de aplicació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ntaja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rrores se detectan apenas aparecen, entregando el beneficio económico de la pronta identificacion y corre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siguen los estándares de codificación debido a la “presión” del compañero para hacer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iembros del equipo aprender a conversar y a trabajar ju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147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Resolución de Problem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9152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Que tipo de probl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Experiencia de program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Compartir conocimiento, su mejor h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Frase Programador experto: Luego de trabajar en pares, si vuelvo a trabajar solo es como si parte de mi mente se fuera, me encuentro confundido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prendiz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ínea de vista” de aprendizaje novato-expe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fícil de implementar en actual forma de desarrol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erimento de Pair Programming de desarrollo web en Universidad de Ut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umnos no tenían mayor conocimiento de herramientas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minaron, al final del semestre, distintas herramientas como JavaScript, VBScript, Access/SQL, ActiveX, y ot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rendizaje con un mínimo de consultas al equipo docente a car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74% señaló que era capaz de calcular lo que fuera con su part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84% señaló su aprendizaje fue muy rápido por estar trabajando en pare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onstrucción de Equipo y Comunicación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gente aprende a trabajar en conjunto (Univ. Uta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niendo que trabajar en equipo, la gente aprende a trabajar en equ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comparte tanto problemas como soluciones más rápid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bajar juntos, implica mayor flujo de comunicación,  de manera más fácil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ést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luye dentro del equ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quipo y Administración de Proyecto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habilidades de los miembros del equipo aument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sminuye el riesgo de perdida de miembros del equi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conocimiento disperso por el equipo hace un proyecto más segu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rrores se identifican al aparecer en el código en vez de en las inspec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cantidad final de errores es estadísticamente men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diseños son mejores y los códigos son más cor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quipo resuelve problemas más rap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aprende significativamente más acerca del sistema y del acerca del desarrollo de software(aprendizaje por linea de vis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proyecto termina con muchas personas entiendiendo cada pieza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personas aprenden a trabajar juntas y a conversar mas seguido, dándole mas dinamismo al equipo y mejorando el flujo de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personas disfrutan más su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Ítems Presen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3529080" cy="2965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Áreas Investigación de Programación de P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tisf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lidad del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visiones Contin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olución de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rucción de Equipo y Comu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po y Administración de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airprogramming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he cost and benefits of pair programming”, Alistair Cockburn and Laurie Willi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trengthening the Case for Pair-Programming” , Laurie Williams, Robert Kessler, Ward Cunningham and Ron Jeff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é es Pair Program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otación de las pare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tintas visiones en un princip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pues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ministradores reacios a invert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gramación pensada como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gramadores señalan el código como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fav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ilo preferido de progra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ás del doble de ráp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joras en el diseño, código más c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vatos aportan a exp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667200" y="3924000"/>
            <a:ext cx="360" cy="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conomí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actibilidad económica es un punto clave. Si es mucho mas caro, los gerentes simplemente no la aceptará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tros aspectos, como la calidad y mantenimiento deben ser considerados. Ej: IBM reportó gastos de alrededor de US$ 250 millones reparando e instalando parches a 30000 problemas reportados por clientes. Eso equivale aproximadamente a US$ 8000 por cada def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conom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perimento (1999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iversidad de Utah, curso de ingeniería de Software para casi egres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/3 programó solo, 2/3 de a p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midi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mpo de program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fectos en el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atisfacción program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idad de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conom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pares tardan un 15% más en el desarrollo que los individ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788000" y="1413000"/>
            <a:ext cx="3529080" cy="2149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68360" y="4221000"/>
            <a:ext cx="395604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resultado tiene un 15% menos de defectos. (Casos de prueba pasa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59280" y="4076640"/>
            <a:ext cx="36720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conomí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15% de aumento en el costo (tiempo)del desarrollo se recupera con la reducción de def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grama de 50.000 lín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upuesto: A 50 líneas por h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upuesto: A 100 defectos por cada 1000 líneas </a:t>
            </a:r>
            <a:r>
              <a:rPr b="0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5000 err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00 horas en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pares se demoraran 15% más en horas (1150 horas de a par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 general, se estima que al final se puede arreglar sólo el 70% de los err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Queda 30% de errores </a:t>
            </a:r>
            <a:r>
              <a:rPr b="0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1500 err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laborativamente se tienen 15% menos de def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25 defectos me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Usando 10 horas para resolver 1 defecto (tasas van entre 4 y 16 horas por defec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250 horas extras!!! En corregir los defectos que no se detectaron por el desarrollador individ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conomí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el desarrollo se enviara directamente a un cliente, la práctica es incluso más favor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 muestran que toma entre 33 y 88 horas corregir un defecto encontrado en produ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0 hrs/ defecto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000 hrs de tiempo ext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40*2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atisfac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sultados estadísticos muestran que los programadores disfrutaron más su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.y que estaban más confiados en sus progra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(encuesta realizada a profesionales y estudiantes en la Univ. de Uta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stimonios: “…puedo estar seguro que he hecho un buen trabajo si alguien en quien confío ha estado mirando y aproban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agradable festejar con alguien cuando algo funcion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es no quisieron volver a trabajar individual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7:07:43Z</dcterms:created>
  <dc:creator>Trujillo Muñoz</dc:creator>
  <dc:description/>
  <dc:language>en-US</dc:language>
  <cp:lastModifiedBy>Trujillo Muñoz</cp:lastModifiedBy>
  <dcterms:modified xsi:type="dcterms:W3CDTF">2005-08-16T03:48:09Z</dcterms:modified>
  <cp:revision>86</cp:revision>
  <dc:subject/>
  <dc:title>CC72P:Algoritmos de Aproxim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