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58400" cy="7772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266720" y="0"/>
            <a:ext cx="3272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46320" y="837720"/>
            <a:ext cx="512280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90720" y="5105160"/>
            <a:ext cx="55576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10134720"/>
            <a:ext cx="327168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266720" y="10134720"/>
            <a:ext cx="32720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45979-5851-4273-B574-4C12DDA1046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86000" y="1027080"/>
            <a:ext cx="478764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86000" y="1027080"/>
            <a:ext cx="478764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86000" y="1027080"/>
            <a:ext cx="478764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874872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9800" y="4666320"/>
            <a:ext cx="874872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2288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9800" y="466632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22880" y="466632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97920" y="201780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56400" y="201780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9800" y="466632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97920" y="466632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56400" y="466632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9800" y="2017800"/>
            <a:ext cx="874872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874872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426924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22880" y="2017800"/>
            <a:ext cx="426924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9440" y="290160"/>
            <a:ext cx="858348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22880" y="2017800"/>
            <a:ext cx="426924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9800" y="466632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426924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288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22880" y="466632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288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800" y="4666320"/>
            <a:ext cx="874872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017800"/>
            <a:ext cx="874872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8960" indent="-285840">
              <a:lnSpc>
                <a:spcPct val="8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0600" indent="-21276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2600" indent="-211320">
              <a:lnSpc>
                <a:spcPct val="8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4240" indent="-21276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4240" indent="-2127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4240" indent="-2127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0720" y="7275600"/>
            <a:ext cx="9336240" cy="100080"/>
          </a:xfrm>
          <a:prstGeom prst="roundRect">
            <a:avLst>
              <a:gd name="adj" fmla="val 161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2880" y="7493040"/>
            <a:ext cx="8075520" cy="100080"/>
          </a:xfrm>
          <a:prstGeom prst="roundRect">
            <a:avLst>
              <a:gd name="adj" fmla="val 161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39800" y="372960"/>
            <a:ext cx="858996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0960" indent="-210960" algn="ctr">
              <a:lnSpc>
                <a:spcPct val="93000"/>
              </a:lnSpc>
              <a:tabLst>
                <a:tab algn="l" pos="0"/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C62V Metodologías ágiles de desarrollo de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2778480"/>
            <a:ext cx="87552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0960" indent="-210960" algn="ctr">
              <a:lnSpc>
                <a:spcPct val="95000"/>
              </a:lnSpc>
              <a:tabLst>
                <a:tab algn="l" pos="0"/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On Site Custom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80360" y="6000840"/>
            <a:ext cx="22028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Integr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Cristhian Mo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César Si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jecutar Tests de Aceptación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18960" y="2209320"/>
            <a:ext cx="80010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jecutar a diario pruebas de aceptación para la iteración actual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tener “a la vista” tests pasados y fallidos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tener registros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omatizarlo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5345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rigir la Iteración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828800" y="22096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 de Entrega: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4" marL="1074600" indent="-21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ecide que está listo, y fecha de entrega.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lvl="4" marL="1074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 de Iteraciones: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4" marL="1074600" indent="-21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ecide que hitos definen cada iteración.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lvl="4" marL="1074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cada iteración: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4" marL="1074600" indent="-21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Escoge que tareas se harán al instante.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eptar la entrega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190476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r tests por ultima vez, y otras tareas que le aseguren que el software esta listo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 pasar los tests declarar..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11720" y="4876920"/>
            <a:ext cx="50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eptamos la entre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"If the client won't give you full-time, top-flight members, beg off the project. The client isn't serious"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79640" y="1440000"/>
            <a:ext cx="827064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tregar a tiempo y dentro del presupuesto no es suficient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3657600"/>
            <a:ext cx="570348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Satisfacer necesidad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Satisfacer expectativ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95280" y="990720"/>
            <a:ext cx="7763040" cy="5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l problema: LA COMUNICACIÓ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133720"/>
            <a:ext cx="792504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ta de participación del cliente en el proceso de desarrollo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rimiento pedido es distinto a requerimiento entend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rpresas al momento de la entreg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l features” para el desarrollador, inutiles para el cl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66680" y="236232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user involvement traditionally has been the No. 1 reason for project failure. Conversely, it has been the leading contributor to project succ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46680" y="4724280"/>
            <a:ext cx="6111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Software Magazine, Feb. 2001, Collaborating on Project Su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Based on the Extreme CHAOS 2001 Report from The Standish Group</a:t>
            </a: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892080"/>
            <a:ext cx="85345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a Solución: On Site Customer.(Cliente presente)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523520" y="32000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cliente debe guiar al equipo de desarrollo, determinando requerimientos y aportando ideas.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5638680"/>
            <a:ext cx="832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tivo: Mejorar la Comunic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00360" y="504360"/>
            <a:ext cx="632448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¿Pero cuál cliente?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800360" y="1979640"/>
            <a:ext cx="71625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o necesariamente es quién financia el proyecto o el usuario final.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a visión de cliente que necesitamos es quién comprenda a fondo las necesidades que cubrirá el sistema, el problema que el software a desarrollar debe solucionar.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demás debe tener muy claro qué funcionalidades debe aportar el sistema y sus alcances.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ambién tiene que tener claro el uso correcto que se le dará al sistema.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n otras palabras necesitamos un experto en el ámbito del problema que atacará el software. Alguien que pueda responder preguntas del tipo: “¿qué debe hacer el sistema si se le presenta tal situación?”.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01992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Tareas del Cliente</a:t>
            </a:r>
            <a:endParaRPr b="1" i="1" lang="en-US" sz="46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676160" y="13716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r Requerimientos.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r Preguntas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r prioridades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ortar al diseño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505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 tener el poder para tomar decisiones sobre el sistema, y debe hacerlo RAPI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4648320"/>
            <a:ext cx="8153280" cy="23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e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iza trabajo perd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mina documentación inút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tap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ás cara en la mayoria de lo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yect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5345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star Preguntas...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66320" y="2209680"/>
            <a:ext cx="8077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estar durante la implementación está en curso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r en el momento, o averiguarlo rápidamente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 respuestas pueden requerir decisiones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tener historial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cer Pruebas de Aceptación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066680" y="18288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ra cada etapa del desarrollo, determinar de que forma se estará confiado de su correctitud.</a:t>
            </a: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bar inputs correctos e incorrectos, y verificar la coherencia.</a:t>
            </a: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st independientes, evitar “reacciones en cadena”.</a:t>
            </a: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n el indicador para saber que tan bueno es el software.</a:t>
            </a: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cho</cp:lastModifiedBy>
  <dcterms:modified xsi:type="dcterms:W3CDTF">2005-08-07T22:56:55Z</dcterms:modified>
  <cp:revision>1</cp:revision>
  <dc:subject/>
  <dc:title>Diapositiva 1</dc:title>
</cp:coreProperties>
</file>