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58400" cy="7772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266720" y="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46320" y="837720"/>
            <a:ext cx="51228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90720" y="5105160"/>
            <a:ext cx="55576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10134720"/>
            <a:ext cx="327168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266720" y="10134720"/>
            <a:ext cx="32720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47783-9862-4CE9-BC21-EA6045B4F0D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86000" y="1027080"/>
            <a:ext cx="47876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86000" y="1027080"/>
            <a:ext cx="47876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86000" y="1027080"/>
            <a:ext cx="47876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46320" y="838080"/>
            <a:ext cx="5127480" cy="396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594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874872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800" y="4666320"/>
            <a:ext cx="874872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80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2288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97920" y="201780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56400" y="201780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800" y="466632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97920" y="466632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56400" y="4666320"/>
            <a:ext cx="281700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800" y="2017800"/>
            <a:ext cx="874872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874872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290160"/>
            <a:ext cx="85834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80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22880" y="466632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80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2880" y="2017800"/>
            <a:ext cx="426924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800" y="4666320"/>
            <a:ext cx="8748720" cy="24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2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290160"/>
            <a:ext cx="85834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017800"/>
            <a:ext cx="874872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0720" y="7275600"/>
            <a:ext cx="9336240" cy="100080"/>
          </a:xfrm>
          <a:prstGeom prst="roundRect">
            <a:avLst>
              <a:gd name="adj" fmla="val 161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2880" y="7493040"/>
            <a:ext cx="8075520" cy="100080"/>
          </a:xfrm>
          <a:prstGeom prst="roundRect">
            <a:avLst>
              <a:gd name="adj" fmla="val 161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39800" y="372960"/>
            <a:ext cx="858996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0960" indent="-210960" algn="ctr">
              <a:lnSpc>
                <a:spcPct val="93000"/>
              </a:lnSpc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C62V Metodologías ágiles de desarrollo de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2778480"/>
            <a:ext cx="87552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0960" indent="-210960" algn="ctr">
              <a:lnSpc>
                <a:spcPct val="95000"/>
              </a:lnSpc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On Site Custom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80360" y="6000840"/>
            <a:ext cx="22028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Integr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Cristhian Mo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César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jecutar Tests de Aceptación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8960" y="2209320"/>
            <a:ext cx="80010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cutar a diario pruebas de aceptación para la iteración actual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tener “a la vista” tests pasados y fallido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tener registro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izarl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5345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igir la Iteración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828800" y="22096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de Entrega: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-21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ecide que está listo, y fecha de entrega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de Iteraciones: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-21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ecide que hitos definen cada iteración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cada iteración: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4" marL="1074600" indent="-21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Escoge que tareas se harán al instante.</a:t>
            </a:r>
            <a:endParaRPr b="0" lang="en-US" sz="20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eptar la entrega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19047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r tests por ultima vez, y otras tareas que le aseguren que el software esta list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 pasar los tests declarar..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1720" y="48769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eptamos la entre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"If the client won't give you full-time, top-flight members, beg off the project. The client isn't serious"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79640" y="1440000"/>
            <a:ext cx="827064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tregar a tiempo y dentro del presupuesto no es suficient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3657600"/>
            <a:ext cx="570348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Satisfacer necesidad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Satisfacer expectativ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5280" y="990720"/>
            <a:ext cx="776304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 problema: LA COMUNICACIÓ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133720"/>
            <a:ext cx="792504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ta de participación del cliente en el proceso de desarrollo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rimiento pedido es distinto a requerimiento entend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rpresas al momento de la entreg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l features” para el desarrollador, inutiles para el c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236232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user involvement traditionally has been the No. 1 reason for project failure. Conversely, it has been the leading contributor to project succ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6680" y="4724280"/>
            <a:ext cx="6111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oftware Magazine, Feb. 2001, Collaborating on Project Su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Based on the Extreme CHAOS 2001 Report from The Standish Group</a:t>
            </a: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92080"/>
            <a:ext cx="8534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a Solución: On Site Customer.(Cliente presente)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3520" y="32000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liente debe guiar al equipo de desarrollo, determinando requerimientos y aportando ideas.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638680"/>
            <a:ext cx="83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tivo: Mejorar la Comunic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00360" y="50436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¿Pero cuál cliente?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800360" y="1979640"/>
            <a:ext cx="71625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 necesariamente es quién financia el proyecto o el usuario final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 visión de cliente que necesitamos es quién comprenda a fondo las necesidades que cubrirá el sistema, el problema que el software a desarrollar debe solucionar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demás debe tener muy claro qué funcionalidades debe aportar el sistema y sus alcances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ambién tiene que tener claro el uso correcto que se le dará al sistema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n otras palabras necesitamos un experto en el ámbito del problema que atacará el software. Alguien que pueda responder preguntas del tipo: “¿qué debe hacer el sistema si se le presenta tal situación?”.</a:t>
            </a:r>
            <a:endParaRPr b="0" lang="en-US" sz="2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01992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Tareas del Cliente</a:t>
            </a:r>
            <a:endParaRPr b="1" i="1" lang="en-US" sz="46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76160" y="13716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r Requerimientos.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r Pregunta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r prioridade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ortar al diseñ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505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 tener el poder para tomar decisiones sobre el sistema, y debe hacerlo RAPI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4648320"/>
            <a:ext cx="815328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ec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iza trabajo perd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 documentación inút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tap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ás cara en la mayoria de lo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5345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star Preguntas...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320" y="2209680"/>
            <a:ext cx="80773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star durante la implementación está en curso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r en el momento, o averiguarlo rápidamente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 respuestas pueden requerir decisiones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tener historial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cer Pruebas de Aceptación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66680" y="18288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ra cada etapa del desarrollo, determinar de que forma se estará confiado de su correctitud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bar inputs correctos e incorrectos, y verificar la coherencia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st independientes, evitar “reacciones en cadena”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n el indicador para saber que tan bueno es el software.</a:t>
            </a:r>
            <a:endParaRPr b="0" lang="en-US" sz="30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cho</cp:lastModifiedBy>
  <dcterms:modified xsi:type="dcterms:W3CDTF">2005-08-07T22:56:55Z</dcterms:modified>
  <cp:revision>1</cp:revision>
  <dc:subject/>
  <dc:title>Diapositiva 1</dc:title>
</cp:coreProperties>
</file>