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26672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46320" y="837720"/>
            <a:ext cx="51228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90720" y="5105160"/>
            <a:ext cx="55576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34720"/>
            <a:ext cx="32716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66720" y="10134720"/>
            <a:ext cx="3272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8BE8-6155-43FA-ADD5-C066F5A6B9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792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564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792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564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90160"/>
            <a:ext cx="85834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7275600"/>
            <a:ext cx="933624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2880" y="7493040"/>
            <a:ext cx="807552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372960"/>
            <a:ext cx="85899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3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C62V Metodologías ágiles de desarroll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2778480"/>
            <a:ext cx="8755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5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On Site Custo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6000840"/>
            <a:ext cx="2202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ntegr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risthian Mo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ésar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cutar Test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80010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cutar a diario pruebas de aceptación para la iteración actual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“a la vista” tests pasados y fallid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registr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zarl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igir la Iter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Entrega: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está listo, y fecha de entrega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Iteraciones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hitos definen cada iteración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ada iteración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scoge que tareas se harán al instante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r la entrega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r tests por ultima vez, y otras tareas que le aseguren que el software esta list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 pasar los tests declarar..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1720" y="4876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mos la entr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"If the client won't give you full-time, top-flight members, beg off the project. The client isn't serious"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79640" y="1440000"/>
            <a:ext cx="82706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regar a tiempo y dentro del presupuesto no es suficient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657600"/>
            <a:ext cx="57034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necesida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expectativ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990720"/>
            <a:ext cx="77630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 problema: LA COMUNICACIÓ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33720"/>
            <a:ext cx="79250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participación del cliente en el proceso de desarrollo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rimiento pedido es distinto a requerimiento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presas al momento de la entr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 features” para el desarrollador, inutiles para 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362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ser involvement traditionally has been the No. 1 reason for project failure. Conversely, it has been the leading contributor to project suc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4724280"/>
            <a:ext cx="61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ftware Magazine, Feb. 2001, Collaborating on Projec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Based on the Extreme CHAOS 2001 Report from The Standish Group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9208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a Solución: On Site Customer.(Cliente presente)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liente debe guiar al equipo de desarrollo, determinando requerimientos y aportando idea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638680"/>
            <a:ext cx="83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tivo: Mejorar la Comun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360" y="50436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Pero cuál cliente?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00360" y="1979640"/>
            <a:ext cx="7162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necesariamente es quién financia el proyecto o el usuario final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 visión de cliente que necesitamos es quién comprenda a fondo las necesidades que cubrirá el sistema, el problema que el software a desarrollar debe solucionar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demás debe tener muy claro qué funcionalidades debe aportar el sistema y sus alcances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mbién tiene que tener claro el uso correcto que se le dará al sistema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 otras palabras necesitamos un experto en el ámbito del problema que atacará el software. Alguien que pueda responder preguntas del tipo: “¿qué debe hacer el sistema si se le presenta tal situación?”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01992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areas del Cliente</a:t>
            </a:r>
            <a:endParaRPr b="1" i="1" lang="en-US" sz="4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3716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Requerimiento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Pregunta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prioridad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ar al diseñ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505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tener el poder para tomar decisiones sobre el sistema, y debe hacerlo RA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648320"/>
            <a:ext cx="8153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 trabajo per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documentación inút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ta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 cara en la mayoria de lo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star Preguntas...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8077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star durante la implementación está en curs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en el momento, o averiguarlo rápidamente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respuestas pueden requerir decision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historial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cer Prueba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a cada etapa del desarrollo, determinar de que forma se estará confiado de su correctitud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ar inputs correctos e incorrectos, y verificar la coherencia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st independientes, evitar “reacciones en cadena”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 el indicador para saber que tan bueno es el software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cho</cp:lastModifiedBy>
  <dcterms:modified xsi:type="dcterms:W3CDTF">2005-08-07T22:56:55Z</dcterms:modified>
  <cp:revision>1</cp:revision>
  <dc:subject/>
  <dc:title>Diapositiva 1</dc:title>
</cp:coreProperties>
</file>