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266720" y="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46320" y="837720"/>
            <a:ext cx="51228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90720" y="5105160"/>
            <a:ext cx="55576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10134720"/>
            <a:ext cx="327168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266720" y="10134720"/>
            <a:ext cx="3272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6ABC0-6176-4881-9C57-3B32C36E91A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800" y="466632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2288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9792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5640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80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9792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5640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290160"/>
            <a:ext cx="85834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2288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0720" y="7275600"/>
            <a:ext cx="9336240" cy="100080"/>
          </a:xfrm>
          <a:prstGeom prst="roundRect">
            <a:avLst>
              <a:gd name="adj" fmla="val 161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2880" y="7493040"/>
            <a:ext cx="8075520" cy="100080"/>
          </a:xfrm>
          <a:prstGeom prst="roundRect">
            <a:avLst>
              <a:gd name="adj" fmla="val 161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9800" y="372960"/>
            <a:ext cx="85899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0960" indent="-210960" algn="ctr">
              <a:lnSpc>
                <a:spcPct val="93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C62V Metodologías ágiles de desarrollo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2778480"/>
            <a:ext cx="8755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0960" indent="-210960" algn="ctr">
              <a:lnSpc>
                <a:spcPct val="95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On Site Custom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80360" y="6000840"/>
            <a:ext cx="22028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Integr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risthian Mo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ésar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cutar Tests de Acept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8960" y="2209320"/>
            <a:ext cx="80010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cutar a diario pruebas de aceptación para la iteración actual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“a la vista” tests pasados y fallido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registro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izarl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igir la Iter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828800" y="22096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de Entrega: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ecide que está listo, y fecha de entrega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de Iteraciones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ecide que hitos definen cada iteración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ada iteración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scoge que tareas se harán al instante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eptar la entrega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r tests por ultima vez, y otras tareas que le aseguren que el software esta list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 pasar los tests declarar..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1720" y="48769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eptamos la entre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"If the client won't give you full-time, top-flight members, beg off the project. The client isn't serious"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79640" y="1440000"/>
            <a:ext cx="827064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regar a tiempo y dentro del presupuesto no es suficient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3657600"/>
            <a:ext cx="570348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atisfacer necesida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atisfacer expectativ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990720"/>
            <a:ext cx="776304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 problema: LA COMUNICACIÓ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133720"/>
            <a:ext cx="79250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participación del cliente en el proceso de desarrollo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rimiento pedido es distinto a requerimiento entend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rpresas al momento de la entreg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l features” para el desarrollador, inutiles para el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236232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user involvement traditionally has been the No. 1 reason for project failure. Conversely, it has been the leading contributor to project succ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6680" y="4724280"/>
            <a:ext cx="611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oftware Magazine, Feb. 2001, Collaborating on Project Su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Based on the Extreme CHAOS 2001 Report from The Standish Group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92080"/>
            <a:ext cx="8534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a Solución: On Site Customer.(Cliente presente)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520" y="32000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liente debe guiar al equipo de desarrollo, determinando requerimientos y aportando ideas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638680"/>
            <a:ext cx="83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tivo: Mejorar la Comunic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00360" y="50436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Pero cuál cliente?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800360" y="1979640"/>
            <a:ext cx="71625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necesariamente es quién financia el proyecto o el usuario final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 visión de cliente que necesitamos es quién comprenda a fondo las necesidades que cubrirá el sistema, el problema que el software a desarrollar debe solucionar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demás debe tener muy claro qué funcionalidades debe aportar el sistema y sus alcances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mbién tiene que tener claro el uso correcto que se le dará al sistema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 otras palabras necesitamos un experto en el ámbito del problema que atacará el software. Alguien que pueda responder preguntas del tipo: “¿qué debe hacer el sistema si se le presenta tal situación?”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01992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Tareas del Cliente</a:t>
            </a:r>
            <a:endParaRPr b="1" i="1" lang="en-US" sz="4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76160" y="13716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r Requerimientos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r Pregunta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r prioridade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ortar al diseñ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505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 tener el poder para tomar decisiones sobre el sistema, y debe hacerlo RAP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4648320"/>
            <a:ext cx="815328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a trabajo perd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 documentación inút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tap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ás cara en la mayoria de lo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star Preguntas...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320" y="2209680"/>
            <a:ext cx="8077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star durante la implementación está en curs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r en el momento, o averiguarlo rápidamente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respuestas pueden requerir decisione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historial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cer Pruebas de Acept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a cada etapa del desarrollo, determinar de que forma se estará confiado de su correctitud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ar inputs correctos e incorrectos, y verificar la coherencia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st independientes, evitar “reacciones en cadena”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n el indicador para saber que tan bueno es el software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cho</cp:lastModifiedBy>
  <dcterms:modified xsi:type="dcterms:W3CDTF">2005-08-07T22:56:55Z</dcterms:modified>
  <cp:revision>1</cp:revision>
  <dc:subject/>
  <dc:title>Diapositiva 1</dc:title>
</cp:coreProperties>
</file>