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2E083-84A7-43D1-B508-4007A570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BC3DC-B850-4EEB-BA00-35CD71AF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0238B-5F19-49CF-8969-63AE1E8F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B5938-18D0-4A02-A0B1-1FE68B5C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603D-37C3-4CB2-B52D-E137B1C1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2BAA-48A4-49D8-B118-BCD8C00E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A1BF-D696-4E62-8900-5C5CD65B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E1D4-B5C1-4010-ACD3-7C03F6B8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DFB1-B4C9-4301-8818-6862B9A6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0EA2-6C95-4B52-8E38-4DDB19B9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094E-3024-44D0-97B6-3D8C7A00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954A6-6C34-4B63-A322-3CA1FB91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521C-3B0D-4BD4-B875-2F1B2729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9A9B-0FD9-4360-83FF-ABAEE992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BCAC-5FAE-4E96-BA07-41CE41D4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0EC0-61CF-45FD-B8DD-91269387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6CEE-70DD-4AE3-810F-EE251844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E41EB-D155-44DA-8861-B731A056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A82F3-D814-4ADF-8CA6-40884070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91230-E22E-4D18-8FFD-D7DF2BE4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96210-66A1-4A1E-80F8-DD6241F4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5868C-230E-4234-800E-F806B5E5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D5067-0B97-4925-A308-88569EB7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0322C-2120-495F-B675-9074645A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FF88-23B2-4D67-9FDA-EC7EF774F1EB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8A80-A1B4-4E5B-A785-29DB44715A60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ossibility.com/Cpp/CppCodingStandard.html" TargetMode="External"/><Relationship Id="rId2" Type="http://schemas.openxmlformats.org/officeDocument/2006/relationships/hyperlink" Target="http://www.adaptionsoft.com/xp_practices_standard.html" TargetMode="External"/><Relationship Id="rId3" Type="http://schemas.openxmlformats.org/officeDocument/2006/relationships/hyperlink" Target="http://download2.eclipse.org/downloads/documentation/2.0/html/plugins/org.eclipse.jdt.doc.user/tasks/tasks-66.htm" TargetMode="External"/><Relationship Id="rId4" Type="http://schemas.openxmlformats.org/officeDocument/2006/relationships/hyperlink" Target="http://www.artima.com/intv/ownership1.html" TargetMode="External"/><Relationship Id="rId5" Type="http://schemas.openxmlformats.org/officeDocument/2006/relationships/hyperlink" Target="http://www.extremeprogramming.org/rules/collective.html" TargetMode="External"/><Relationship Id="rId6" Type="http://schemas.openxmlformats.org/officeDocument/2006/relationships/hyperlink" Target="http://www.xp.co.nz/Collective_Ownership.htm" TargetMode="External"/><Relationship Id="rId7" Type="http://schemas.openxmlformats.org/officeDocument/2006/relationships/hyperlink" Target="http://www.xp.co.nz/Collective_Ownership.htm" TargetMode="External"/><Relationship Id="rId8" Type="http://schemas.openxmlformats.org/officeDocument/2006/relationships/hyperlink" Target="http://www.xp.co.nz/Collective_Ownership.htm" TargetMode="External"/><Relationship Id="rId9" Type="http://schemas.openxmlformats.org/officeDocument/2006/relationships/hyperlink" Target="http://www.xp.co.nz/Collective_Ownership.htm" TargetMode="External"/><Relationship Id="rId10" Type="http://schemas.openxmlformats.org/officeDocument/2006/relationships/hyperlink" Target="http://www.xp.co.nz/Collective_Ownership.htm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1881360"/>
            <a:ext cx="6364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ode Standard &amp;   Collective Code Ownershi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83200" y="4257720"/>
            <a:ext cx="40608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dro Morales y Carla Pare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5408640"/>
            <a:ext cx="8136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rso: CC62V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fesor: Agustín Vill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Collective Code Ownership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ificultades y posibles solucion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desarrollador arruina el codigo, y no podemos descubrir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Pair Programming hay dos personas sobre el desarrollo, por lo que los problemas son descubiertos tempran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ódigo puede ser arruinado, sin nadie a quien responsab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la ayuda de cvs, esto no es un problema. Además, con el hecho de que todos sean responsables, todos tratan de ayudar, y no esconden estas situaciones. (buscan apoy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Collective Code Ownership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ificultades y posibles solucion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y orgullo en el código prop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código bien hecho recibe cumplidos al revisar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Code Standard y Collective Code Ownership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– Coment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ortancia de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ar estándares predefinidos. O crearlos a medida que es necesario (simplicidad). Tomar en consideración el lenguaje a us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fesionalización del desarro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blemas como gente que comete muchos errores se soluciona con Pair Program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Funcio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nkografí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de Standa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possibility.com/Cpp/CppCodingStandard.html#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adaptionsoft.com/xp_practices_standar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lipse format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download2.eclipse.org/downloads/documentation/2.0/html/plugins/org.eclipse.jdt.doc.user/tasks/tasks-66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acs Java format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ttp://www.jindent.com/support/integrations/emacs/emac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llective Code Ownershi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www.artima.com/intv/ownership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extremeprogramming.org/rules/collectiv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</a:t>
            </a: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://</a:t>
            </a: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www.xp.co.nz</a:t>
            </a: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/</a:t>
            </a:r>
            <a:r>
              <a:rPr b="0" lang="es-ES" sz="1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Collective_Ownership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Code Standards y Collective Code Ownership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- ¿Por qué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yecto de Software actual tie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otación de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sonas indispen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ca visibilidad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blemas de man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Code Standards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- 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uenas prácticas” resumidas en reglas que se aplican durante todo el desarr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son recomendaciones, sino oblig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do el equipo debe seguir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ferente para cada lengu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Code Standards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ácticas que componen un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usar ta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ner con mayúscula la primera letra de nombres de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lenguajes tipados, letra que denote tipo d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Code Standards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ódigo más entend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ódigo más fácil de mante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horro de documen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jora la visibilidad del proy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jora la comunicación entre los desarroll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Code Standards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ficult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ma mucho trabajo generar un estándar compl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tar de encontrar un consen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vencer a la gente que lo si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blemas para usar código foráne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Collective Code Ownership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– ¿Qué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dos en el equipo son dueños y responsables del cód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alquiera mejora posible, se debe ha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dos tienen confianza en los de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Collective Code Ownership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– Requerimientos mínim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dos tienen que usar el mismo Estándar de Cód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erramientas que manejen y resuelvan conflictos de concurrencia.(ej. CV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trucción de mini test para aseguramiento de c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rramientas de re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Collective Code Ownership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– Vent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23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acilitan el encuentro y solución de err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adie es indispensable para 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lquiera puede agregar va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dos tienen la idea general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vita islas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dos son responsables. Ventaja pues todos trabajan para dar lo mej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lita</cp:lastModifiedBy>
  <dcterms:modified xsi:type="dcterms:W3CDTF">2004-03-22T02:29:4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3082</vt:r8>
  </property>
  <property fmtid="{D5CDD505-2E9C-101B-9397-08002B2CF9AE}" pid="3" name="Version">
    <vt:r8>3</vt:r8>
  </property>
</Properties>
</file>