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1E42-E6A9-428A-9963-EAA01913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5753-458C-468C-93D1-12F8650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49D2-9BD7-4D21-87DE-3B4094DB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417D-10EF-4DA5-AA5C-36111146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04C4-7FEA-468A-905B-C1172B80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91B0-41D0-48E9-9F03-A9332CBF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3C26-6F1A-43D6-8462-8832F717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E69-4534-4440-B249-8E8B64CA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43D7-5FB3-4BB4-AA91-FE9FDB20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16B9-4B8D-4803-AB19-2103E9B4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BA3D-3878-4A11-B731-13F13891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C12D2-09DD-47BC-82AF-153F1DA2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52CE-ECB1-445E-9222-1A8F4B6B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697E-5A81-40DE-85E6-0998F1DA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A57A-E1A3-421E-9EB8-868D8312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0CB-0A27-4A52-A3AA-AF1F5F45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7AD9-7721-47AC-BA7A-23A8627C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8D6F-BC5A-46E8-8C2E-7DC2C6E6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7E55-561F-48AC-B8EB-8366CB71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E4A0-07F7-4BE6-A0C0-4BFE0042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F091-93DB-4F1B-A4DF-C9869419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EE8C-0744-43E3-B891-762636E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7F29-9AA0-4C1C-80F7-A33718DC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296C-5015-4A72-AA02-6701BC4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9CFC-848B-418F-81B1-E015A2BBC322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E9EB-88C7-47F2-A365-2592ECEFFDA5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ossibility.com/Cpp/CppCodingStandard.html" TargetMode="External"/><Relationship Id="rId2" Type="http://schemas.openxmlformats.org/officeDocument/2006/relationships/hyperlink" Target="http://www.adaptionsoft.com/xp_practices_standard.html" TargetMode="External"/><Relationship Id="rId3" Type="http://schemas.openxmlformats.org/officeDocument/2006/relationships/hyperlink" Target="http://download2.eclipse.org/downloads/documentation/2.0/html/plugins/org.eclipse.jdt.doc.user/tasks/tasks-66.htm" TargetMode="External"/><Relationship Id="rId4" Type="http://schemas.openxmlformats.org/officeDocument/2006/relationships/hyperlink" Target="http://www.artima.com/intv/ownership1.html" TargetMode="External"/><Relationship Id="rId5" Type="http://schemas.openxmlformats.org/officeDocument/2006/relationships/hyperlink" Target="http://www.extremeprogramming.org/rules/collective.html" TargetMode="External"/><Relationship Id="rId6" Type="http://schemas.openxmlformats.org/officeDocument/2006/relationships/hyperlink" Target="http://www.xp.co.nz/Collective_Ownership.htm" TargetMode="External"/><Relationship Id="rId7" Type="http://schemas.openxmlformats.org/officeDocument/2006/relationships/hyperlink" Target="http://www.xp.co.nz/Collective_Ownership.htm" TargetMode="External"/><Relationship Id="rId8" Type="http://schemas.openxmlformats.org/officeDocument/2006/relationships/hyperlink" Target="http://www.xp.co.nz/Collective_Ownership.htm" TargetMode="External"/><Relationship Id="rId9" Type="http://schemas.openxmlformats.org/officeDocument/2006/relationships/hyperlink" Target="http://www.xp.co.nz/Collective_Ownership.htm" TargetMode="External"/><Relationship Id="rId10" Type="http://schemas.openxmlformats.org/officeDocument/2006/relationships/hyperlink" Target="http://www.xp.co.nz/Collective_Ownership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1881360"/>
            <a:ext cx="6364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de Standard &amp;   Collective Code Owne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83200" y="4257720"/>
            <a:ext cx="4060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dro Morales y Carla Pa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5408640"/>
            <a:ext cx="813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so: CC62V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esor: Agustín Vil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ficultades y posibles solucio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desarrollador arruina el codigo, y no podemos descubri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Pair Programming hay dos personas sobre el desarrollo, por lo que los problemas son descubiertos tempran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ódigo puede ser arruinado, sin nadie a quien responsab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la ayuda de cvs, esto no es un problema. Además, con el hecho de que todos sean responsables, todos tratan de ayudar, y no esconden estas situaciones. (buscan apo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ficultades y posibles solucio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orgullo en el código pro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código bien hecho recibe cumplidos al revisa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de Standard y 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– Co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r estándares predefinidos. O crearlos a medida que es necesario (simplicidad). Tomar en consideración el lenguaje a u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fesionalización del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blemas como gente que comete muchos errores se soluciona con Pair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Funcio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nkografí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de Stand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possibility.com/Cpp/CppCodingStandard.html#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adaptionsoft.com/xp_practices_standa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lipse format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download2.eclipse.org/downloads/documentation/2.0/html/plugins/org.eclipse.jdt.doc.user/tasks/tasks-66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acs Java format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www.jindent.com/support/integrations/emacs/emac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lective Code Owners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artima.com/intv/ownership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extremeprogramming.org/rules/collecti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www.xp.co.nz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Collective_Ownershi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de Standards y 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- ¿Por 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yecto de Software actual tie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s indispen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ca visibilidad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de 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uenas prácticas” resumidas en reglas que se aplican durante todo el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son recomendaciones, sino oblig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 el equipo debe seguir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ferente para cada lengu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ácticas que componen un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usar t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ner con mayúscula la primera letra de nombres d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enguajes tipados, letra que denote tipo d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digo más enten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digo más fácil de man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horro de docu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a la visibilidad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a la comunicación entre los desarroll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ficult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ma mucho trabajo generar un estándar compl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tar de encontrar un consen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encer a la gente que lo si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blemas para usar código fo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– ¿Qué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en el equipo son dueños y responsables del cód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quiera mejora posible, se debe ha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tienen confianza en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– Requerimientos mínim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s tienen que usar el mismo Estándar de Cód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erramientas que manejen y resuelvan conflictos de concurrencia.(ej. C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rucción de mini test para aseguramiento de c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s de re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– 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3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cilitan el encuentro y solución de err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die es indispensable para 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lquiera puede agregar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os tienen la idea general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ita isl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os son responsables. Ventaja pues todos trabajan para dar lo mej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ita</cp:lastModifiedBy>
  <dcterms:modified xsi:type="dcterms:W3CDTF">2004-03-22T02:29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