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7318C-04FF-47FA-AC3F-AAAECBB3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559DC-1279-49C4-9E1A-5ED32604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2681E-6153-4F6C-8941-D2FCFFFA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AC15E-2573-4391-9255-A7AAA69B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49B2-70C1-4921-BC62-CBEC97DF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F668-DD7A-4E7D-87A7-B0BBB91C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C6BD-4215-4C6C-8160-4430DE91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2106-E489-4674-B5A7-B79DD7E4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5ECE-256E-4DF2-B827-4CD5550C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D4F6-0128-4385-B6B5-4965CC77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C3DA-A79C-4B6F-8410-46DE1486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E229C-DBBE-4944-85C5-727084C8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19CB-8CCE-4885-AD5F-2A2034D1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9C8A-EFBF-42F5-A06B-EE359975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67D9-C15E-4F13-9081-A00D64B5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EFD3-29CC-4754-B5A0-BF7F853B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731F-96CC-406C-ACD1-59E0DFAE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505D5-6771-470A-83A3-EB86621A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A9C23-7345-46D2-9CD3-4988EDE8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6230E-89FD-4488-B584-F21A445C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7E1D3-9230-42F6-9F04-3DB6C613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7A55F-A621-412F-AD07-007F4356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D61B6-7F7E-47AF-8108-73EA1AA3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7A045-16B4-427E-8286-AB7AEBBD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DB42-6F21-4329-BD68-2A78D4ADAD21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E160-D302-4085-9889-2E523E5499D2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ossibility.com/Cpp/CppCodingStandard.html" TargetMode="External"/><Relationship Id="rId2" Type="http://schemas.openxmlformats.org/officeDocument/2006/relationships/hyperlink" Target="http://www.adaptionsoft.com/xp_practices_standard.html" TargetMode="External"/><Relationship Id="rId3" Type="http://schemas.openxmlformats.org/officeDocument/2006/relationships/hyperlink" Target="http://download2.eclipse.org/downloads/documentation/2.0/html/plugins/org.eclipse.jdt.doc.user/tasks/tasks-66.htm" TargetMode="External"/><Relationship Id="rId4" Type="http://schemas.openxmlformats.org/officeDocument/2006/relationships/hyperlink" Target="http://www.artima.com/intv/ownership1.html" TargetMode="External"/><Relationship Id="rId5" Type="http://schemas.openxmlformats.org/officeDocument/2006/relationships/hyperlink" Target="http://www.extremeprogramming.org/rules/collective.html" TargetMode="External"/><Relationship Id="rId6" Type="http://schemas.openxmlformats.org/officeDocument/2006/relationships/hyperlink" Target="http://www.xp.co.nz/Collective_Ownership.htm" TargetMode="External"/><Relationship Id="rId7" Type="http://schemas.openxmlformats.org/officeDocument/2006/relationships/hyperlink" Target="http://www.xp.co.nz/Collective_Ownership.htm" TargetMode="External"/><Relationship Id="rId8" Type="http://schemas.openxmlformats.org/officeDocument/2006/relationships/hyperlink" Target="http://www.xp.co.nz/Collective_Ownership.htm" TargetMode="External"/><Relationship Id="rId9" Type="http://schemas.openxmlformats.org/officeDocument/2006/relationships/hyperlink" Target="http://www.xp.co.nz/Collective_Ownership.htm" TargetMode="External"/><Relationship Id="rId10" Type="http://schemas.openxmlformats.org/officeDocument/2006/relationships/hyperlink" Target="http://www.xp.co.nz/Collective_Ownership.htm" TargetMode="Externa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6920" y="1881360"/>
            <a:ext cx="6364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ode Standard &amp;   Collective Code Ownershi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83200" y="4257720"/>
            <a:ext cx="40608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dro Morales y Carla Pare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5408640"/>
            <a:ext cx="8136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rso: CC62V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fesor: Agustín Vill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000000"/>
                </a:solidFill>
                <a:latin typeface="Arial"/>
              </a:rPr>
              <a:t>Collective Code Ownership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ificultades y posibles solucion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desarrollador arruina el codigo, y no podemos descubrir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 Pair Programming hay dos personas sobre el desarrollo, por lo que los problemas son descubiertos tempran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código puede ser arruinado, sin nadie a quien responsabili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 la ayuda de cvs, esto no es un problema. Además, con el hecho de que todos sean responsables, todos tratan de ayudar, y no esconden estas situaciones. (buscan apoy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000000"/>
                </a:solidFill>
                <a:latin typeface="Arial"/>
              </a:rPr>
              <a:t>Collective Code Ownership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ificultades y posibles solucion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hay orgullo en el código prop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código bien hecho recibe cumplidos al revisar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000000"/>
                </a:solidFill>
                <a:latin typeface="Arial"/>
              </a:rPr>
              <a:t>Code Standard y Collective Code Ownership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– Coment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mportancia de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ar estándares predefinidos. O crearlos a medida que es necesario (simplicidad). Tomar en consideración el lenguaje a us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fesionalización del desarrol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blemas como gente que comete muchos errores se soluciona con Pair Program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Funcio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nkografí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de Standa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possibility.com/Cpp/CppCodingStandard.html#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adaptionsoft.com/xp_practices_standar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lipse format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download2.eclipse.org/downloads/documentation/2.0/html/plugins/org.eclipse.jdt.doc.user/tasks/tasks-66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macs Java format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ttp://www.jindent.com/support/integrations/emacs/emac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llective Code Ownershi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www.artima.com/intv/ownership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ttp://www.extremeprogramming.org/rules/collectiv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http</a:t>
            </a:r>
            <a:r>
              <a:rPr b="0" lang="es-ES" sz="1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://</a:t>
            </a:r>
            <a:r>
              <a:rPr b="0" lang="es-ES" sz="1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www.xp.co.nz</a:t>
            </a:r>
            <a:r>
              <a:rPr b="0" lang="es-ES" sz="1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/</a:t>
            </a:r>
            <a:r>
              <a:rPr b="0" lang="es-ES" sz="1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Collective_Ownership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000000"/>
                </a:solidFill>
                <a:latin typeface="Arial"/>
              </a:rPr>
              <a:t>Code Standards y Collective Code Ownership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- ¿Por qué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yecto de Software actual tie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otación de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sonas indispens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ca visibilidad del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blemas de man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Code Standards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 - 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uenas prácticas” resumidas en reglas que se aplican durante todo el desarro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 son recomendaciones, sino oblig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odo el equipo debe seguir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ferente para cada lengua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Code Standards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ácticas que componen un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usar ta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ner con mayúscula la primera letra de nombres de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lenguajes tipados, letra que denote tipo de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Code Standards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ódigo más entend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ódigo más fácil de mante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horro de documen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jora la visibilidad del proyec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jora la comunicación entre los desarroll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Code Standards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ficult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oma mucho trabajo generar un estándar comple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tar de encontrar un consen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vencer a la gente que lo si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blemas para usar código foráne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000000"/>
                </a:solidFill>
                <a:latin typeface="Arial"/>
              </a:rPr>
              <a:t>Collective Code Ownership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– ¿Qué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odos en el equipo son dueños y responsables del cód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lquiera mejora posible, se debe ha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odos tienen confianza en los dem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000000"/>
                </a:solidFill>
                <a:latin typeface="Arial"/>
              </a:rPr>
              <a:t>Collective Code Ownership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– Requerimientos mínim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odos tienen que usar el mismo Estándar de Cód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erramientas que manejen y resuelvan conflictos de concurrencia.(ej. CV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trucción de mini test para aseguramiento de ca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erramientas de re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Collective Code Ownership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– Vent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23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acilitan el encuentro y solución de err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adie es indispensable para 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lquiera puede agregar va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dos tienen la idea general d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vita islas de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dos son responsables. Ventaja pues todos trabajan para dar lo mej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rlita</cp:lastModifiedBy>
  <dcterms:modified xsi:type="dcterms:W3CDTF">2004-03-22T02:29:48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3082</vt:r8>
  </property>
  <property fmtid="{D5CDD505-2E9C-101B-9397-08002B2CF9AE}" pid="3" name="Version">
    <vt:r8>3</vt:r8>
  </property>
</Properties>
</file>