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319-53B9-4989-94C7-5224143E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D29-8E1B-423A-9496-2871A0B1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A62-34B4-405B-83D5-5E760969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235-2720-4F87-8466-FBB4B9C5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1649-F4D0-4F88-86CA-70B0D054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FE8F-1134-4B5F-8676-E6D9F098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BF0-DD8C-422C-8E59-33C90B7E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1057-35CF-40B7-8729-B3EA5BE2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D85-0669-47BC-82D0-5B361F1A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CD3A-1410-4A36-8513-654DE6DC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BD52-EBF5-4772-A229-DDDEF940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A3A-5381-47DB-966A-CDA22742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5F48-F843-427D-8763-61C2FB4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FE85-5EC1-42C0-9CDC-3194222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F632-3330-419C-A5A8-54B228D6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E919-9D56-494F-87AD-C52C5E80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EE2B-B5CD-4004-BA36-ABE8ADA4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C25-12D2-4FC4-A7BB-9A21364D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8E6-68F3-4761-BC3A-2ED17DA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159-4B6A-4A8A-BB81-4BE3471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0BE-F333-419B-9BBE-968EDC7C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500-4BF8-4702-A261-A4F100A8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872-68EA-40A6-AAA6-BD15486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935-7BB9-4A3F-8711-3C83BDB0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E7C0-324C-490A-9A19-4F0135D71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3123000" y="3123360"/>
            <a:ext cx="6858000" cy="611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3300"/>
                </a:solidFill>
                <a:latin typeface="Lucida Sans"/>
              </a:rPr>
              <a:t>CC62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FCB7-14EC-4D12-9AFE-962E206DF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0"/>
            <a:ext cx="6156360" cy="270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Lucida Sans"/>
              </a:rPr>
              <a:t>CC62C - 2005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3280" y="429228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finición de Trabaj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685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Contenidos del Informe 1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Definición del alcance del proyec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Qué hará el software, con bastante nivel de detal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Leer al menos 3 descripciones de software de administración de base de dat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Indicar, cuál será la inno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ómo harán el softwa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etodologí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Lenguaj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Definición de una pauta de evaluación para el software de administr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esumen de, al menos 3, software que hayan revisado y evalua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% Evalua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laz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uta presentació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Lucida Sans"/>
              </a:rPr>
              <a:t>Evaluación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429228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Evaluación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ota Informe: 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ota Prototipo: N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ota Lecturas: N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ota Charla: N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ota Final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NP*0,35+NI*0,3+NL*0,2+NC*0,1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ada Nota debe ser superior o igual a 4.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Lucida Sans"/>
              </a:rPr>
              <a:t>Plazos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429228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Plazos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77868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onformación de grupos: 29/07/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trega de Informe 1 : 19/08/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trega de Informe 2: 02/09/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trega Informe 3 y Prototipo 1: 02/10/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trega Prototipo final: 02/11/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1800" y="2781360"/>
            <a:ext cx="8782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Lucida Sans"/>
              </a:rPr>
              <a:t>Sobre los informes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429228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Pauta para hacer un reporte decente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Contenidos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orta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troducción: ¿Sobre qué voy a le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Resumen ejecutivo: En 2 o 3 párrafos describir el contenido del docum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talle del trabajo realiza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clusi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Lucida Sans"/>
              </a:rPr>
              <a:t>Detalles ... Que hacen la diferencia</a:t>
            </a:r>
            <a:endParaRPr b="0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Ortografí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Uso de imáge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ntregado en formato digital (pdf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7494" t="4318" r="0" b="47049"/>
          <a:stretch/>
        </p:blipFill>
        <p:spPr>
          <a:xfrm>
            <a:off x="4827600" y="3716280"/>
            <a:ext cx="4316400" cy="237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3933720"/>
            <a:ext cx="3889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cord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l informe es “el producto que están vendiendo” ... Y la nota “es el precio al que estoy dispuesto a comprarl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5:30:53Z</dcterms:created>
  <dc:creator>Eduardo Godoy</dc:creator>
  <dc:description/>
  <dc:language>en-US</dc:language>
  <cp:lastModifiedBy>sala_B214</cp:lastModifiedBy>
  <dcterms:modified xsi:type="dcterms:W3CDTF">2005-07-29T12:42:11Z</dcterms:modified>
  <cp:revision>11</cp:revision>
  <dc:subject/>
  <dc:title>CC62K - 2005</dc:title>
</cp:coreProperties>
</file>