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0B1B-5EC4-4CBE-802B-B808E23B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3923-3C6E-4B8C-8749-0A33EF75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A70F-B797-46E5-A95E-D3ADA62AC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0000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268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9925-C322-416C-9319-EF865B15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BB25-D50D-446A-AE37-A31AF63D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9389-6F40-43A3-BBB0-9FEBB4BF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D6D5-515F-499C-8D69-B887E699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7ED9-0F77-43F6-97B0-8CBD57F4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4580-EEB2-4AAC-9BF0-C0B2AC37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42560" y="274320"/>
            <a:ext cx="7643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5E51-E036-4AD2-AFE3-4D959356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A29A-6343-441E-B3B1-F02CCB55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2124-A969-4E93-A678-148D8F36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B60A-3309-44C7-B0D7-DEF08681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9438-F038-4B0D-87D5-BECF266F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1BC4-E3EA-4BA8-A6D0-273D127C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A15C-3BF3-4D25-9DA7-D7B00F4D5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0000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268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6572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38B2-BC9B-47A2-B1DF-044E67F9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338E-DF78-4BF3-8986-26AB93DE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6DFF-8269-4A6F-BCC8-525F4990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BC74-54DB-4C0A-B5B0-4E019ABE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42560" y="274320"/>
            <a:ext cx="7643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E762-DD78-4062-B6B5-FB48E720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DD09-EF58-4FEC-A947-09BC77D9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798F-E9DD-442D-AAAA-1A4334D2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2730-B4FD-464C-B07B-B7CA3EEC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265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A7D2-CF53-4E55-BCD3-C0E917763C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6200000">
            <a:off x="-3123000" y="3123360"/>
            <a:ext cx="6858000" cy="611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3300"/>
                </a:solidFill>
                <a:latin typeface="Lucida Sans"/>
              </a:rPr>
              <a:t>CC62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3E36-A7BE-4C43-B959-8713BBA356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87640" y="0"/>
            <a:ext cx="6156360" cy="270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Lucida Sans"/>
              </a:rPr>
              <a:t>CC62K - 2005</a:t>
            </a:r>
            <a:endParaRPr b="1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03280" y="4292280"/>
            <a:ext cx="640080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Presentación del Curs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63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Lucida Sans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Objetiv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Metodologí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Evaluació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92180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Lucida Sans"/>
              </a:rPr>
              <a:t>Objetivo</a:t>
            </a: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Desarrollar un proyecto relacionado con el mundo de las bases de dato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Construir una herramienta orientada a la administración de bases de dato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Debe cumplir con varios requisito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Versátil: permitir administrar diferentes motores de dato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Portable: debe correr en diferentes plataforma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Extensible: permitir agregar más funcionalidad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Lucida Sans"/>
              </a:rPr>
              <a:t>Metodología</a:t>
            </a: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Documentació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¿Qué debe tener una herramienta de administración?, ¿quiénes serán los usuarios de la herramienta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Investigació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¿Qué herramientas existen?, ¿satisfacen lo que buscamos?, ¿en qué tecnología están desarrolladas?, ¿debemos re-inventar la rueda?, ¿estamos innovando en algo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Desarroll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Definición de plataforma para desarroll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Definición de metodología de desarrollo (X programming, UML/UP, etc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Lucida Sans"/>
              </a:rPr>
              <a:t>Metodología</a:t>
            </a: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1 semana para Documentació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2 semanas para Investigació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Entrega de Informe 1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2 semanas para diseño de aplicació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Entrega de Informe 2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1 mes para desarrollo prototipo 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Entrega de Informe 3 y prototipo 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1 mes para terminar prototip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Entrega fina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85988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Lucida Sans"/>
              </a:rPr>
              <a:t>Evaluación</a:t>
            </a:r>
            <a:endParaRPr b="0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Se trabajará en grupos de 3 persona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Las notas son grupal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Cada informe lleva una nota. (NI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Cada prototipo lleva una nota. (NP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Se darán lecturas, las que serán evaluadas periódicamente.(N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Se entregará un tema complementario a cada grupo para que realice una charla sobre él. (NC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Para aprobar, cada tipo de nota debe promediar 4.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05:30:53Z</dcterms:created>
  <dc:creator>Eduardo Godoy</dc:creator>
  <dc:description/>
  <dc:language>en-US</dc:language>
  <cp:lastModifiedBy>sala_B214</cp:lastModifiedBy>
  <dcterms:modified xsi:type="dcterms:W3CDTF">2005-07-29T12:42:31Z</dcterms:modified>
  <cp:revision>6</cp:revision>
  <dc:subject/>
  <dc:title>CC62K - 2005</dc:title>
</cp:coreProperties>
</file>