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wmf" ContentType="image/x-wmf"/>
  <Override PartName="/ppt/media/image25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8.png"/><Relationship Id="rId8" Type="http://schemas.openxmlformats.org/officeDocument/2006/relationships/image" Target="../media/image7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0840" y="31464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odelización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 Difusa: búsqu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35280" y="3349800"/>
            <a:ext cx="6080040" cy="3127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98800" y="2289240"/>
            <a:ext cx="5367240" cy="4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 Dif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58680" y="2666520"/>
            <a:ext cx="8607600" cy="28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 documento puede ser relevante aunque no contenga palabras de la 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y grados de relev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hubo test de este tipo de modelo sobre collecciones gran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42760" y="32497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booleano extend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booleano extendido: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68800" y="3022560"/>
            <a:ext cx="4538880" cy="31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amos pesos en [0,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caso de AND, el punto ideal es (1,1)→ minimizamos la distancia con (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1720" y="2282760"/>
            <a:ext cx="42004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booleano extendido: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39800" y="2373480"/>
            <a:ext cx="4200480" cy="421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03880" y="3021120"/>
            <a:ext cx="4200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caso de OR, queremos estar lo mas lejos posible de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ximizamos la distancia desde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booleano extend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24040" y="2903400"/>
            <a:ext cx="711216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booleano extendido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-n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82760" y="2540160"/>
            <a:ext cx="672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 puede extender el modelo a distancias no-euclíd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0720" y="3733920"/>
            <a:ext cx="951552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-n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68640" y="2190600"/>
            <a:ext cx="5715000" cy="50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booleano extendido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-n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5160" y="3320640"/>
            <a:ext cx="8939520" cy="27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 p=1, similaridad OR y AND son iguales y equivalentes a la similaridad del modelo vectorial.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 p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, similaridad de la lógica difu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4400" y="4389480"/>
            <a:ext cx="7893000" cy="74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98680" y="6140520"/>
            <a:ext cx="3625920" cy="425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321000" y="6940440"/>
            <a:ext cx="3807000" cy="42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617920" y="1871640"/>
            <a:ext cx="440820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63920" y="2484360"/>
            <a:ext cx="4659120" cy="3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booleano extendido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-n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97000" y="3716280"/>
            <a:ext cx="7966080" cy="1952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80920" y="2293920"/>
            <a:ext cx="441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s consultas se generalizan Por ej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89200" y="2925720"/>
            <a:ext cx="2806920" cy="425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97640" y="6140520"/>
            <a:ext cx="3271680" cy="46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78280" y="6186600"/>
            <a:ext cx="392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 pueden mezclar las métr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men del curso an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boole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hay noción de similaridad: un documento es relevante o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vecto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idad en base al cos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os Estadí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abilidad que una palabra contribuya a la relevancia de un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to de las probabilidades individ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o booleano extendido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p-n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440" y="3330360"/>
            <a:ext cx="8607240" cy="23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iene simultáneamente los modelos booleanos y vectori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esante del punto de vista te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mántica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 vez de términos, tentamos indexar por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ducimos la matriz de documentos por términos a un espacio de dimensiones inf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damos las consultas a este espacio y se evalúa la simi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mántica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6840" y="2133720"/>
            <a:ext cx="1812960" cy="392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triz términos por docume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ilaridad entre docume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ilaridad entre términ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89520" y="3492360"/>
            <a:ext cx="1067040" cy="39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357960" y="2813040"/>
            <a:ext cx="1031760" cy="392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538360" y="4476600"/>
            <a:ext cx="490716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9240" y="295596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tensión del modelo boole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580680"/>
            <a:ext cx="860724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ógica dif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95120" y="2736720"/>
            <a:ext cx="7915320" cy="33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teoría de los conjuntos, un elemento pertenece o no a un conjun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teoría de los conjuntos difusos,  un elemento tiene una pertenencia µ en [0, 1] a un conju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580680"/>
            <a:ext cx="860724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ógica difusa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raciones de conju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95360" y="3479760"/>
            <a:ext cx="3021120" cy="46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95360" y="4179960"/>
            <a:ext cx="4872240" cy="425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95360" y="4881600"/>
            <a:ext cx="4800600" cy="4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 Difusa: función de perten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6640" y="2660760"/>
            <a:ext cx="2560680" cy="53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29200" y="5022720"/>
            <a:ext cx="3806640" cy="960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mos una matriz de correlación entre palab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imos el grado de pertenencia µ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 un documento d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un conjunto difuso asociado con un término k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 Difusa: consul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ideramos una consulta de tipo booleano. Por 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 forma normal disyuntiva, o sea un conjunto de componentes conjun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63960" y="2638440"/>
            <a:ext cx="3233520" cy="42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47800" y="4379760"/>
            <a:ext cx="5367240" cy="925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397480" y="5324400"/>
            <a:ext cx="2427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443640" y="4651200"/>
            <a:ext cx="2427480" cy="1633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935760" y="5638680"/>
            <a:ext cx="2427480" cy="163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70520" y="5470560"/>
            <a:ext cx="360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64520" y="5797440"/>
            <a:ext cx="360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713120" y="5683320"/>
            <a:ext cx="533520" cy="35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8707320" y="4392720"/>
            <a:ext cx="533520" cy="35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9466200" y="6850080"/>
            <a:ext cx="533520" cy="3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 Difusa: búsqu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5680" y="2511360"/>
            <a:ext cx="860760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s conjuntos difuso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s comp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41360" y="2684520"/>
            <a:ext cx="1741680" cy="392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80360" y="2583000"/>
            <a:ext cx="1420920" cy="392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55760" y="3225960"/>
            <a:ext cx="1779480" cy="460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41920" y="5057640"/>
            <a:ext cx="2427120" cy="1633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786280" y="4384800"/>
            <a:ext cx="2427480" cy="163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278400" y="5351400"/>
            <a:ext cx="2427480" cy="1633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14960" y="5203800"/>
            <a:ext cx="360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8600" y="5530680"/>
            <a:ext cx="360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93720" y="4584600"/>
            <a:ext cx="3233880" cy="425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351240" y="1901880"/>
            <a:ext cx="3233880" cy="425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056120" y="5416560"/>
            <a:ext cx="533520" cy="35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8051760" y="4125960"/>
            <a:ext cx="533520" cy="35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8809200" y="6583320"/>
            <a:ext cx="533160" cy="35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