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87C-6E6C-409F-AFFC-833B17D6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EC1-345C-4CFE-99C6-281E3481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727-E925-4E3B-8716-4D228C0E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638-4DE9-4880-8E2E-5ED7B138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27B9-4D8C-4C85-9E47-7206F220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6440-40AA-4ED4-B49E-EE6D525B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62B4-9ACD-468B-843D-E49A0922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C424-8E8C-4235-9A5E-A6976648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7F7D-9201-4BA5-863B-26D94B18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D134-02BE-42C1-85C8-7EE6E63E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2855-D154-4C71-BE9A-42B6999B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3F4-52FB-4B81-BB0D-DCD46DF1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8C22-A188-4752-A049-040D0E1B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8F73-9D11-461C-B15A-4218D63A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8E0B-FA8F-40DE-96EF-5A309D3B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FBA8-45A4-4DD4-A7BD-FD47A8BA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8140-8668-4A1E-9968-AD53CAD8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98E-9280-4CBF-AA3E-50918AC5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C70-6CBF-401C-A653-25828C6B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FE4-D891-4BDA-8E72-9A64DA32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641-9599-4DD7-A8CC-C640FF44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5D0-8BE7-475A-B4BF-03CE7A45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EB2-FA5A-4C47-8458-65D76DE6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2EB-8F09-46CF-B880-3BA04C6B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7FCC-5FD9-4BA2-9E9D-9E9CAD10B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2E9B-35A9-4755-8E23-823302DCB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ccecff"/>
                </a:solidFill>
                <a:latin typeface="Arial"/>
              </a:rPr>
              <a:t>Iluminación y Anti-Aliasin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omas Henri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putación Grá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eo de int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realiza un mapeo de todos los pixeles que representan una figu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el pixel 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00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75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*7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0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*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2727360" cy="2781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2727360" cy="2781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995640" y="3645000"/>
            <a:ext cx="936720" cy="720720"/>
          </a:xfrm>
          <a:prstGeom prst="rightArrow">
            <a:avLst>
              <a:gd name="adj1" fmla="val 50000"/>
              <a:gd name="adj2" fmla="val 3249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riangulo delimitado por eje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ínea y = (5/7)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sde (0,0) hasta (7,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788000" y="3193920"/>
            <a:ext cx="41749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aytracing es un modelo de iluminación glo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mula el comportamiento real de la luz en una esc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basa en el seguimiento de rayos de luz, como implica su nomb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uncion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generan rayos desde las distintas fuentes de luces hacia todos los objetos de la es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os rebotan hasta llegar la cam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s rayos emitidos llevan información de los objetos visit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 esta manera se sabe el color, la intensidad y por que objetos ha pasado el rayo al momento de llegar a la cáma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 modelo de iluminación y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 considerado un sistema de eliminación de caras ocul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imilar a Raytracing pero esta vez los rayos parten de la cámara hacia cada pixel de la imagen-proye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o funci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 la cámara salen rayos a cada uno de los pixeles de la ima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imagen es la proyección de una escena tridimen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da rayo va recopilando información respecto a los objetos que va encontra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Óp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aycasting sigue las leyes de la óptica y diferencia tres casos de interacción entre un rayo y un 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flex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fr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odas las anteriores x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flex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da cuando un objeto es brillante y sól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.: Espejo, superficie metálica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rayo del Raycasting obtiene información del color y la textura del objeto reflectante encont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¿Qué es Alia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liasing nace con las señales de o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posibilidad de pasar de una señal continua a una discr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computación gráfica: bordes “ásperos” en imá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fra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da en objetos semi-transparentes o transparentes que dejan pasar una fracción de la luz (en este caso, del ray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.: Vaso con agua, hielo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rayo obtiene información de la transparencia y del color del 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tra: La efici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Efici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”: entre un 75% y un 95% del tiempo es dedicado a interse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pantalla de 320x240 píxeles y una escena de 20 obje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20x240x20 = 1.536.000 test de interseccione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dios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rcer modelo de iluminación y r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más nuevo del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 ambas aproximaciones (Raytracing y Raycas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oma en cuenta la capacidad de los objetos de una escena de emitir lu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Imagen con 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5054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¿Por qué se produ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presentación de imágenes en compu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positivos R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1401480" cy="1866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732720" y="4435560"/>
            <a:ext cx="1401480" cy="18669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5400000">
            <a:off x="7199640" y="3464640"/>
            <a:ext cx="792360" cy="863640"/>
          </a:xfrm>
          <a:custGeom>
            <a:avLst/>
            <a:gdLst>
              <a:gd name="textAreaLeft" fmla="*/ 0 w 792360"/>
              <a:gd name="textAreaRight" fmla="*/ 792720 w 79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ti-Ali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écnicas para evitar o disminuir la “aspereza” de imágenes representadas en  dispositivos r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46560" y="3213000"/>
            <a:ext cx="1401840" cy="121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rot="5400000">
            <a:off x="6580800" y="3494880"/>
            <a:ext cx="1020600" cy="86364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227640" y="4724280"/>
            <a:ext cx="1401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dea Bá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iste en calcular la posición de cada pixel y estudiar si se debe pintar o no, y con cuanta intensidad ha de pinta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tintas formas de hacer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nderar por Á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multiplica la intensidad del pixel a dibujar por un factor ‘d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e factor se puede obtener del algoritmo de Bresenham. ¿Por qu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corda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2492280"/>
            <a:ext cx="2521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y = f(x) = mx, 0&lt;m&lt;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 = (mx - y) + (1 -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0 ≤ d ≤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ordenadas de T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0.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ordenadas de S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749760" y="2075040"/>
            <a:ext cx="468144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uego ese factor ‘d’ puede ser utilizado para ponderar la intensidad del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7512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33:25Z</dcterms:created>
  <dc:creator>Tomas A. Henriquez</dc:creator>
  <dc:description/>
  <dc:language>en-US</dc:language>
  <cp:lastModifiedBy>Tomas A. Henriquez</cp:lastModifiedBy>
  <dcterms:modified xsi:type="dcterms:W3CDTF">2005-11-04T00:32:05Z</dcterms:modified>
  <cp:revision>3</cp:revision>
  <dc:subject/>
  <dc:title>Raytracing y Anti-Aliasing</dc:title>
</cp:coreProperties>
</file>