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61A-3B49-448C-9CA8-AC95A666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C8A-70A1-47FD-AA39-AD478600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AE5-0BCD-4D6A-BE50-6BCC4B4E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A8E-4949-4873-A370-AAA54146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6FD3-5C1A-4A2E-A386-331C7913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E073-EC82-42C7-BB0A-DC523591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6EF4-2DB0-4757-8C9C-AA4F5836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BE5F-606C-43E7-9E02-8D44A845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BE4D-AB91-4060-8D50-760F49CE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0BF2-4A33-411F-AD48-8CECEA04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B323-A5FD-414F-B2E7-CFE636C0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680-4DAB-406C-96B3-FD446C87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42CF-5384-4C1B-B510-EA2A52A4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7C37-D7D3-46E2-A13A-27C5E59C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DF63-CFC7-4853-AAFC-E2F2780C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8B30-A990-434D-81F0-96081E35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B46B-5EB6-4198-BC33-E5E38805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DCE-7C11-4DC9-8AEA-D276B927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EAF-6569-4F86-86E3-8E017AB0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2EE-1F15-4ECE-BE9A-F7112B90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E45-3C7E-4755-AB2E-AD0CCFAF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18B-290F-4066-875F-D86B2F3F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A02-1A56-4B30-9BCF-2465E40F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076-137A-4B99-A0CE-461BD8F8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35FE-796F-43C9-8FCA-A027E3874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D0C7-72D4-436D-9347-9D3DCE7AC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ccecff"/>
                </a:solidFill>
                <a:latin typeface="Arial"/>
              </a:rPr>
              <a:t>Iluminación y Anti-Aliasing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omas Henri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putación Gráf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peo de int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realiza un mapeo de todos los pixeles que representan una figu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el pixel 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00% contenid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Intensidad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75% contenid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Intensidad N*7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0% contenid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Intensidad N*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2727360" cy="2781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2727360" cy="2781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995640" y="3645000"/>
            <a:ext cx="936720" cy="720720"/>
          </a:xfrm>
          <a:prstGeom prst="rightArrow">
            <a:avLst>
              <a:gd name="adj1" fmla="val 50000"/>
              <a:gd name="adj2" fmla="val 3249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riangulo delimitado por eje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ínea y = (5/7)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sde (0,0) hasta (7,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788000" y="3193920"/>
            <a:ext cx="41749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tra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aytracing es un modelo de iluminación glob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mula el comportamiento real de la luz en una esc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basa en el seguimiento de rayos de luz, como implica su nomb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tra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uncion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generan rayos desde las distintas fuentes de luces hacia todos los objetos de la esc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os rebotan hasta llegar la cam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tra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s rayos emitidos llevan información de los objetos visit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 esta manera se sabe el color, la intensidad y por que objetos ha pasado el rayo al momento de llegar a la cáma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 modelo de iluminación y re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 considerado un sistema de eliminación de caras ocul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imilar a Raytracing pero esta vez los rayos parten de la cámara hacia cada pixel de la imagen-proye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o funci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 la cámara salen rayos a cada uno de los pixeles de la ima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imagen es la proyección de una escena tridimen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da rayo va recopilando información respecto a los objetos que va encontra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Óp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aycasting sigue las leyes de la óptica y diferencia tres casos de interacción entre un rayo y un obj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flex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fra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odas las anteriores x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flex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da cuando un objeto es brillante y sól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.: Espejo, superficie metálica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rayo del Raycasting obtiene información del color y la textura del objeto reflectante encont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¿Qué es Alia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liasing nace con las señales de o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posibilidad de pasar de una señal continua a una discr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computación gráfica: bordes “ásperos” en imá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fra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da en objetos semi-transparentes o transparentes que dejan pasar una fracción de la luz (en este caso, del ray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.: Vaso con agua, hielo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rayo obtiene información de la transparencia y del color del obj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tra: La efici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Efici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”: entre un 75% y un 95% del tiempo es dedicado a interse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pantalla de 320x240 píxeles y una escena de 20 obje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20x240x20 = 1.536.000 test de intersecciones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dios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rcer modelo de iluminación y r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más nuevo del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tiliza ambas aproximaciones (Raytracing y Raycas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oma en cuenta la capacidad de los objetos de una escena de emitir lu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Imagen con 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5054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¿Por qué se produ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presentación de imágenes en compu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positivos R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1401480" cy="1866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732720" y="4435560"/>
            <a:ext cx="1401480" cy="18669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5400000">
            <a:off x="7199640" y="3464640"/>
            <a:ext cx="792360" cy="863640"/>
          </a:xfrm>
          <a:custGeom>
            <a:avLst/>
            <a:gdLst>
              <a:gd name="textAreaLeft" fmla="*/ 0 w 792360"/>
              <a:gd name="textAreaRight" fmla="*/ 792720 w 79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ti-Ali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écnicas para evitar o disminuir la “aspereza” de imágenes representadas en  dispositivos r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46560" y="3213000"/>
            <a:ext cx="1401840" cy="121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rot="5400000">
            <a:off x="6580800" y="3494880"/>
            <a:ext cx="1020600" cy="86364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227640" y="4724280"/>
            <a:ext cx="1401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dea Bás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iste en calcular la posición de cada pixel y estudiar si se debe pintar o no, y con cuanta intensidad ha de pinta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tintas formas de hacer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nderar por Á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multiplica la intensidad del pixel a dibujar por un factor ‘d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e factor se puede obtener del algoritmo de Bresenham. ¿Por qu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cordato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2492280"/>
            <a:ext cx="2521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y = f(x) = mx, 0&lt;m&lt;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 = (mx - y) + (1 -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0 ≤ d ≤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ordenadas de T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+1,y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+0.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ordenadas de S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+1,y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749760" y="2075040"/>
            <a:ext cx="468144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uego ese factor ‘d’ puede ser utilizado para ponderar la intensidad del pix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7512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33:25Z</dcterms:created>
  <dc:creator>Tomas A. Henriquez</dc:creator>
  <dc:description/>
  <dc:language>en-US</dc:language>
  <cp:lastModifiedBy>Tomas A. Henriquez</cp:lastModifiedBy>
  <dcterms:modified xsi:type="dcterms:W3CDTF">2005-11-04T00:32:05Z</dcterms:modified>
  <cp:revision>3</cp:revision>
  <dc:subject/>
  <dc:title>Raytracing y Anti-Aliasing</dc:title>
</cp:coreProperties>
</file>