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5B90-523E-4422-B4B8-05DAFA8B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52A3-E406-4934-BA62-8A24AF73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C3B6-1AED-4713-B90B-27A65297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8661-9D40-490C-8964-F238BFFA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E4BE-F4EB-4101-8DC9-41BC3242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E089-BA8C-4DB4-B4B0-48D61F25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1252-10E1-45E3-8E44-897DB8D8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9E50-113F-4CC2-BA6C-43022B18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77C8-DC63-4678-BBD2-BACE5C78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05C3-EB24-4684-B26C-5BA6FD1E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2DB6-11FF-4C8C-AE01-E929BFF7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5B29-4D52-4D71-B823-C841DB00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8645-687B-405E-BC2D-899A6FA3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91F2-C3BA-4D26-B92E-91BF583D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C296-CC10-412A-B862-7AC7FA7A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9150-83D1-4E5F-804A-C040D1C9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6BE6-9ECE-42F3-8603-0AA44E4E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9DC3-ED99-4ECE-A6A7-B46A93CE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65E-9094-4CF8-83AB-5D64CD8D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1A5C-2ADC-47E0-BD43-0048C682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0840-3B6F-4043-8CDE-D407600F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C5AD-B996-4142-8C0F-D5A328C0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66A8-A65D-46A7-9D92-16AED10C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6C61-2DE3-4BEE-96ED-BBA7DBB0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9A38-AE4F-4BC2-B69C-50DD1B6CF8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3E1D-7097-4829-8678-CC12AC7E36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ccecff"/>
                </a:solidFill>
                <a:latin typeface="Arial"/>
              </a:rPr>
              <a:t>Iluminación y Anti-Aliasing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omas Henriqu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mputación Gráf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apeo de intens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 realiza un mapeo de todos los pixeles que representan una figur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el pixel e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00% contenido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Intensidad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75% contenido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Intensidad N*7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0% contenido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Intensidad N*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2727360" cy="2781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219640" y="2637000"/>
            <a:ext cx="2727360" cy="2781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995640" y="3645000"/>
            <a:ext cx="936720" cy="720720"/>
          </a:xfrm>
          <a:prstGeom prst="rightArrow">
            <a:avLst>
              <a:gd name="adj1" fmla="val 50000"/>
              <a:gd name="adj2" fmla="val 3249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riangulo delimitado por eje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ínea y = (5/7)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sde (0,0) hasta (7,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788000" y="3193920"/>
            <a:ext cx="417492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trac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aytracing es un modelo de iluminación glob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mula el comportamiento real de la luz en una esc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e basa en el seguimiento de rayos de luz, como implica su nomb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trac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Funciona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 generan rayos desde las distintas fuentes de luces hacia todos los objetos de la esc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os rebotan hasta llegar la cam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trac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os rayos emitidos llevan información de los objetos visit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 esta manera se sabe el color, la intensidad y por que objetos ha pasado el rayo al momento de llegar a la cámar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cas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tro modelo de iluminación y ren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 considerado un sistema de eliminación de caras ocul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imilar a Raytracing pero esta vez los rayos parten de la cámara hacia cada pixel de la imagen-proye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cas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mo funcio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 la cámara salen rayos a cada uno de los pixeles de la ima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imagen es la proyección de una escena tridimen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da rayo va recopilando información respecto a los objetos que va encontra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cas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Óp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aycasting sigue las leyes de la óptica y diferencia tres casos de interacción entre un rayo y un obje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flex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fra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odas las anteriores x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cas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flex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 da cuando un objeto es brillante y sól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.: Espejo, superficie metálica,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l rayo del Raycasting obtiene información del color y la textura del objeto reflectante encontr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¿Qué es Alias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liasing nace con las señales de o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mposibilidad de pasar de una señal continua a una discr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n computación gráfica: bordes “ásperos” en imág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cas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frac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 da en objetos semi-transparentes o transparentes que dejan pasar una fracción de la luz (en este caso, del ray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.: Vaso con agua, hielo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l rayo obtiene información de la transparencia y del color del obje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cas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tra: La efici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ccecff"/>
                </a:solidFill>
                <a:latin typeface="Arial"/>
              </a:rPr>
              <a:t>Efici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”: entre un 75% y un 95% del tiempo es dedicado a interse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pantalla de 320x240 píxeles y una escena de 20 obje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20x240x20 = 1.536.000 test de intersecciones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dios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ercer modelo de iluminación y r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más nuevo del merc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tiliza ambas aproximaciones (Raytracing y Raycas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oma en cuenta la capacidad de los objetos de una escena de emitir lu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Imagen con 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5054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¿Por qué se produ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presentación de imágenes en compu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spositivos Ra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1401480" cy="1866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732720" y="4435560"/>
            <a:ext cx="1401480" cy="18669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rot="5400000">
            <a:off x="7199640" y="3464640"/>
            <a:ext cx="792360" cy="863640"/>
          </a:xfrm>
          <a:custGeom>
            <a:avLst/>
            <a:gdLst>
              <a:gd name="textAreaLeft" fmla="*/ 0 w 792360"/>
              <a:gd name="textAreaRight" fmla="*/ 792720 w 79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nti-Alia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écnicas para evitar o disminuir la “aspereza” de imágenes representadas en  dispositivos ra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146560" y="3213000"/>
            <a:ext cx="1401840" cy="1219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rot="5400000">
            <a:off x="6580800" y="3494880"/>
            <a:ext cx="1020600" cy="863640"/>
          </a:xfrm>
          <a:custGeom>
            <a:avLst/>
            <a:gdLst>
              <a:gd name="textAreaLeft" fmla="*/ 0 w 1020600"/>
              <a:gd name="textAreaRight" fmla="*/ 1020960 w 10206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227640" y="4724280"/>
            <a:ext cx="14018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dea Bás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iste en calcular la posición de cada pixel y estudiar si se debe pintar o no, y con cuanta intensidad ha de pinta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stintas formas de hacer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onderar por Á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 multiplica la intensidad del pixel a dibujar por un factor ‘d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e factor se puede obtener del algoritmo de Bresenham. ¿Por qué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cordato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2492280"/>
            <a:ext cx="2521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8a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y = f(x) = mx, 0&lt;m&lt;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8a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 = (mx - y) + (1 - 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8a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0 ≤ d ≤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8a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oordenadas de T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i-1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+1,y</a:t>
            </a: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i-1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+0.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8a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oordenadas de S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i-1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+1,y</a:t>
            </a: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i-1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749760" y="2075040"/>
            <a:ext cx="468144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uego ese factor ‘d’ puede ser utilizado para ponderar la intensidad del pix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195640" y="2852640"/>
            <a:ext cx="475128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33:25Z</dcterms:created>
  <dc:creator>Tomas A. Henriquez</dc:creator>
  <dc:description/>
  <dc:language>en-US</dc:language>
  <cp:lastModifiedBy>Tomas A. Henriquez</cp:lastModifiedBy>
  <dcterms:modified xsi:type="dcterms:W3CDTF">2005-11-04T00:32:05Z</dcterms:modified>
  <cp:revision>3</cp:revision>
  <dc:subject/>
  <dc:title>Raytracing y Anti-Aliasing</dc:title>
</cp:coreProperties>
</file>