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E63-5188-46CE-B24E-69D2722B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A68-BEC5-42C6-B9BC-620CDE5F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0F6-F187-4F28-9D6D-4084140B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44C-B2AB-47BB-A718-67E97CBB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F61-FAC3-44DC-AB5F-C52B4A17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6EA2-A768-488C-85E8-F9DEFA35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FFC5-AEF9-44B8-B2AD-42EE40F4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EDCF-516A-4B38-A2A5-65F64AA9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5791-9454-4276-AF47-CED87D0D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6E1C-73D0-44D0-8C41-BFB9811D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3731-A0DE-416F-A677-6943ABDF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981-B5E8-4485-B8B2-E1537908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5CCD-BB25-4355-9072-0DE3F57D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2007-5051-4CB7-962D-5CD58EC6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454F-8144-4538-94B2-7763C020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B228-4BBF-471E-A6A3-2C003E98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775B-6398-4117-8C86-020F16C4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2D6-8D62-4CEE-84FB-470830A1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304-27DA-4779-A3E8-C380DE19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7F5-A0C5-4096-A056-9E2DCFFD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281-5AB9-44BB-AF44-975BE605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6A1-6761-47C6-B935-5321D8B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9F1-3DED-45D5-AEE9-13FF4EEE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E14-4D2F-494C-9D93-ED4361F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0E04-1D6F-4994-8657-4FB11FCB9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2565-116F-4213-88DA-14F646862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ecff"/>
                </a:solidFill>
                <a:latin typeface="Arial"/>
              </a:rPr>
              <a:t>Iluminación y Anti-Alias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s Henri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putación 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eo de 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realiza un mapeo de todos los pixeles que representan una figu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l pixel 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0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75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7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27360" cy="2781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727360" cy="278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95640" y="3645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riangulo delimitado por eje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ínea y = (5/7)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sde (0,0) hasta (7,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788000" y="3193920"/>
            <a:ext cx="41749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aytracing es un modelo de iluminación glo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ula el comportamiento real de la luz en una esc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basa en el seguimiento de rayos de luz, como implica su no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uncion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generan rayos desde las distintas fuentes de luces hacia todos los objetos de la es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os rebotan hasta llegar la ca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 emitidos llevan información de los objetos visi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 esta manera se sabe el color, la intensidad y por que objetos ha pasado el rayo al momento de llegar a la cáma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 modelo de iluminación y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siderado un sistema de eliminación de caras ocul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imilar a Raytracing pero esta vez los rayos parten de la cámara hacia cada pixel de la imagen-proye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o funci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 la cámara salen rayos a cada uno de los pixeles de la ima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imagen es la proyección de una escena tridimen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da rayo va recopilando información respecto a los objetos que va encontra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Óp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aycasting sigue las leyes de la óptica y diferencia tres casos de interacción entre un rayo y un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as las anteriores x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cuando un objeto es brillante y sól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Espejo, superficie metálica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del Raycasting obtiene información del color y la textura del objeto reflectante encont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Qué es Alia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liasing nace con las señales de o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posibilidad de pasar de una señal continua a una discr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computación gráfica: bordes “ásperos” en imá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en objetos semi-transparentes o transparentes que dejan pasar una fracción de la luz (en este caso, del ray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Vaso con agua, hielo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obtiene información de la transparencia y del color del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tra: La efi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”: entre un 75% y un 95% del tiempo es dedicado a interse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pantalla de 320x240 píxeles y una escena de 20 obje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20x240x20 = 1.536.000 test de interseccion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dios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 modelo de iluminación y 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más nuevo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ambas aproximaciones (Raytracing y Raycas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 en cuenta la capacidad de los objetos de una escena de emitir lu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Imagen con 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05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Por qué se prod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ción de imágenes en 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positivos R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1401480" cy="1866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732720" y="4435560"/>
            <a:ext cx="1401480" cy="18669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5400000">
            <a:off x="7199640" y="346464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ti-Ali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écnicas para evitar o disminuir la “aspereza” de imágenes representadas en  dispositivos r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6560" y="3213000"/>
            <a:ext cx="1401840" cy="121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5400000">
            <a:off x="6580800" y="3494880"/>
            <a:ext cx="1020600" cy="8636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1401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dea Bá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iste en calcular la posición de cada pixel y estudiar si se debe pintar o no, y con cuanta intensidad ha de pinta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tintas formas de hacer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nderar por Á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multiplica la intensidad del pixel a dibujar por un factor ‘d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e factor se puede obtener del algoritmo de Bresenham.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rd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2492280"/>
            <a:ext cx="252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y = f(x) = mx, 0&lt;m&lt;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 = (mx - y) + (1 -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0 ≤ d ≤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T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0.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S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49760" y="2075040"/>
            <a:ext cx="468144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uego ese factor ‘d’ puede ser utilizado para ponderar la intensidad del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7512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33:25Z</dcterms:created>
  <dc:creator>Tomas A. Henriquez</dc:creator>
  <dc:description/>
  <dc:language>en-US</dc:language>
  <cp:lastModifiedBy>Tomas A. Henriquez</cp:lastModifiedBy>
  <dcterms:modified xsi:type="dcterms:W3CDTF">2005-11-04T00:32:05Z</dcterms:modified>
  <cp:revision>3</cp:revision>
  <dc:subject/>
  <dc:title>Raytracing y Anti-Aliasing</dc:title>
</cp:coreProperties>
</file>