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AF5-F361-4A2E-A164-2C7E5AA3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5B9-6587-41E9-8C16-770D2BBA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8E7-6006-4F4D-9311-989D436C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323-F019-4EC2-8337-C62340CC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C69F-6F5E-453F-B47E-3B5F084F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E4BD-4583-4FB1-954B-B2782B0D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E420-D073-43C0-B794-288E730C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55B-7CBD-436B-A0D4-778CC986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52EB-DD14-4AB3-B9A2-BEA53A50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56C5-643F-4473-9392-C5667BE9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4CFF-688A-4027-8FA6-1417804E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C26-6FF7-4C17-8124-063593A9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617F-6104-48B0-93D0-1CD30AA7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9A9F-B365-4E13-9A6D-DFC8E98C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8137-4DE9-4526-9208-57A191DE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C892-1435-41F3-B262-376048C0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C60A-6113-4F1A-82A5-34A102F3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6D8-9017-434E-B049-967D56B1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6509-361B-4495-9583-53A0F009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B9A-9AC3-4B1A-9A41-EE7D39B0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D48-2794-4EA1-95DE-47474684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C56-B0DF-4BB1-95C0-1B2D124D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CA8-01DB-4F53-89D1-7BA4BF34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DAAA-CCAC-4E78-9ED4-4F40B8A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C86F-EEBB-4D9C-86A5-71AC52232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6485-A49F-4AE2-81B5-3715ED981C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ccecff"/>
                </a:solidFill>
                <a:latin typeface="Arial"/>
              </a:rPr>
              <a:t>Iluminación y Anti-Aliasing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omas Henri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putación Gráf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eo de int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realiza un mapeo de todos los pixeles que representan una figu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el pixel e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00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75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*7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0% contenid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Intensidad N*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2727360" cy="2781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2727360" cy="2781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995640" y="3645000"/>
            <a:ext cx="936720" cy="720720"/>
          </a:xfrm>
          <a:prstGeom prst="rightArrow">
            <a:avLst>
              <a:gd name="adj1" fmla="val 50000"/>
              <a:gd name="adj2" fmla="val 3249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riangulo delimitado por eje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ínea y = (5/7)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sde (0,0) hasta (7,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788000" y="3193920"/>
            <a:ext cx="41749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aytracing es un modelo de iluminación glob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mula el comportamiento real de la luz en una esc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 basa en el seguimiento de rayos de luz, como implica su no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uncion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generan rayos desde las distintas fuentes de luces hacia todos los objetos de la esc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os rebotan hasta llegar la ca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trac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os rayos emitidos llevan información de los objetos visit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 esta manera se sabe el color, la intensidad y por que objetos ha pasado el rayo al momento de llegar a la cámar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 modelo de iluminación y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 considerado un sistema de eliminación de caras ocul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imilar a Raytracing pero esta vez los rayos parten de la cámara hacia cada pixel de la imagen-proye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o funci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 la cámara salen rayos a cada uno de los pixeles de la ima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imagen es la proyección de una escena tridimen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da rayo va recopilando información respecto a los objetos que va encontra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Óp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aycasting sigue las leyes de la óptica y diferencia tres casos de interacción entre un rayo y un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flex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fra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as las anteriores x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flex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da cuando un objeto es brillante y sól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.: Espejo, superficie metálica, 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rayo del Raycasting obtiene información del color y la textura del objeto reflectante encont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¿Qué es Alias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liasing nace con las señales de o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posibilidad de pasar de una señal continua a una discr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computación gráfica: bordes “ásperos” en imá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fr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da en objetos semi-transparentes o transparentes que dejan pasar una fracción de la luz (en este caso, del ray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.: Vaso con agua, hielo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rayo obtiene información de la transparencia y del color del obj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ycas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tra: La efici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ccecff"/>
                </a:solidFill>
                <a:latin typeface="Arial"/>
              </a:rPr>
              <a:t>Efici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”: entre un 75% y un 95% del tiempo es dedicado a interse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pantalla de 320x240 píxeles y una escena de 20 obje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20x240x20 = 1.536.000 test de interseccione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Radios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rcer modelo de iluminación y r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más nuevo d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Utiliza ambas aproximaciones (Raytracing y Raycast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oma en cuenta la capacidad de los objetos de una escena de emitir lu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Imagen con 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5054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¿Por qué se produ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presentación de imágenes en compu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positivos Ra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1401480" cy="1866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732720" y="4435560"/>
            <a:ext cx="1401480" cy="18669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rot="5400000">
            <a:off x="7199640" y="3464640"/>
            <a:ext cx="792360" cy="863640"/>
          </a:xfrm>
          <a:custGeom>
            <a:avLst/>
            <a:gdLst>
              <a:gd name="textAreaLeft" fmla="*/ 0 w 792360"/>
              <a:gd name="textAreaRight" fmla="*/ 792720 w 79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ti-Ali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Técnicas para evitar o disminuir la “aspereza” de imágenes representadas en  dispositivos ra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46560" y="3213000"/>
            <a:ext cx="1401840" cy="121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rot="5400000">
            <a:off x="6580800" y="3494880"/>
            <a:ext cx="1020600" cy="86364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1401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dea Bás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iste en calcular la posición de cada pixel y estudiar si se debe pintar o no, y con cuanta intensidad ha de pinta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tintas formas de hacer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nderar por Á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multiplica la intensidad del pixel a dibujar por un factor ‘d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e factor se puede obtener del algoritmo de Bresenham. ¿Por qu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cord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2492280"/>
            <a:ext cx="25210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y = f(x) = mx, 0&lt;m&lt;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 = (mx - y) + (1 -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0 ≤ d ≤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ordenadas de T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0.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8a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oordenadas de S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(x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+1,y</a:t>
            </a: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i-1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749760" y="2075040"/>
            <a:ext cx="4681440" cy="35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ecff"/>
                </a:solidFill>
                <a:latin typeface="Arial"/>
              </a:rPr>
              <a:t>Anti-Alias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uego ese factor ‘d’ puede ser utilizado para ponderar la intensidad del pix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7512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33:25Z</dcterms:created>
  <dc:creator>Tomas A. Henriquez</dc:creator>
  <dc:description/>
  <dc:language>en-US</dc:language>
  <cp:lastModifiedBy>Tomas A. Henriquez</cp:lastModifiedBy>
  <dcterms:modified xsi:type="dcterms:W3CDTF">2005-11-04T00:32:05Z</dcterms:modified>
  <cp:revision>3</cp:revision>
  <dc:subject/>
  <dc:title>Raytracing y Anti-Aliasing</dc:title>
</cp:coreProperties>
</file>