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CD3C-9CE4-4B52-8213-2E8B8168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6172-C669-4571-9E28-8A876589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CC37-0DD5-44AD-9C82-D21BA6A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D5EF-12BE-4360-8647-1CC6581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489D-8BCB-44FE-BA2F-6B63B3D5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F4A4-FB9B-48CB-8752-E2F7737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9E14-F64E-4C97-AF31-4CE0BD9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170-D4CD-4F53-93BF-A00F12E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304D-90DF-4FAE-9B2E-0399246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9D2-FB28-451F-81CD-A3CAD10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0225-72EF-4740-B55B-B7DDF76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FA28-0A48-4C5A-AAF5-AD27275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3653-3A1B-4299-9C01-8E9E9AF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4C3-6C37-447D-92BA-FDC3FB5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B84-941D-4552-A6B2-0DFD308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5A84-DD14-4F2A-A178-65BF363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2F3-CDB5-4387-B5A2-DAEEE543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3B7A-D26E-46A6-8EE6-31AFA180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C16A-4103-48C9-9497-A010008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93BF-7A25-4652-81C9-A976B62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9290-A57E-4211-A669-53C63402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E730-771B-4580-8087-937581F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C915-9442-4D96-B623-C4EA378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E68D-9788-4E46-BB1D-CD38622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AF8-1C14-4A12-992B-16FF98D1D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FE0-1F31-499E-B964-FCEC6FFBD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e Partícul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Joon K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putación Gráf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clase Sistema que engloba todas las partículas, el emisor y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dministrador es el nexo entre un programa y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amadas frecuentes: Actualizar y Dibuj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las propiedades se debe a las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n llamadas por el administrador cuando algún criterio se cu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chocar, cambiar color, cambiar velocidad, mo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Part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,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Partíc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struct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max_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Particula[] 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void Sacar(int i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bool Agregar(Vector3 pos,Vector3 pos2,Vector3 col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Vector3 vel,params float[] extra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ón: Rangos y Domin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: Espacio tridimensional cualquiera (Cubo, Esfera, Punto, Plano),definido por una posición y otros valores necesarios, tales como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: conjunto de vectores definidos dentro de un Dominio, si el vector se encuentra dentro de un Dominio, pertenece a é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Esfera(0,0,0,radio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cualquier vector del origen a una distancia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Punto(4,2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sólo el vector (4,2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sE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Rang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icion ,velocidad ,col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frecuencia0 ,edad ,dev_e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Emision(float frecuencia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frecuencia = frecue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p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cio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= new Rango(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lpha = 1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dad  = 0;dev_edad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lase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class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Random r= new 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 grup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Emision 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int tiem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istema(int mCant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p = new Particula[mCantidad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max_cantidad = mCantid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// inicializar Las propiedades globales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/Se llama para indicar donde se generarán  las partí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Emisor(float freq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 = new sEmision(freq,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velocidad = Valor.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color = Valor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alpha = Valor.alp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edad  = Valor.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dev_edad = Valor.dev_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Actualizar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 deltat 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f((deltat - tiempo) &gt; Valor.d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ector3 acc =new Vector3(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or(int i=0;i&lt;grupop.cantidad;i++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alor.Accel.GenerarPunto(ref acc,ref 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edad +=Valor.dt*10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pos  +=grupop.p[i].vel*Valor.d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vel  +=acc*Valor.d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iempo = delt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cionEmisor();AccionMatar();AccionChoca()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istema de partículas es un grupo de entidades que comparten reglas 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: lluvia, fuego, arena, vient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os fenómenos naturales pueden ser modelados con sistemas de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e don´t try to model the outcome of a system, we try to model the system and see its outcome” 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dre LaMo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void Dibuja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for(int i=0;i &lt; grupop.cantidad  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ranslatef(grupop.p[i].pos.x,grupop.p[i].pos.y,grupop.p[i].pos.z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Scalef(escalax,escalay,escalaz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Color4f(grupop.p[i].color.x,grupop.p[i].color.y,grupop.p[i].color.z,grupop.p[i].alph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Begin(Gl.GL_QUADS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1); Gl.glVertex3f(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1); Gl.glVertex3f(-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0); Gl.glVertex3f(-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0); Gl.glVertex3f(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En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opMatrix(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Color(float alpha,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Accel(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aso(float 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Mata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Choc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istema PS=new Sistema(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Color(1,Dominio.Esfera,0,0,0,0.5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LimiteEdad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Paso(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Vel(Dominio.Esfera,0,0,0,1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Emisor(1,Dominio.Punto,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S.Actualizar(); PS.Dibuj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37080" cy="241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87640" cy="419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95272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fí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: entidad que guarda las propiedades individuales entregadas por el sistema y se ve afectada por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o de Partículas: se encarga de agregar o quitar partículas a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de Partículas: organiza todas las partículas y les da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típicas: posición, color, velocidad,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xiste límite en el tipo o cantidad de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elen tener vida limitada, al morir son creadas de nuevo con propiedades in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acena todas las partículas para que su uso sea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ones limitadas, sólo agregar o quitar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s acciones se deben comúnmente a la muerte o nacimiento de una nueva part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 las reglas por las cuales las partículas se r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entras avanza el tiempo, se encarga de renovar las propiedades de las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rola la lógica detrás de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isor: espacio en donde se generan las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ministrador: se encarga de las propiedades globales de las partículas y cuando se ejecutan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: funciones que actualizan propiedades de las partículas según alguna métrica (e.g. ti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geométrico en el cual las partículas son gene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nacen, el emisor les entrega propiedades iniciales dentro del rango creado por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2:48:16Z</dcterms:created>
  <dc:creator>User</dc:creator>
  <dc:description/>
  <dc:language>en-US</dc:language>
  <cp:lastModifiedBy>User</cp:lastModifiedBy>
  <dcterms:modified xsi:type="dcterms:W3CDTF">2005-09-09T05:43:35Z</dcterms:modified>
  <cp:revision>5</cp:revision>
  <dc:subject/>
  <dc:title>Caustics en OpenGL</dc:title>
</cp:coreProperties>
</file>