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A84F-73A6-4764-8A30-C8BC87BF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2F69-3ED9-4F08-AB93-718598C8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F43E-A2B3-4EA4-A4BE-1D34A47B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033A-6F86-45E7-8A03-4A7BEF58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1258-AE48-4E46-8E49-0F2AA181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21B7-DAAF-4484-96DD-8D9A90FA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3376-2753-4AA4-9D87-95C7DBEE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1DF7-6A0E-453E-B70B-16FBE29B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5E00-856A-4290-BD82-8A4823EB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3D31-425C-4A01-A062-0567738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E7CC-52BE-47AD-984E-9D94A0AF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96AB-E123-4E06-B18B-CA26FCFF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AE6F-092F-4370-9147-A2BFEA1B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2652-1E88-411F-820A-66F1621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4C21-73F4-4357-8D98-5322863E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C06C-7C8B-4549-916B-3C1414AF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C0E7-9E5E-4F4A-98CB-4304D27C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BA69-23BB-43CF-9B7B-EFB24556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6135-4542-40C6-A090-EE39E58B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4090-669D-4CE5-A151-727C534D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6A63-9ACD-4F00-9502-74382771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C324-A93B-4241-8ED0-D2C9C346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4DC8-D22D-4352-BA3B-54A18669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5EF4-1FF9-4770-8C5F-9F7FB85B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377C-EA1C-4E0F-B979-9E0573A81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7292-5BA2-4ADB-B892-26448C291A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stemas de Partícul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Joon K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mputación Gráf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dminist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la clase Sistema que engloba todas las partículas, el emisor y las a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dministrador es el nexo entre un programa y el sistema de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lamadas frecuentes: Actualizar y Dibuj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las propiedades se debe a las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n llamadas por el administrador cuando algún criterio se cu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chocar, cambiar color, cambiar velocidad, mo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struct Part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p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pos_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v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vel_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float alpha,e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upo Partíc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struct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int cantid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int max_cantid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Particula[] 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void Sacar(int i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bool Agregar(Vector3 pos,Vector3 pos2,Vector3 col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Vector3 vel,params float[] extra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ón: Rangos y Domin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minio: Espacio tridimensional cualquiera (Cubo, Esfera, Punto, Plano),definido por una posición y otros valores necesarios, tales como ra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ngo: conjunto de vectores definidos dentro de un Dominio, si el vector se encuentra dentro de un Dominio, pertenece a é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s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minio Esfera(0,0,0,radio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ngo es cualquier vector del origen a una distancia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minio Punto(4,2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ngo es sólo el vector (4,2,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 Em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struct sEm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Rango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sicion ,velocidad ,col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float alph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frecuencia0 ,edad ,dev_eda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sEmision(float frecuencia,Dominio tipo,params float[] v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his.frecuencia = frecuen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his.p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cio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= new Rango(tipo,v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lpha = 1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dad  = 0;dev_edad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lase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class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Random r= new Rand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upo grup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sEmision 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int tiemp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Sistema(int mCant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upop.p = new Particula[mCantidad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upop.max_cantidad = mCantid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// inicializar Las propiedades globales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/Se llama para indicar donde se generarán  las partíc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oid Emisor(float freq,Dominio tipo,params float[] v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 = new sEmision(freq,tipo,v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velocidad = Valor.V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color = Valor.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alpha = Valor.alph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edad  = Valor.e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dev_edad = Valor.dev_e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oid Actualizar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nt deltat 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f((deltat - tiempo) &gt; Valor.d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ector3 acc =new Vector3(0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or(int i=0;i&lt;grupop.cantidad;i++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alor.Accel.GenerarPunto(ref acc,ref 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rupop.p[i].edad +=Valor.dt*10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rupop.p[i].pos  +=grupop.p[i].vel*Valor.d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rupop.p[i].vel  +=acc*Valor.d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iempo = delt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ccionEmisor();AccionMatar();AccionChoca()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sistema de partículas es un grupo de entidades que comparten reglas ló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: lluvia, fuego, arena, vient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os fenómenos naturales pueden ser modelados con sistemas de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e don´t try to model the outcome of a system, we try to model the system and see its outcome” -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dre LaMo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void Dibuja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for(int i=0;i &lt; grupop.cantidad  ;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Push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ranslatef(grupop.p[i].pos.x,grupop.p[i].pos.y,grupop.p[i].pos.z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Scalef(escalax,escalay,escalaz);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Color4f(grupop.p[i].color.x,grupop.p[i].color.y,grupop.p[i].color.z,grupop.p[i].alph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Begin(Gl.GL_QUADS);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1,1); Gl.glVertex3f(0.5f,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0,1); Gl.glVertex3f(-0.5f,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0,0); Gl.glVertex3f(-0.5f,-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1,0); Gl.glVertex3f(0.5f,-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En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PopMatrix();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ango_Color(float alpha,Dominio tipo,params float[] v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ango_Accel(Dominio tipo,params float[] v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Paso(float 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ccionMata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ccionChoca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i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istema PS=new Sistema(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Rango_Color(1,Dominio.Esfera,0,0,0,0.5f,0.1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LimiteEdad(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Paso(1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Rango_Vel(Dominio.Esfera,0,0,0,1f,0.1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Emisor(1,Dominio.Punto,0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S.Actualizar(); PS.Dibuja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737080" cy="241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787640" cy="419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952720" cy="26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fí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: entidad que guarda las propiedades individuales entregadas por el sistema y se ve afectada por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po de Partículas: se encarga de agregar o quitar partículas al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 de Partículas: organiza todas las partículas y les da propie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piedades típicas: posición, color, velocidad,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xiste límite en el tipo o cantidad de propie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elen tener vida limitada, al morir son creadas de nuevo con propiedades in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íc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po de 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acena todas las partículas para que su uso sea má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ones limitadas, sólo agregar o quitar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es acciones se deben comúnmente a la muerte o nacimiento de una nueva partí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de 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 las reglas por las cuales las partículas se r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entras avanza el tiempo, se encarga de renovar las propiedades de las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trola la lógica detrás de las a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isor: espacio en donde se generan las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ministrador: se encarga de las propiedades globales de las partículas y cuando se ejecutan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ciones: funciones que actualizan propiedades de las partículas según alguna métrica (e.g. tiem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pacio geométrico en el cual las partículas son gener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ndo nacen, el emisor les entrega propiedades iniciales dentro del rango creado por el sistema de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02:48:16Z</dcterms:created>
  <dc:creator>User</dc:creator>
  <dc:description/>
  <dc:language>en-US</dc:language>
  <cp:lastModifiedBy>User</cp:lastModifiedBy>
  <dcterms:modified xsi:type="dcterms:W3CDTF">2005-09-09T05:43:35Z</dcterms:modified>
  <cp:revision>5</cp:revision>
  <dc:subject/>
  <dc:title>Caustics en OpenGL</dc:title>
</cp:coreProperties>
</file>