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9C73-ADEF-4F15-8DF9-B48EAF88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B0F1-216B-45C3-860C-2549D908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94EB-E08D-48A9-A3A5-E50FBC46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2D27-CFAF-4A9F-9C30-D49D7D1E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4351-A958-40D9-BF53-0F118E01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83F7-9D7A-4790-BFE3-59C9AF43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998C-FB74-4D21-8771-97A52126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C6BE-6F33-4567-BFC3-0255A132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87F5-29B9-49F5-AAB5-5F7E29A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C5A3-9AC5-4EA9-9291-711AA4D8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C556-FC20-4140-B881-B9BFB9C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0A0E-6039-4832-BDC5-304BD5C9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4E85-3FD1-452B-93CB-0C10899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246A-6FF7-4002-B8BD-2639CB02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189B-9125-4081-A1A0-B14A112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F026-A702-4C64-BB0E-A05A6EDD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01EE-2F6B-4B96-A3FB-FA2DA820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920CB-A80C-4168-AE85-0EEAA334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0FEB-CA96-4F0B-997C-47A66606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D295-3FA8-4EBB-A4A0-33B694BB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2123-0CA6-443D-AA58-EB07B7AD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8C1A4-3EC6-403C-A22F-8636E805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5B31F-175B-43E1-982F-70D15E37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4B3B-5C4A-48E6-A8A9-652A5938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8DBA-9889-4256-99E9-0418F3957E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5893-6AE2-4C7C-B503-D5A42D219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stemas de Partícul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Joon Ki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Computación Gráf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dminist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la clase Sistema que engloba todas las partículas, el emisor y las a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dministrador es el nexo entre un programa y el sistema de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lamadas frecuentes: Actualizar y Dibuj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os en las propiedades se debe a las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n llamadas por el administrador cuando algún criterio se cu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chocar, cambiar color, cambiar velocidad, mor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struct Part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p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pos_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v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vel_a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ector3 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float alpha,e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upo Partíc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struct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int cantid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int max_cantida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Particula[] 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void Sacar(int i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bool Agregar(Vector3 pos,Vector3 pos2,Vector3 col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Vector3 vel,params float[] extra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ón: Rangos y Domin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minio: Espacio tridimensional cualquiera (Cubo, Esfera, Punto, Plano),definido por una posición y otros valores necesarios, tales como ra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ngo: conjunto de vectores definidos dentro de un Dominio, si el vector se encuentra dentro de un Dominio, pertenece a é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s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minio Esfera(0,0,0,radio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ngo es cualquier vector del origen a una distancia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minio Punto(4,2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ngo es sólo el vector (4,2,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ormación Em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struct sEm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Rango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sicion ,velocidad ,color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float alph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frecuencia0 ,edad ,dev_eda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sEmision(float frecuencia,Dominio tipo,params float[] v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his.frecuencia = frecuen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his.p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cion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= new Rango(tipo,v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lpha = 1;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dad  = 0;dev_edad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lase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class 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Random r= new Rando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upo grup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sEmision 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int tiemp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Sistema(int mCant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upop.p = new Particula[mCantidad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rupop.max_cantidad = mCantida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// inicializar Las propiedades globales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/Se llama para indicar donde se generarán  las partíc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oid Emisor(float freq,Dominio tipo,params float[] v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 = new sEmision(freq,tipo,v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velocidad = Valor.Ve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color = Valor.Co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alpha = Valor.alph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edad  = Valor.e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Einfo.dev_edad = Valor.dev_ed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ublic void Actualizar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nt deltat =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if((deltat - tiempo) &gt; Valor.dt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ector3 acc =new Vector3(0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for(int i=0;i&lt;grupop.cantidad;i++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Valor.Accel.GenerarPunto(ref acc,ref 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rupop.p[i].edad +=Valor.dt*10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rupop.p[i].pos  +=grupop.p[i].vel*Valor.d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grupop.p[i].vel  +=acc*Valor.d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tiempo = delt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ccionEmisor();AccionMatar();AccionChoca();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sistema de partículas es un grupo de entidades que comparten reglas lóg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s: lluvia, fuego, arena, vient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uchos fenómenos naturales pueden ser modelados con sistemas de partíc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We don´t try to model the outcome of a system, we try to model the system and see its outcome” -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dre LaMo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public void Dibuja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for(int i=0;i &lt; grupop.cantidad  ;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PushMatrix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ranslatef(grupop.p[i].pos.x,grupop.p[i].pos.y,grupop.p[i].pos.z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Scalef(escalax,escalay,escalaz);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Color4f(grupop.p[i].color.x,grupop.p[i].color.y,grupop.p[i].color.z,grupop.p[i].alph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Begin(Gl.GL_QUADS);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1,1); Gl.glVertex3f(0.5f,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0,1); Gl.glVertex3f(-0.5f,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0,0); Gl.glVertex3f(-0.5f,-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TexCoord2d(1,0); Gl.glVertex3f(0.5f,-0.5f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En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Gl.glPopMatrix();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ango_Color(float alpha,Dominio tipo,params float[] v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Rango_Accel(Dominio tipo,params float[] v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Paso(float 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ccionMata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AccionChoca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lementación Open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i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istema PS=new Sistema(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Rango_Color(1,Dominio.Esfera,0,0,0,0.5f,0.1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LimiteEdad(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Paso(1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Rango_Vel(Dominio.Esfera,0,0,0,1f,0.1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S.Emisor(1,Dominio.Punto,0,0,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S.Actualizar(); PS.Dibuja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2737080" cy="2417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787640" cy="419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952720" cy="26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fí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: entidad que guarda las propiedades individuales entregadas por el sistema y se ve afectada por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po de Partículas: se encarga de agregar o quitar partículas al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a de Partículas: organiza todas las partículas y les da propie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piedades típicas: posición, color, velocidad,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existe límite en el tipo o cantidad de propie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elen tener vida limitada, al morir son creadas de nuevo con propiedades in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íc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upo de 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acena todas las partículas para que su uso sea má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ones limitadas, sólo agregar o quitar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es acciones se deben comúnmente a la muerte o nacimiento de una nueva partícul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de Partíc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 las reglas por las cuales las partículas se ri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entras avanza el tiempo, se encarga de renovar las propiedades de las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trola la lógica detrás de las a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isor: espacio en donde se generan las partíc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ministrador: se encarga de las propiedades globales de las partículas y cuando se ejecutan a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ciones: funciones que actualizan propiedades de las partículas según alguna métrica (e.g. tiemp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m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pacio geométrico en el cual las partículas son gener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ndo nacen, el emisor les entrega propiedades iniciales dentro del rango creado por el sistema de partícu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02:48:16Z</dcterms:created>
  <dc:creator>User</dc:creator>
  <dc:description/>
  <dc:language>en-US</dc:language>
  <cp:lastModifiedBy>User</cp:lastModifiedBy>
  <dcterms:modified xsi:type="dcterms:W3CDTF">2005-09-09T05:43:35Z</dcterms:modified>
  <cp:revision>5</cp:revision>
  <dc:subject/>
  <dc:title>Caustics en OpenGL</dc:title>
</cp:coreProperties>
</file>