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C21-041A-48F2-BDD5-8EF1EA0A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B71-E4C6-40D7-A261-23A826A9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45E-92DC-4D4A-80E4-37AC4232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9AA-F5C8-4E23-8BD2-2FE573E8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92DE-4A13-4BC9-A0FD-4DD52330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7621-1D71-4E7E-A625-3D65EA3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0E0-0F9A-4BA3-A1AE-7AE1F0DD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B81F-8D36-447C-8AD7-E2DAF98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E092-2A7F-466A-9EF0-A7DFCCF1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07D6-9BC1-47F9-9080-8380D26C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823-7A92-4C19-AE02-5BC8F56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423-4DC3-4EBA-A490-17060821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6B62-08FA-4F1C-B88D-5302A02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9D60-7ABC-42EB-A9A0-3571C1E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1B5-2AC4-4B03-9F7B-6D2BD701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1674-3362-4A29-BDE7-D538CDE7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758E-BABE-40B3-A70D-C1C0D670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514-8BC7-4F39-8FA9-38EE1056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622-E4EF-4911-BAAA-699D790D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227-18BF-40C8-8BE1-8EE22613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684-B59A-4948-8DE9-75902CA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66A-6231-4E0D-B7E1-7D0D732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BD7-B9C7-4272-A259-9687F42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ADF-8959-4805-905E-C208C44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CBC8-7A6E-4F73-846E-AE8212A6BF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D23-1059-4AA0-8E34-AD89F87DCC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,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4-11-16T15:44:36Z</dcterms:modified>
  <cp:revision>36</cp:revision>
  <dc:subject/>
  <dc:title>CC51A – Ingeniería de Software</dc:title>
</cp:coreProperties>
</file>