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077-A398-49D4-AEF5-098ABA82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617-839E-42E4-AFEE-FFA6DA5F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D59-8A15-4D2A-A67C-4F2B9633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467-98AE-4B39-B95F-FA0A5C28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12B-1017-4696-BECA-8495B9BFB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5684-9A4A-4E42-B703-8CA075A9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B085-168A-48A2-93E8-0D460801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5772-5A77-46BD-AD93-31FDCF5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4AF5-B877-49DD-950B-126126D5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A09B-F776-4824-800C-7C602A2C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29F5-396A-486A-9995-C259A98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6BF6-48CC-489B-9D00-83E3496D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DEC5-EBE3-4124-84B6-C0783962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7ACE-6CCA-405A-83FF-379F366C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4834-AEA1-4F4E-B307-60E85FD3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CBA2-2318-4AA3-8658-E40231AF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2EF3-EA6A-4950-AE91-DE2103A8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C14-8179-4852-9E27-7DE5543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960C-4EEE-4194-9B9F-C592C1E6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537-6D3C-4CED-B7AF-1AAD43C9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136-F45E-4C20-BCD6-57314245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3A4-42EC-4E06-B65F-78324D0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CF4B-266A-4513-B63D-A49E1F11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B87-1473-4B39-B307-F511497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FF6-A370-4118-A7CD-A7AF40AEFB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BEB2-751A-45CE-909A-00466C2F0C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,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4-11-16T15:44:36Z</dcterms:modified>
  <cp:revision>36</cp:revision>
  <dc:subject/>
  <dc:title>CC51A – Ingeniería de Software</dc:title>
</cp:coreProperties>
</file>