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D27CF-E677-4025-A5EA-452D42EC052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 las pruebas unitarias debemos crear un “ambiente” apropiado para la función que queremos probar. Esto significa tener algo que invoce a la función a probar y tener las funciones invocadas. Tal vez no todo esto existe aún, puesto que está en desarrol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la función invocadora no existe aún, se fabrica una función invocadora llamada en inglés “test driver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algunas de las funciones invocadas no existen, se fabrican funciones simples con la misma interfaz de las que serán invocadas luego. En inglés se llaman “stub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bviamente, los test drivers y los stubs deben estar correctos: hágalas muy si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os sistemas embebidos, a veces esto se complica, porque hay dependencias temporales (uso de semáforos, interrupciones) que dificultan crear un ambiente para probar una fu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a plantilla del documento de diseño de este curso tenemos la especificación funcional  en secciones 2.1 a 2.5, la estrategia de prueba en la sección 2.6, y el diseño detallado en la sección 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C09-64F6-41AE-BDF9-C63AE58B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D49-196D-4D4B-A84F-CEA8E38C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001-8CD6-4A30-A072-40C784C9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BC2-DBDD-448B-8098-D569DA93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5005-CE9D-4627-900B-D42FC969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0BC5-2ED7-4A71-9D66-294A23A4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3CAD-32C4-4CE8-B530-A695954B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0436-57D1-49E7-ACBE-AF24C073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DE3C-B0E2-47B7-90F5-86E44042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9B58-99E5-4ACB-970C-ED0381C2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9438-A8C2-4E4C-8915-CCB07527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C8B-62D0-435B-9EDB-93D5AB18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E4F1-5DB5-466C-B191-CE396CE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6795-6401-495D-94EB-5F0F1051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4EDF-337E-4090-A9B7-8B185C0B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9C5-9ABA-471B-B8A8-60304BFE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41B8-3A48-47DF-91F4-2AC50340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639-8134-45D3-9E5C-1FB01AED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11E-D7C1-4C7E-8F5B-DC9632CB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485-B5C9-4F73-87DB-D4E90137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93D-C279-498F-864C-151A9A5D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F54-5A2E-4051-9815-340680F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A00-769F-406E-912B-2E1DD739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EA9-01EA-4310-A0CA-93F0700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64AD-AF26-4C51-AC02-CDEEE041A9B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4D01-A44D-49E9-B199-ED2B16E42C7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rueb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Herramien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herramientas que generan casos de prueba en forma “inteligente”, de alguna manera eligiendo un número relativamente limitado de casos de prueba (robot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pueden probar los casos (generan código para el test driv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computan cobertura de código e incluso cobertura de camin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ara sistemas embebidos de comunicaciones (como radios de dos vías), las herramientas se comunican con un modelo ejecutable de otros sistemas con los que se interactú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1360" indent="-4413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pruebas de integración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on realizadas sobre agrupaciones de componentes/fun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 examinan las interfaces para asegurar que es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mponentes individuales son llamados cuando es necesario y qu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que se transmiten entre dichos componentes son los requerid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ropósito: Asegurar que no hay errores de interfaces; encontrar defectos en 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Debemos planificar las pruebas de integr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En el Documento de Arquitectura, o bien en el Plan de Pruebas de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Hay que destinar recursos a esto (gente y tiemp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ípicamente se necesita andamiaje e incluso simuladores al comienzo de la integ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l probar cada módulo individualmente es necesario crear módulos auxiliares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mulen las acciones de los módulos invocados por el módulo que se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ban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simismo se han de crear módulos "conductores" para establecer las pre-condi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ecesarias, llamar al módulo objeto de la prueba y examin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sultados de la prueb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ido a todo esto, a menudo se combinan ambos tipos de prueba: unitarias y d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tegración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ejemplo a través de la prueba llamada “desarrollo incremental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Desarrollo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cremen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l tipo de prueba incremental consiste en agregar cada módulo 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 al conjunto de componentes existentes y el conjunto resultante s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prueba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sto reduce la necesidad de crear módulos conductor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permitiend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demás examinar más detalladamente las interface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Cuando las pruebas unitaria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y de integración se realizan separadamente es difícil identificar l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es o módulos que causan resultados incorrect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o más probable es que los problemas que surjan 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corporar un nuev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 surjan 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este último o 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las interfaces entre él y los otr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importante determinar la secuencia en que se van a producir e integr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rriba a abajo (top-down)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primer componente o módulo que se desarrolla y prueba es el que está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rriba en la jerarquí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s módulos de nivel más bajo se sustituyen po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e simulan el resto de la funcionalid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no son necesarios módulos conduct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na ventaja de esta estrategia es que las interfaces entre los módulos so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badas en una fase temprana y con frecuenci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bajo a arriba (bottom-u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se crean primero los componentes de más bajo nivel y se cre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conductores para simular 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ocacion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son necesarios en raras ocas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e tipo de enfoque de las pruebas permite un desarrollo más parale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z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enfoqu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Top-Down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, pero presenta mayores dificultades a la hora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lanificar y de gestion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las prueb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 (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combi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 menudo es útil aplicar las estrategias anteriores conjuntamente. Así, s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arrollarán partes del sistema de forma "top-down", mientras que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 más crític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(de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nivel más baj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e desarrollarán "bottom-up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 este caso es necesaria una planificación cuidadosa y coordinada de mo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los componentes individuales se "encuentren" en el cent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pósito: Asegurar que se cumplen los requisitos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ste es un proceso formal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ificado en el Pla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base son los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casos de prueba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definidos en la Especificació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sultados se registran en el Acta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 alcance es el sistema complet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Las pruebas típicas que deben hacerse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se han cumplido los requisitos de software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y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éste realiza correctamente todas las funciones especific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as en el SR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comunic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termina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interfaces entre los componentes del sistema funcion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decuadamente. Esto se refiere tanto 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comunicaciones entre dispositiv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motos, las interfaces entre diferentes módu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 interfaces hombre-máquina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210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rend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los tiempos de respuesta están dentro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intervalos establecidos en las especificaciones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volu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examinar el funcionamiento del sistema cuando está trabajan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 grandes volúmenes de datos, simulando la carga de trabajo esperad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obrecar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el funcionamiento del sistema en el umbral límite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recursos, someti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a cargas excesiva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disponibilidad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mostrar que el sistema puede recuperarse ante fallas, sin pérdidas indebidas de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 Esto considera el hardware y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los distintos tipos de pruebas a los que debe someterse un sistema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n esta clase verem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unit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integ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sistem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regre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0400" y="1523880"/>
            <a:ext cx="8499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facilidad de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a adaptabilidad del sistema a las necesidades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uarios, tanto para asegurarse que se acomoda al modo habitual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bajo de éstos, como para determinar si les facilita su trabaj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os procedimientos de operación, incluyendo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dimientos de inicio y fin de trabajo y la facilidad de operació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entor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as interacciones del sistema con otros sistemas dentr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l mismo entorn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egur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os mecanismos de control de acceso al sistema par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itar alteraciones indebidas en los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Prueba de Usuario/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Certificar que los requisitos del cliente se han cumplido satisfactoriamente y por lo tanto se puede iniciar la producción (o la marcha blanc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sta etapa –también llamada pruebas de aceptación–  debe estar a cargo de un equipo independiente del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otra gente de l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el cliente, si hay uno específico, capazde hace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empresas que ofrecen este servi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 y de 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rueba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 Acept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n aquellas pruebas que realiza el usuario/cliente con el objeto de comprobar si el sistema es aceptable para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s pruebas son del mismo tipo que las mencionadas anteriormente, pero son determinadas por el usuario, en lugar de serlo por 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 tipo especial de estas pruebas es el de la  ejecución en paralelo con el viejo sistema (legado), para comparar los resultados producidos por ambas ejecu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chequea fundamentalmente: correctitud, robustez, performance y docu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Asegurar que cambios en el software no introducen nuevos defec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 ejecutan luego de modificar 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sisten en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repetir las pruebas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Aquí hay un beneficio enorme al tener un ambiente automatizado de prueb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83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óximo el fin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rror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Otros métodos más complicados de aplicar pero más efectivo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 qué fracción de errores se origina e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iertos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s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(áreas conflictiv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unidad: aplicar un método 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Un criterio adicional lo puede proveer la </a:t>
            </a:r>
            <a:r>
              <a:rPr b="1" lang="es-MX" sz="2300" spc="-1" strike="noStrike">
                <a:solidFill>
                  <a:srgbClr val="40458c"/>
                </a:solidFill>
                <a:latin typeface="Tahoma"/>
              </a:rPr>
              <a:t>cobertura de las pruebas</a:t>
            </a: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, o sea la fracción de las líneas ejecutadas en las prueb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¿Por qué probamos el softwar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-529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asegurar que el sistema es consistente con los requisitos y las necesidades de los usuarios y clie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hacer un primer diagnóstico de la calidad del producto desarroll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ello, hay varios tipos de prueb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mo profesional hazlas a to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n este curso bastan pruebas de sistema y de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odelo de ciclo de vida en 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7002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Usuar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0480" y="2766960"/>
            <a:ext cx="14475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Softw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2240" y="3833640"/>
            <a:ext cx="144792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43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Diseño Detall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89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Unitari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610560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Cod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3833640"/>
            <a:ext cx="144756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Integr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2840" y="276696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839600" y="2080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34" name=""/>
          <p:cNvCxnSpPr>
            <a:stCxn id="225" idx="2"/>
            <a:endCxn id="226" idx="0"/>
          </p:cNvCxnSpPr>
          <p:nvPr/>
        </p:nvCxnSpPr>
        <p:spPr>
          <a:xfrm>
            <a:off x="1192320" y="234000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2"/>
            <a:endCxn id="227" idx="0"/>
          </p:cNvCxnSpPr>
          <p:nvPr/>
        </p:nvCxnSpPr>
        <p:spPr>
          <a:xfrm>
            <a:off x="1953720" y="340668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7" idx="2"/>
            <a:endCxn id="228" idx="0"/>
          </p:cNvCxnSpPr>
          <p:nvPr/>
        </p:nvCxnSpPr>
        <p:spPr>
          <a:xfrm>
            <a:off x="2715840" y="44737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8" idx="2"/>
            <a:endCxn id="230" idx="0"/>
          </p:cNvCxnSpPr>
          <p:nvPr/>
        </p:nvCxnSpPr>
        <p:spPr>
          <a:xfrm>
            <a:off x="3478320" y="5540400"/>
            <a:ext cx="129600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0" idx="0"/>
            <a:endCxn id="229" idx="2"/>
          </p:cNvCxnSpPr>
          <p:nvPr/>
        </p:nvCxnSpPr>
        <p:spPr>
          <a:xfrm flipV="1">
            <a:off x="4773240" y="5540040"/>
            <a:ext cx="122004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0"/>
            <a:endCxn id="231" idx="2"/>
          </p:cNvCxnSpPr>
          <p:nvPr/>
        </p:nvCxnSpPr>
        <p:spPr>
          <a:xfrm flipV="1">
            <a:off x="5992920" y="447336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1" idx="0"/>
            <a:endCxn id="232" idx="2"/>
          </p:cNvCxnSpPr>
          <p:nvPr/>
        </p:nvCxnSpPr>
        <p:spPr>
          <a:xfrm flipV="1">
            <a:off x="6754320" y="34063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7380360" y="1700280"/>
            <a:ext cx="16653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Usuario/Acep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2" idx="0"/>
            <a:endCxn id="241" idx="2"/>
          </p:cNvCxnSpPr>
          <p:nvPr/>
        </p:nvCxnSpPr>
        <p:spPr>
          <a:xfrm flipV="1">
            <a:off x="7516800" y="2339640"/>
            <a:ext cx="6976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3"/>
            <a:endCxn id="241" idx="1"/>
          </p:cNvCxnSpPr>
          <p:nvPr/>
        </p:nvCxnSpPr>
        <p:spPr>
          <a:xfrm>
            <a:off x="1916280" y="2020680"/>
            <a:ext cx="54648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4" name=""/>
          <p:cNvCxnSpPr>
            <a:stCxn id="226" idx="3"/>
            <a:endCxn id="232" idx="1"/>
          </p:cNvCxnSpPr>
          <p:nvPr/>
        </p:nvCxnSpPr>
        <p:spPr>
          <a:xfrm>
            <a:off x="2678040" y="3087360"/>
            <a:ext cx="411552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5" name=""/>
          <p:cNvCxnSpPr>
            <a:stCxn id="227" idx="3"/>
            <a:endCxn id="231" idx="1"/>
          </p:cNvCxnSpPr>
          <p:nvPr/>
        </p:nvCxnSpPr>
        <p:spPr>
          <a:xfrm>
            <a:off x="3439800" y="4154040"/>
            <a:ext cx="259164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6" name=""/>
          <p:cNvCxnSpPr>
            <a:stCxn id="228" idx="3"/>
            <a:endCxn id="229" idx="1"/>
          </p:cNvCxnSpPr>
          <p:nvPr/>
        </p:nvCxnSpPr>
        <p:spPr>
          <a:xfrm>
            <a:off x="4201920" y="5221080"/>
            <a:ext cx="10674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ipo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unitarias o de módulo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unit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integrac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tegrat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sistema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ystem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Usuario/Aceptación (</a:t>
            </a:r>
            <a:r>
              <a:rPr b="0" i="1" lang="es-MX" sz="3200" spc="-1" strike="noStrike">
                <a:solidFill>
                  <a:srgbClr val="40458c"/>
                </a:solidFill>
                <a:latin typeface="Tahoma"/>
              </a:rPr>
              <a:t>qualification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regres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regress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608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Encontrar defectos en un módulo o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Normalmente las pruebas unitarias son hechas por el programador del módu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ara probar una función deb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lamar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ner subfunciones para invo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364000" y="1989000"/>
            <a:ext cx="3657600" cy="2590560"/>
            <a:chOff x="5364000" y="1989000"/>
            <a:chExt cx="3657600" cy="2590560"/>
          </a:xfrm>
        </p:grpSpPr>
        <p:sp>
          <p:nvSpPr>
            <p:cNvPr id="252" name=""/>
            <p:cNvSpPr/>
            <p:nvPr/>
          </p:nvSpPr>
          <p:spPr>
            <a:xfrm>
              <a:off x="6583320" y="1989000"/>
              <a:ext cx="13716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Test Dri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83320" y="3055680"/>
              <a:ext cx="13716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Your func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40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358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472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69120" y="244620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68560" y="3512880"/>
              <a:ext cx="1600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735600" y="351288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9120" y="3512880"/>
              <a:ext cx="144756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508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9120" y="3512880"/>
              <a:ext cx="457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Diseño de 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s pruebas de cada función se especifican junto a la especificación de cada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bemos asegurarnos de incluir prueba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sos habituales y casos extremos de los paráme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as las excep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os los tipos de efectos later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Un mismo caso de prueba puede mostrar una excepción y un efecto late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000" y="1690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Valo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tor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retornad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do Inici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dicion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l estado inicial del sistema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pció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xcepción que se devuelve en este cas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c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fectos lateral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para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este caso o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bien</a:t>
            </a: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Observación    Qué sucedió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ado        No probado/Cumple/No Cum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unciones de un módu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2560" indent="-502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o anterior se apunta a probar cada función por separ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las funciones de un módulo interactúan, debemos probar las interac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Si no interactúan el módulo tiene cero coh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estrategia de prueba de un módulo va junto a su especificación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l límite entre la prueba de un módulo complejo y la prueba de integración es muy fin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módulo complejo es un subsistema que debe integra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06-24T15:23:33Z</dcterms:modified>
  <cp:revision>72</cp:revision>
  <dc:subject/>
  <dc:title>CC51A – Ingeniería de Software</dc:title>
</cp:coreProperties>
</file>