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AEE4-D36C-4BF9-AD6F-B71E3449FBF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238-E781-4ECA-A654-812037D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A1B-EE1A-43FB-99E1-9853A26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DD0-8968-4B40-B0D3-0579EC6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02A-96EC-4AAC-A697-BCD3CF1C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24D6-6A9B-4A13-9B11-F5C2B6A2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861-3408-4C4A-9151-A7483774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7F4-BF6E-480F-BD67-C390CD9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229E-E6FD-4A95-81F2-E6D536E8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5C9-D08E-4E49-9788-43B5B79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A570-E648-403A-9839-840EC62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9458-AF35-4CDA-86EF-046C632F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466-1FD2-4FD1-9CE5-D49A143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6EA-52D5-4FA0-B968-6C6F4AA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0125-A716-4EF1-8659-C3C26A8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4BE3-E258-442B-94F3-1A801E0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B92-8D0E-4ABB-B3B5-BBC3B1F2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C68-EDA4-4DF2-9394-3461927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55B-D80C-4E57-A4AA-6235E97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5D6-9147-4D5A-B737-2A5845D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C86-938D-45B1-A46A-487B385B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574-5A28-4662-BE94-F40C6D6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7AD-2CC2-4DCC-BF75-B234CDA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C65-A71F-47CC-B699-00EC57EF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8F3-A49C-41FE-AF21-29D97D6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653-E5C8-4A43-AE66-A856A589FEC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01C3-C38F-4594-B3DA-B388A8AA66F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ropósito: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el SR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 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Si no interactúan el módulo tiene cero coh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24T15:23:33Z</dcterms:modified>
  <cp:revision>72</cp:revision>
  <dc:subject/>
  <dc:title>CC51A – Ingeniería de Software</dc:title>
</cp:coreProperties>
</file>