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1BC1A-A13A-4144-92B5-58E55283696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ra las pruebas unitarias debemos crear un “ambiente” apropiado para la función que queremos probar. Esto significa tener algo que invoce a la función a probar y tener las funciones invocadas. Tal vez no todo esto existe aún, puesto que está en desarrol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la función invocadora no existe aún, se fabrica una función invocadora llamada en inglés “test driver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algunas de las funciones invocadas no existen, se fabrican funciones simples con la misma interfaz de las que serán invocadas luego. En inglés se llaman “stub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bviamente, los test drivers y los stubs deben estar correctos: hágalas muy si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os sistemas embebidos, a veces esto se complica, porque hay dependencias temporales (uso de semáforos, interrupciones) que dificultan crear un ambiente para probar una fun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la plantilla del documento de diseño de este curso tenemos la especificación funcional  en secciones 2.1 a 2.5, la estrategia de prueba en la sección 2.6, y el diseño detallado en la sección 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8AF-564A-4C41-B3D3-839CB919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833-96D8-4C4F-84F0-DEE20BAF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E3C-7C94-44CA-92AF-3E6574EC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D86E-85A0-46FE-8444-93B15677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40C5-CCA7-491C-BA2A-D39A2510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17A6-9F07-4702-A339-2192807E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B46E-0796-4F5E-AAAE-62518D8B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247D-49FA-475A-9BF6-F28D9A69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E21A-0745-4024-8765-1AE3B2FF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CECA-6872-4E91-8810-ED450106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5DAC-88C0-48DA-B7DE-43D2F16E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32D-700D-4F07-B9B8-0B5A7AD2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746C-C22C-47B6-AFF5-6DEB0290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28E3-5EF1-4AE1-A6C2-88866EC5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5232-E7F0-46CD-8E59-90C2A507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1048-0585-4FB0-8A60-EC34ADA91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E412-A1A0-4C7E-A703-E90A3967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F76-3BD2-47D5-BBEA-B00483FB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C8C-B420-4D7D-BB9C-4C720F8B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426-1B0C-4EBE-9D0F-8897559E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BA0-217B-4443-8AB2-52BFB25C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502-213B-42CD-80B3-721A6A23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59F-F723-4323-B9BB-EB81775D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F424-EBE5-4D05-B61C-5A2754B8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7F9D-27DC-4DBD-815D-6690BE871B9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8965-4573-4350-96EF-CA74AF2176C0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Pruebas de Soft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Herramient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herramientas que generan casos de prueba en forma “inteligente”, de alguna manera eligiendo un número relativamente limitado de casos de prueba (robot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pueden probar los casos (generan código para el test drive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as herramientas computan cobertura de código e incluso cobertura de camin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ara sistemas embebidos de comunicaciones (como radios de dos vías), las herramientas se comunican con un modelo ejecutable de otros sistemas con los que se interactú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1360" indent="-4413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1" i="1" lang="es-ES" sz="2400" spc="-1" strike="noStrike">
                <a:solidFill>
                  <a:srgbClr val="40458c"/>
                </a:solidFill>
                <a:latin typeface="Tahoma"/>
              </a:rPr>
              <a:t>pruebas de integración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on realizadas sobre agrupaciones de componentes/fun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 examinan las interfaces para asegurar que es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mponentes individuales son llamados cuando es necesario y qu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atos que se transmiten entre dichos componentes son los requerid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ropósito: Asegurar que no hay errores de interfaces; encontrar defectos en e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Debemos planificar las pruebas de integr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En el Documento de Arquitectura, o bien en el Plan de Pruebas de Sistem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97480" indent="-27972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Hay que destinar recursos a esto (gente y tiemp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1360" indent="-4413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ípicamente se necesita andamiaje e incluso simuladores al comienzo de la integr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l probar cada módulo individualmente es necesario crear módulos auxiliares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imulen las acciones de los módulos invocados por el módulo que se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oban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simismo se han de crear módulos "conductores" para establecer las pre-condicion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necesarias, llamar al módulo objeto de la prueba y examin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sultados de la prueba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bido a todo esto, a menudo se combinan ambos tipos de prueba: unitarias y d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integración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or ejemplo a través de la prueba llamada “desarrollo incremental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Mix: 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Desarrollo </a:t>
            </a: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cremen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l tipo de prueba incremental consiste en agregar cada módulo 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 al conjunto de componentes existentes y el conjunto resultante s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prueba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Esto reduce la necesidad de crear módulos conductor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permitiendo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además examinar más detalladamente las interface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Cuando las pruebas unitaria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y de integración se realizan separadamente es difícil identificar l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dividuales o módulos que causan resultados incorrectos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o más probable es que los problemas que surjan al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incorporar un nuevo componente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, surjan 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este último o 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de</a:t>
            </a:r>
            <a:r>
              <a:rPr b="0" lang="es-ES" sz="2200" spc="-1" strike="noStrike">
                <a:solidFill>
                  <a:srgbClr val="40458c"/>
                </a:solidFill>
                <a:latin typeface="Tahoma"/>
              </a:rPr>
              <a:t> las interfaces entre él y los otros componentes</a:t>
            </a:r>
            <a:r>
              <a:rPr b="0" lang="es-ES_tradnl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ón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importante determinar la secuencia en que se van a producir e integrar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rriba a abajo (top-down)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primer componente o módulo que se desarrolla y prueba es el que está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rriba en la jerarquí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s módulos de nivel más bajo se sustituyen po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que simulan el resto de la funcionalid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no son necesarios módulos conductor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na ventaja de esta estrategia es que las interfaces entre los módulos so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badas en una fase temprana y con frecuenci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n (I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rategia de abajo a arriba (bottom-up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n este caso se crean primero los componentes de más bajo nivel y se cre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conductores para simular 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s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vocaciones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módulos auxiliares son necesarios en raras ocas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e tipo de enfoque de las pruebas permite un desarrollo más parale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zad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o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l enfoque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l Top-Down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, pero presenta mayores dificultades a la hora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lanificar y de gestion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las prueb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Unitarias y de Integ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strategias de integrac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ó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n (I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strategias combina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A menudo es útil aplicar las estrategias anteriores conjuntamente. Así, s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desarrollarán partes del sistema de forma "top-down", mientras que l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omponentes más críticos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(de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nivel más baj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 se desarrollarán "bottom-up”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n este caso es necesaria una planificación cuidadosa y coordinada de modo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 los componentes individuales se "encuentren" en el centr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opósito: Asegurar que se cumplen los requisitos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ste es un proceso formal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ificado en el Pla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base son los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casos de prueba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definidos en la Especificación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Resultados se registran en el Acta de Pruebas de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3059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u alcance es el sistema completo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. Las pruebas típicas que deben hacerse s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funcion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se han cumplido los requisitos de software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y qu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éste realiza correctamente todas las funciones especific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as en el SR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comunica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termina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i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interfaces entre los componentes del sistema funciona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decuadamente. Esto se refiere tanto 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las comunicaciones entre dispositiv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remotos, las interfaces entre diferentes módu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, interfaces hombre-máquina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1557360"/>
            <a:ext cx="82105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rend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terminar que los tiempos de respuesta están dentro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intervalos establecidos en las especificaciones del sistem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volum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examinar el funcionamiento del sistema cuando está trabajan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 grandes volúmenes de datos, simulando la carga de trabajo esperad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obrecarg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el funcionamiento del sistema en el umbral límite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los recursos, someti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ndol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 a cargas excesiva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disponibilidad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demostrar que el sistema puede recuperarse ante fallas, sin pérdidas indebidas de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 Esto considera el hardware y el softwa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Obje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1356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Conocer los distintos tipos de pruebas a los que debe someterse un sistema de softwar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En esta clase verem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unita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integ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sistem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usu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Pruebas de regres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20400" y="1523880"/>
            <a:ext cx="849924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facilidad de 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a adaptabilidad del sistema a las necesidades de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usuarios, tanto para asegurarse que se acomoda al modo habitual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rabajo de éstos, como para determinar si les facilita su trabaj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comprobar los procedimientos de operación, incluyendo l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dimientos de inicio y fin de trabajo y la facilidad de operación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entor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as interacciones del sistema con otros sistemas dentr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el mismo entorn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Tahoma"/>
              </a:rPr>
              <a:t>Pruebas de segur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Consisten en verificar los mecanismos de control de acceso al sistema para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vitar alteraciones indebidas en los dat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  <a:ea typeface="Times New Roman"/>
              </a:rPr>
              <a:t>Prueba de Usuario/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ropósito: Certificar que los requisitos del cliente se han cumplido satisfactoriamente y por lo tanto se puede iniciar la producción (o la marcha blanc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sta etapa –también llamada pruebas de aceptación–  debe estar a cargo de un equipo independiente del de desarroll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otra gente de la empres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Puede ser el cliente, si hay uno específico, capazde hacer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5840" indent="-28548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Hay empresas que ofrecen este servi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ruebas de Sistema y de Acep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Pruebas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de Acept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on aquellas pruebas que realiza el usuario/cliente con el objeto de comprobar si el sistema es aceptable para é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Estas pruebas son del mismo tipo que las mencionadas anteriormente, pero son determinadas por el usuario, en lugar de serlo por el equipo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n tipo especial de estas pruebas es el de la  ejecución en paralelo con el viejo sistema (legado), para comparar los resultados producidos por ambas ejecu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chequea fundamentalmente: correctitud, robustez, performance y document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de regres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Propósito: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Asegurar que cambios en el software no introducen nuevos defect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Se ejecutan luego de modificar 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nsisten en </a:t>
            </a:r>
            <a:r>
              <a:rPr b="0" i="1" lang="es-MX" sz="2800" spc="-1" strike="noStrike">
                <a:solidFill>
                  <a:srgbClr val="40458c"/>
                </a:solidFill>
                <a:latin typeface="Tahoma"/>
              </a:rPr>
              <a:t>repetir las pruebas</a:t>
            </a: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 que ya se han hecho al sistema en una versión anterior, y comparar el resultado actual con el anteri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spcBef>
                <a:spcPts val="700"/>
              </a:spcBef>
              <a:spcAft>
                <a:spcPts val="1749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Aquí hay un beneficio enorme al tener un ambiente automatizado de prueb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Finalización de las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83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 difícil asegurar que el último error detectado, era el único que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quedaba. Sin embargo, existen métodos para mostrar cuándo está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próximo el final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el tiempo establecido para la misma ha expirado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Terminar la prueba cuando todos los casos de prueba diseñados, se ejecutan sin detectar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rror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Otros métodos más complicados de aplicar pero más efectivo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número total de errores del programa (en base a estadísticas de proyectos anteriores)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l porcentaje de estos errores que pueden encontrarse fácilment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stimación de qué fracción de errores se origina en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iertos 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proceso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(áreas conflictivas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Criterio de Finaliz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unidad: aplicar un método 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Integración: se finaliza cuando se cumplieron los XXX meses programados y se han hallado y corregido XXX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Sistema: se finaliza cuando se cumplieron los YYY meses programados y se han hallado y YYY errores. 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Un criterio adicional lo puede proveer la </a:t>
            </a:r>
            <a:r>
              <a:rPr b="1" lang="es-MX" sz="2300" spc="-1" strike="noStrike">
                <a:solidFill>
                  <a:srgbClr val="40458c"/>
                </a:solidFill>
                <a:latin typeface="Tahoma"/>
              </a:rPr>
              <a:t>cobertura de las pruebas</a:t>
            </a: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, o sea la fracción de las líneas ejecutadas en las pruebas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En los dos últimos casos es importante llegar a comprobar que seguir testeando es improductivo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575"/>
              </a:spcBef>
              <a:buSzPct val="15747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40458c"/>
                </a:solidFill>
                <a:latin typeface="Tahoma"/>
              </a:rPr>
              <a:t>Test de Aceptación: generalmente involucra algunos meses (2-6) dependiendo del nivel de criticidad del sistema.</a:t>
            </a:r>
            <a:endParaRPr b="0" lang="en-US" sz="23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¿Por qué probamos el softwar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9560" indent="-529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asegurar que el sistema es consistente con los requisitos y las necesidades de los usuarios y client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hacer un primer diagnóstico de la calidad del producto desarrollad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9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9560" indent="-529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ara ello, hay varios tipos de prueba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Como profesional hazlas a tod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9000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n este curso bastan pruebas de sistema y de usu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Modelo de ciclo de vida en 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17002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Usuari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30480" y="2766960"/>
            <a:ext cx="14475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Requisitos de Softwa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92240" y="3833640"/>
            <a:ext cx="144792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Arquitect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543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Diseño Detall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68960" y="490068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Unitari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49640" y="610560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Codific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31080" y="3833640"/>
            <a:ext cx="1447560" cy="6400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Integr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92840" y="2766960"/>
            <a:ext cx="144792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Siste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1839600" y="208080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34" name=""/>
          <p:cNvCxnSpPr>
            <a:stCxn id="225" idx="2"/>
            <a:endCxn id="226" idx="0"/>
          </p:cNvCxnSpPr>
          <p:nvPr/>
        </p:nvCxnSpPr>
        <p:spPr>
          <a:xfrm>
            <a:off x="1192320" y="234000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26" idx="2"/>
            <a:endCxn id="227" idx="0"/>
          </p:cNvCxnSpPr>
          <p:nvPr/>
        </p:nvCxnSpPr>
        <p:spPr>
          <a:xfrm>
            <a:off x="1953720" y="340668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27" idx="2"/>
            <a:endCxn id="228" idx="0"/>
          </p:cNvCxnSpPr>
          <p:nvPr/>
        </p:nvCxnSpPr>
        <p:spPr>
          <a:xfrm>
            <a:off x="2715840" y="44737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28" idx="2"/>
            <a:endCxn id="230" idx="0"/>
          </p:cNvCxnSpPr>
          <p:nvPr/>
        </p:nvCxnSpPr>
        <p:spPr>
          <a:xfrm>
            <a:off x="3478320" y="5540400"/>
            <a:ext cx="129600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0" idx="0"/>
            <a:endCxn id="229" idx="2"/>
          </p:cNvCxnSpPr>
          <p:nvPr/>
        </p:nvCxnSpPr>
        <p:spPr>
          <a:xfrm flipV="1">
            <a:off x="4773240" y="5540040"/>
            <a:ext cx="1220040" cy="5659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9" idx="0"/>
            <a:endCxn id="231" idx="2"/>
          </p:cNvCxnSpPr>
          <p:nvPr/>
        </p:nvCxnSpPr>
        <p:spPr>
          <a:xfrm flipV="1">
            <a:off x="5992920" y="4473360"/>
            <a:ext cx="7624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1" idx="0"/>
            <a:endCxn id="232" idx="2"/>
          </p:cNvCxnSpPr>
          <p:nvPr/>
        </p:nvCxnSpPr>
        <p:spPr>
          <a:xfrm flipV="1">
            <a:off x="6754320" y="3406320"/>
            <a:ext cx="76284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7380360" y="1700280"/>
            <a:ext cx="1665360" cy="63972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Arial"/>
              </a:rPr>
              <a:t>Pruebas de Usuario/Acep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2" idx="0"/>
            <a:endCxn id="241" idx="2"/>
          </p:cNvCxnSpPr>
          <p:nvPr/>
        </p:nvCxnSpPr>
        <p:spPr>
          <a:xfrm flipV="1">
            <a:off x="7516800" y="2339640"/>
            <a:ext cx="697680" cy="4276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25" idx="3"/>
            <a:endCxn id="241" idx="1"/>
          </p:cNvCxnSpPr>
          <p:nvPr/>
        </p:nvCxnSpPr>
        <p:spPr>
          <a:xfrm>
            <a:off x="1916280" y="2020680"/>
            <a:ext cx="54648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4" name=""/>
          <p:cNvCxnSpPr>
            <a:stCxn id="226" idx="3"/>
            <a:endCxn id="232" idx="1"/>
          </p:cNvCxnSpPr>
          <p:nvPr/>
        </p:nvCxnSpPr>
        <p:spPr>
          <a:xfrm>
            <a:off x="2678040" y="3087360"/>
            <a:ext cx="411552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5" name=""/>
          <p:cNvCxnSpPr>
            <a:stCxn id="227" idx="3"/>
            <a:endCxn id="231" idx="1"/>
          </p:cNvCxnSpPr>
          <p:nvPr/>
        </p:nvCxnSpPr>
        <p:spPr>
          <a:xfrm>
            <a:off x="3439800" y="4154040"/>
            <a:ext cx="259164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  <p:cxnSp>
        <p:nvCxnSpPr>
          <p:cNvPr id="246" name=""/>
          <p:cNvCxnSpPr>
            <a:stCxn id="228" idx="3"/>
            <a:endCxn id="229" idx="1"/>
          </p:cNvCxnSpPr>
          <p:nvPr/>
        </p:nvCxnSpPr>
        <p:spPr>
          <a:xfrm>
            <a:off x="4201920" y="5221080"/>
            <a:ext cx="1067400" cy="1080"/>
          </a:xfrm>
          <a:prstGeom prst="straightConnector1">
            <a:avLst/>
          </a:prstGeom>
          <a:ln w="28440">
            <a:solidFill>
              <a:srgbClr val="40458c"/>
            </a:solidFill>
            <a:prstDash val="sysDot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Tipos de prueb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unitarias o de módulos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unit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integrac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integrat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sistema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system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Usuario/Aceptación (</a:t>
            </a:r>
            <a:r>
              <a:rPr b="0" i="1" lang="es-MX" sz="3200" spc="-1" strike="noStrike">
                <a:solidFill>
                  <a:srgbClr val="40458c"/>
                </a:solidFill>
                <a:latin typeface="Tahoma"/>
              </a:rPr>
              <a:t>qualification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Pruebas de regresión (</a:t>
            </a: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regression testing</a:t>
            </a: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4608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ropósito: Encontrar defectos en un módulo o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Normalmente las pruebas unitarias son hechas por el programador del módul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ara probar una función deb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lamar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ener subfunciones para invo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364000" y="1989000"/>
            <a:ext cx="3657600" cy="2590560"/>
            <a:chOff x="5364000" y="1989000"/>
            <a:chExt cx="3657600" cy="2590560"/>
          </a:xfrm>
        </p:grpSpPr>
        <p:sp>
          <p:nvSpPr>
            <p:cNvPr id="252" name=""/>
            <p:cNvSpPr/>
            <p:nvPr/>
          </p:nvSpPr>
          <p:spPr>
            <a:xfrm>
              <a:off x="6583320" y="1989000"/>
              <a:ext cx="13716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Test Drive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83320" y="3055680"/>
              <a:ext cx="13716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Your functio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640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35800" y="4122360"/>
              <a:ext cx="685800" cy="457200"/>
            </a:xfrm>
            <a:prstGeom prst="rect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Stu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5472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69120" y="2446200"/>
              <a:ext cx="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668560" y="3512880"/>
              <a:ext cx="1600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6735600" y="3512880"/>
              <a:ext cx="53352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69120" y="3512880"/>
              <a:ext cx="144756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45080" y="4122360"/>
              <a:ext cx="685800" cy="457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69120" y="3512880"/>
              <a:ext cx="4572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Diseño de pruebas unitari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4960" indent="-5349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s pruebas de cada función se especifican junto a la especificación de cada fun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Debemos asegurarnos de incluir pruebas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asos habituales y casos extremos de los paráme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as las excep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00008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Todos los tipos de efectos latera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4960" indent="-5349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Un mismo caso de prueba puede mostrar una excepción y un efecto later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Especificación de un prueba unita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4000" y="169056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Valor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Parámetro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del parámetro 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torn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Valor retornad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stado Inicial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Condicion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d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l estado inicial del sistema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cepció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xcepción que se devuelve en este caso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 o bien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fecto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Efectos laterales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para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 este caso o </a:t>
            </a:r>
            <a:r>
              <a:rPr b="0" i="1" lang="es-MX" sz="2000" spc="-1" strike="noStrike">
                <a:solidFill>
                  <a:srgbClr val="40458c"/>
                </a:solidFill>
                <a:latin typeface="Tahoma"/>
              </a:rPr>
              <a:t>bien</a:t>
            </a: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‘-’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Tahoma"/>
              </a:rPr>
              <a:t>Observación    Qué sucedió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1836720" indent="0">
              <a:spcBef>
                <a:spcPts val="12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ultado        No probado/Cumple/No Cump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Funciones de un módu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2560" indent="-502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o anterior se apunta a probar cada función por separ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i las funciones de un módulo interactúan, debemos probar las interacc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Si no interactúan el módulo tiene cero coh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La estrategia de prueba de un módulo va junto a su especificación fun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2560" indent="-502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El límite entre la prueba de un módulo complejo y la prueba de integración es muy fin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93996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módulo complejo es un subsistema que debe integra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5-06-24T15:23:33Z</dcterms:modified>
  <cp:revision>72</cp:revision>
  <dc:subject/>
  <dc:title>CC51A – Ingeniería de Software</dc:title>
</cp:coreProperties>
</file>