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8182-9A48-48C9-8E82-3EFFC933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39F7-3BEC-403E-A486-82CA6D10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011C-330A-4C07-B037-3E5708B4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1540-05AE-4C18-B534-AD23878B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6D08-B44E-477A-978D-3319E3616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E560-F28C-41EB-9D4A-9D2AD943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1B2F-EE02-4680-8C81-22FDD9C4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8B1B-F285-485D-A0A4-3297C4A3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BBE6-3C14-446D-BDD1-42E94201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18E6-5B7C-46CF-8C7F-FE3874A1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9A99-8343-455E-8FD6-0492AEAF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3DC5-E0DA-45C5-834D-1549585C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E851-0CCC-43D3-ACCB-879991F9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DE4F-1660-4547-A273-2E4B58B4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895B-8923-439D-A9C8-671DE96A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14E8-D8BF-4412-9CDF-D694D1DE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E0F7-F918-428E-816F-D3069D2B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905B-B053-4C15-AAD5-6D1C2263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232E-11D7-4563-A333-1541F6BF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506E-B326-4DB9-8DDE-E7663557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53B1-DCAA-4C3D-B628-E91A1514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F7E4-9D85-4720-9F6D-FF8E178D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3B6F-9E1B-44BC-8E89-B9C53A52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5E1B-E05A-4E99-8F47-4DC06D7C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8276-42D0-41C8-AD90-341EC0BC460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BFBA-67C9-45E5-B3DA-D0D11746312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sobre el Capítulo 4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es la función principal del SQA Group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herramientas usa el SQA Group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ventajas/desventajas trae consigo este grup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significa el mejoramiento de procesos? y ¿Para que sirv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es son los 3 factores críticos a tener en cuenta, para realizar este mejoramien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gano/pierdo implementando un sistema de mejoramiento continuo en mi empresa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es CMM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significa que mi empresa haya certificado CMM o ISO9000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necesario que todas las empresas  caminen hacia una certificación? ¿Por qué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4:22Z</dcterms:created>
  <dc:creator>Mercedario</dc:creator>
  <dc:description/>
  <dc:language>en-US</dc:language>
  <cp:lastModifiedBy>Sergio F. Ochoa</cp:lastModifiedBy>
  <dcterms:modified xsi:type="dcterms:W3CDTF">2005-06-09T17:24:23Z</dcterms:modified>
  <cp:revision>16</cp:revision>
  <dc:subject/>
  <dc:title>CC51A – Ingeniería de Software</dc:title>
</cp:coreProperties>
</file>