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F14-A15A-4BA0-AD25-3B7CA7A3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472D-24F9-42C2-9F84-4BF018EF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CEE-5F32-4C1B-AECF-0A1545B9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109-5E59-4435-8E95-1D25A538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150B-636B-4C68-B0E3-ECD67472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B194-F5DD-4A0E-92D6-C109C1A0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14E6-8905-4B2F-ACE1-D1B14D49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2CC5-B25C-4DFF-A78C-F072C4C1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0301-EC24-4C9E-BE75-CA9109A7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C919-504D-441E-8825-28ACFA4C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E142-CD19-42C1-8891-0DA1C1C2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E6E-769F-46AE-BF47-2891735A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7A0D-6D66-4B8E-921B-3802D3D4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9359-A2F8-4BC4-8761-8783242F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E753-2A47-4942-8C29-2A840585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3F76-A6F2-47CE-BFB0-604DEC11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DEB3-6188-4864-8545-59A6A4C9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92C-EF23-4CDF-A99B-DBEF1120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F3E-E483-42FF-B368-B55E23AF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E25-7A2C-409C-9CD5-6A2694F4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5ED-B733-481D-8692-56D08734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C26-8E5A-4118-A061-A4693863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80F6-D83C-4157-BC59-E3540459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F8B-3BDB-46FC-A654-4A1ECB21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53FC-08E5-4721-BCC4-8155E2B6E5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11C0-D957-4DB7-AC3E-41AE4E15F0A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unción principal d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herramientas usa 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ventajas/desventajas trae consigo este grup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el mejoramiento de procesos? y ¿Para que sirv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es son los 3 factores críticos a tener en cuenta, para realizar este mejorami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gano/pierdo implementando un sistema de mejoramiento continuo en mi empr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CMM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ignifica que mi empresa haya certificado CMM o ISO9000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que todas las empresas  caminen hacia una certificación? ¿Por qué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6-09T17:24:23Z</dcterms:modified>
  <cp:revision>16</cp:revision>
  <dc:subject/>
  <dc:title>CC51A – Ingeniería de Software</dc:title>
</cp:coreProperties>
</file>