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6EC-C67E-4939-BC02-B8612AAE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CE0-EA8A-4310-AAE0-8556569D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D3E-4CB0-40F6-9B65-F1413AA9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7EB-ACF3-4B41-B63F-A328C1B0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DE90-2412-40DB-8B41-D945F419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9B2B-A449-4FA0-A485-2E30849A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C014-AEBF-4B36-A958-51647BC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DEF7-8222-49D7-AB66-CC23791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CCF5-7243-428B-9782-744E146F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AC80-2195-43F5-8AB0-5F6C743D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F05C-9779-4E26-891B-08DAAAC7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850-622E-46CF-8665-D42AA445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67FE-4052-4A75-BAA4-57A221E7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F91B-64EA-456C-B78C-C04DE8A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45C2-52A5-4580-8C62-F85CE04D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C61C-11E4-484E-82C7-D0F1F540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EBFA-D6F2-45D5-92A4-8DD60435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7C0A-55C3-49FB-B2F1-8700510F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966-5486-4CB4-B974-2509E62B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351-5A11-4D91-83DE-B903DF73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4D9-63F9-4468-A297-C38B8641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08A-6662-42D8-917C-953FC3B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388-1E2C-46BC-A248-BB46810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516-FC5A-4B00-B0C8-E48057D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A297-7C3E-4941-9910-3F41762EC96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76A8-F494-408B-91A9-08D1373F97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unción principal d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herramientas usa 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ventajas/desventajas trae consigo este grup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el mejoramiento de procesos? y ¿Para que sirv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es son los 3 factores críticos a tener en cuenta, para realizar este mejorami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gano/pierdo implementando un sistema de mejoramiento continuo en mi empr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CMM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ignifica que mi empresa haya certificado CMM o ISO9000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que todas las empresas  caminen hacia una certificación? ¿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6-09T17:24:23Z</dcterms:modified>
  <cp:revision>16</cp:revision>
  <dc:subject/>
  <dc:title>CC51A – Ingeniería de Software</dc:title>
</cp:coreProperties>
</file>