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9F0-2F67-450A-AA54-40E2BB86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3AB-63D7-4FD6-BC4F-BC79B3C7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C21-22C0-42F7-807B-F30DA6F7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734-6CAE-4A5A-8227-6B51B286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D8F4-3F86-4BE2-A165-CC42FDFD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B9AD-A1C5-4539-B251-B7176172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76CD-AA75-4B57-B096-7D3480E6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9AC1-D499-4FE1-9D63-A90A0EE9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7DEC-B6B2-47A3-B8DD-47579FB2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FC51-EF55-4AFF-AE81-1078936A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CCC3-6129-465F-B4C8-EA20130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B61-231F-47E5-9559-F3BA3EB0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11F6-AC99-4AA7-890F-9CADCE0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90BD-FFD8-4A6D-A16E-3AA3BEEA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C00A-D02E-44B0-9213-105ACA04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A93D-FB91-4390-BC2E-8D7670F0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1E03-8063-4952-B58E-BE2C0BCC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86B-43F2-4672-BA99-496E475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9C5-D517-4432-A86A-9E17A2DD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F56-A8A1-4433-AA79-FB41CD0D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ACB-750B-46D4-95F0-8B223AB3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755-76B0-4CA5-ACF0-31AFC4E8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4D2-697E-4269-9CBC-2508498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CD9-9CAF-441C-850D-0E3AA0B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591D-8615-454B-95A4-F5DCBE7C7A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3AF-E769-43D8-9A51-097CBC435A7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unción principal d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herramientas usa 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ventajas/desventajas trae consigo este grup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el mejoramiento de procesos? y ¿Para que sirv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es son los 3 factores críticos a tener en cuenta, para realizar este mejorami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gano/pierdo implementando un sistema de mejoramiento continuo en mi empr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CMM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ignifica que mi empresa haya certificado CMM o ISO9000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que todas las empresas  caminen hacia una certificación? ¿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6-09T17:24:23Z</dcterms:modified>
  <cp:revision>16</cp:revision>
  <dc:subject/>
  <dc:title>CC51A – Ingeniería de Software</dc:title>
</cp:coreProperties>
</file>