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B1D-9A9B-4543-A9D3-FE3B6BAF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9C2-6F0F-48DE-B82F-2B30A430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070-04B4-4C05-A5F5-49E5A0CE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2DB-6B70-49B2-BFC2-E0558D5F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AC5F-F182-4284-B5DA-ED5CA861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93CF-2C3E-469D-A8B7-3751BF30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ADC3-921C-443D-8F3A-A5DF24FF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81D8-81EE-4962-A692-B7770D73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3F26-17E3-48B9-861B-555A4AB9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C82D-7C4A-43E7-933C-345A8C37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D5AE-65C7-41EC-8E49-C4C04317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814-EEB1-4A0E-AD28-15B317E7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EA92-A03B-4D4E-B928-A6F1690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1496-DBBD-4D7C-9417-5A2CA066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8134-9784-45A2-BC21-1AE37E9E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EFC3-75B4-4721-BC5D-AFA131A2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7CFA-99B1-4CFD-A889-6DE7C546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921-E2B0-4328-9386-A8835F11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BE0-73E9-4294-945F-2E429410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9A1-E9E2-4EA0-954A-33F57E73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FA1-1DF7-468D-8958-BFD9081A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E47-CBD5-4900-9A64-70FB83A3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E01-6AAD-4BEC-B9DD-52D3635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1F9-8372-4D04-BC38-95DA0260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E82A-5E03-4DE3-BB15-B9072D9DA9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5399-9CC8-4133-8A1F-1A590575D1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Puesta a Punto y Entrega del Producto (Transferenci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uesta en marc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ralelo o reemplazo (ver tiempos, recursos, etapas e hitos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aralel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hago convivir los legados con los nuevos sistem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verifico la correspondencia de datos entre ambos escenario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eemplaz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va a haber incendios… Cómo los pienso apagar? En cuánto tiempo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Qué pasa si el reemplazo no funciona?. Por ejemplo, la BD colapsa durante un peak, por fálta de índic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costo de volver atrás es </a:t>
            </a:r>
            <a:r>
              <a:rPr b="1" i="1" lang="es-ES" sz="2000" spc="-1" strike="noStrike">
                <a:solidFill>
                  <a:srgbClr val="40458c"/>
                </a:solidFill>
                <a:latin typeface="Tahoma"/>
              </a:rPr>
              <a:t>altísim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. La etapa de transferencia no puede salir mal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uego de la etapa de codificación se deben entregar 2 documen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TD (Software Transfer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HD (Project History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n el STD se debería describir todo el proceso de transferenci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a etapa culmina con: la puesta en producción del producto, y entrega del PH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e documento se le entregará al CLIENTE, en papel, y en formato dig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ructura del documento es la sigu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1. Identificación del Proyect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la carátula del informe, compuesta p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pecificación del tipo de informe (Documento Histórico del Proyec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mbre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echa de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Índice General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1523520"/>
            <a:ext cx="8304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3. Grupo de Trabaj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4 Documentos de Análi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1. URD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2. SR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5 Documento de Diseño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 el DD con el formato establec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6 Documento de Pruebas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pruebas diseñadas para verificar el cumplimiento de los requisitos de software y de usuario. Este documento incluye un resumen del estado de cumplimiento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Listado: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Id reg., tipo req., relevancia, nivel de cumplimient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7 Código Fuent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Debe colocarse el código fuente del product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código debe estar “comentariado” como para que pueda ser manteni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8. Indicaciones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1. Proceso de instalación d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2. Proceso de operación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ntrega Final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ía de la ENTREGA FINAL, cada grupo deberá entreg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Profes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odos los archivos del sistema desarrollado en formato dig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Clie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ítems para la reflexió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ieron los cos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y los tiemp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alidad d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satisfacción del cli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ipo de información guardé a cerca de mi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me sirve esa información para futuros desarroll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anto depende mi empresa, del equipo de trabaj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errores más dañinos para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 fue su orige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problemas externos que más afectaron a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omunicación al interior del grup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se puede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de comportó la tecnología emple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necesito nuevas herramienta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estuvo la fase de transferenci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en que se puede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sacarle más provecho al desarrollo realiza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se puede empaquetar el produ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necesi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tapa de Transfer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é Dice el Estándar de la 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ocumento Histórico del Proyecto (PH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trega Fi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rendizaje Post-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erre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ol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cto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formal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Tipos de cierre (normal, formal, negociado, político, ..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fusión del cierre y del futuro (</a:t>
            </a: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requiere la formalización correspondiente</a:t>
            </a:r>
            <a:br>
              <a:rPr sz="2800"/>
            </a:b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aspectos pendientes, importancia y prior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uele haber negociación y realización de ajus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fectos futuros del proyecto (mantención y/o evoluc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 término del proyecto todo ha cambi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particular hay nuevas expectativ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l proyecto se evalúa injusta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alternativas para 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cr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fortal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os proyec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lement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Así nos va a doler menos cuando esto ocur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l cl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 la empresa desarrolladora, es la posibilidad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el “cheque más jugoso”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Quedarme con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resultados tangibles que me ayuden a mejora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 no la documento, el único perjudicado soy y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o es importante para ustedes y para el futur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igración de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pacitación de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uesta en marcha del nuevo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rueba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olección y Reparación de Err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ertificación (marcha blanca, paralel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ierre de la situación anterior (apagar equipo, botar sistema, 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la hora de la ver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también la ocasión más clara para identificar el fracas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os mied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ifu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sistencia a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a transi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ecanismos de “vuelta atrás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onsistencia de los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spasos entre 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uplicidad en el 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mo contraparte, el cliente debe firmar el documento de aceptación del produ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eso se da por finalizada la relación contractual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... pero no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uego de la etapa de transferencia, se debe APRENDER de proceso realiz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igración de da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anificar el trabajo (tiempos, recursos, etapas e hit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 salir mal, pues las consecuencias podrían ser catastrófic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l modelo de datos nuevo se corresponde con el legado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uáles son los procedimientos de migración de da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n qué orden se ejecutan estos procedimien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se valida la consistencia de datos en cada etapa de la migració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Quién está a cargo de cada actividad o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resencial, a Distancia o Mix (ver tiempos, recursos, etapas e hitos)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Presencial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co-localizados 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no son muchos usuari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 distancia (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-learning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son much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tienen margen de tiempo para aprender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distribuidos y n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l Quantum de tiempo diario destinado a capacitación es pequeño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y un 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ix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utorial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basados en courseware o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alle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usando el sistem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va a distribuir el material didáctico?... Courseware, DVD, papel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s son sólo algunas de las preguntas que hay que responder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5-06-09T17:13:09Z</dcterms:modified>
  <cp:revision>83</cp:revision>
  <dc:subject/>
  <dc:title>CC51A – Ingeniería de Software</dc:title>
</cp:coreProperties>
</file>